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933600" cy="939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96216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5B64-7D7E-465E-A244-031CFF6912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031"/>
          <p:cNvSpPr/>
          <p:nvPr/>
        </p:nvSpPr>
        <p:spPr>
          <a:xfrm>
            <a:off x="3962520" y="89154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A4DB-66D9-4FCE-ACD3-4DA8055A8B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079640" y="685800"/>
            <a:ext cx="4775040" cy="35812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495680"/>
            <a:ext cx="51055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A43-A8B6-471A-A914-FFE8B87A3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3A2-9DDF-4978-957D-32339E91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E22C-033F-4DBC-99E0-66F30B3A9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FEA5-DAAA-4622-AD27-0E868284A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6981-D573-4949-8342-8501EA17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6DADD-1369-4F44-BCF5-B1B0016F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3F97-4A65-4703-BFF7-5D559915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C04F-C34D-4652-8974-C7DA58369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2D27-3DE0-4351-93AF-8B25FD317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5E52-07FD-4695-AA13-30910A0C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7EC1-0805-4FEF-B48F-22A6A119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2427-78FB-4D2B-80F3-806428771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177E5-B7DE-48CA-9998-6D038D90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9081-27FA-4AC1-A89A-E616B368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C6EF-5EE2-4979-816F-4DEF6CAA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01C4-2958-4C64-B423-25E20DF62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712E-D179-4DB1-B124-C70467117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E771-9B41-48D3-A3FC-FF716B08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A733-FD3F-4867-A5D4-3AF4FBF4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FEB4-44C5-4E3E-B8C5-44426DF9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DEC-CE74-4BDD-AD6F-74288A24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E560-C3F1-4A43-A9C3-3DB16288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EF0-45BA-4E35-AD8D-0F5E0916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A52-3FB9-4286-84C8-4AD7654A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Rectangle 3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BF5-158D-402D-8506-D8F0F377ACE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1026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Rectangle 1027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Rectangle 1028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029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030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031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032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1033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1034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Rectangle 1035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Rectangle 1036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Rectangle 1037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1038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Rectangle 1039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040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1041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042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1043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1044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1045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1046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Group 1049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4" name="Rectangle 1050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Group 1051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6" name="Rectangle 1052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Rectangle 1053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Rectangle 1054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Rectangle 1055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Rectangle 1056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Rectangle 1057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1058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1059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1060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1061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1062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Group 1063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8" name="Rectangle 1064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065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066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067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068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069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070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071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DDEDD-D421-4407-AC37-E9AA101627E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Основы логик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447920" y="2362320"/>
            <a:ext cx="7238880" cy="396216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Алгебра высказываний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 Narrow"/>
              </a:rPr>
              <a:t>Автор: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Сергеев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Евгений Викторович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МОУ СОШ №4 г. Миньяр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Челябинской области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rgeev73@mail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http://shk4-minyar.ucoz.ru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 и только тогда, когда истинны все входящие в него логические переменны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Кон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-603360">
              <a:lnSpc>
                <a:spcPct val="80000"/>
              </a:lnSpc>
              <a:spcBef>
                <a:spcPts val="10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4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0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603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стинна только функция (4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кон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4678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&amp; B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F(A,B) = A and B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Значение логической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функции определяется </a:t>
            </a:r>
            <a:br>
              <a:rPr sz="2800"/>
            </a:br>
            <a:r>
              <a:rPr b="1" lang="ru-RU" sz="2800" spc="-1" strike="noStrike">
                <a:solidFill>
                  <a:srgbClr val="301800"/>
                </a:solidFill>
                <a:latin typeface="Arial Narrow"/>
              </a:rPr>
              <a:t>по ее таблице истинност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Таблица истинности показывает какие значения принимает логическая функция при всех возможных значениях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кон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Л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сл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ая функция, полученная в результате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дизъюнкции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, истинна тогда, когда истинна хотя бы одна из входящих в него логических переменных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изъюнкция. Определите истинность логической фу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5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10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-591120">
              <a:lnSpc>
                <a:spcPct val="80000"/>
              </a:lnSpc>
              <a:spcBef>
                <a:spcPts val="901"/>
              </a:spcBef>
              <a:buClr>
                <a:srgbClr val="9d9c81"/>
              </a:buClr>
              <a:buSzPct val="80000"/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2 = 4»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«3 </a:t>
            </a:r>
            <a:r>
              <a:rPr b="1" i="1" lang="ru-RU" sz="36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600" spc="-1" strike="noStrike">
                <a:solidFill>
                  <a:srgbClr val="000000"/>
                </a:solidFill>
                <a:latin typeface="Arial Narrow"/>
              </a:rPr>
              <a:t> 3 = 9»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59112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жна только функция (1),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остальные истинны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дизъюнкц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</a:t>
            </a:r>
            <a:r>
              <a:rPr b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B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+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F(A,B) = A or B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Алгебра высказыван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Алгебра высказываний была разработана для того, чтобы определять истинность или ложность составных высказываний, не вникая в их содержание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ЛОЖЬ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1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2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 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i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3 = </a:t>
                      </a:r>
                      <a:r>
                        <a:rPr b="1" i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ИСТИН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дизъюнк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97080" y="1828800"/>
          <a:ext cx="7313400" cy="4343400"/>
        </p:xfrm>
        <a:graphic>
          <a:graphicData uri="http://schemas.openxmlformats.org/drawingml/2006/table">
            <a:tbl>
              <a:tblPr/>
              <a:tblGrid>
                <a:gridCol w="243828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</a:t>
                      </a: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Присоединение частицы «НЕ» к высказыванию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отрица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Логическое отрицание (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инверс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) делает истинное высказывание ложным, а ложное – истинным </a:t>
            </a: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[</a:t>
            </a: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логическая отрицательная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единица, перевертыш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]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нверс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42640" y="182844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Пусть 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A =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=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истинное высказывание, тогд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 Narrow"/>
              </a:rPr>
              <a:t>F(A) =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«2 </a:t>
            </a:r>
            <a:r>
              <a:rPr b="1" i="1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4400" spc="-1" strike="noStrike">
                <a:solidFill>
                  <a:srgbClr val="000000"/>
                </a:solidFill>
                <a:latin typeface="Arial Narrow"/>
              </a:rPr>
              <a:t> 2 ≠ 4»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– </a:t>
            </a:r>
            <a:r>
              <a:rPr b="0" lang="ru-RU" sz="4400" spc="-1" strike="noStrike">
                <a:solidFill>
                  <a:srgbClr val="000000"/>
                </a:solidFill>
                <a:latin typeface="Arial Narrow"/>
              </a:rPr>
              <a:t>ложное высказывание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01800"/>
                </a:solidFill>
                <a:latin typeface="Arial Narrow"/>
              </a:rPr>
              <a:t>Запись инверсии на формальном языке алгебры высказывани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Ā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Narrow"/>
              </a:rPr>
              <a:t>Также может встретиться запись, типа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F(A) = not 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нверс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0480" y="2209680"/>
          <a:ext cx="5641920" cy="2743200"/>
        </p:xfrm>
        <a:graphic>
          <a:graphicData uri="http://schemas.openxmlformats.org/drawingml/2006/table">
            <a:tbl>
              <a:tblPr/>
              <a:tblGrid>
                <a:gridCol w="2820960"/>
                <a:gridCol w="282096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¬</a:t>
                      </a: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А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ы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основных логических функци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8" name="AutoShape 4"/>
          <p:cNvSpPr/>
          <p:nvPr/>
        </p:nvSpPr>
        <p:spPr>
          <a:xfrm>
            <a:off x="4878360" y="1746360"/>
            <a:ext cx="3843360" cy="2783880"/>
          </a:xfrm>
          <a:prstGeom prst="roundRect">
            <a:avLst>
              <a:gd name="adj" fmla="val 7981"/>
            </a:avLst>
          </a:prstGeom>
          <a:blipFill rotWithShape="0">
            <a:blip r:embed="rId1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5410080" y="2344680"/>
            <a:ext cx="827280" cy="2014560"/>
          </a:xfrm>
          <a:prstGeom prst="rect">
            <a:avLst/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6303960" y="2344680"/>
            <a:ext cx="826920" cy="201456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7218360" y="2344680"/>
            <a:ext cx="990720" cy="2014560"/>
          </a:xfrm>
          <a:prstGeom prst="rect">
            <a:avLst/>
          </a:prstGeom>
          <a:blipFill rotWithShape="0">
            <a:blip r:embed="rId4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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8"/>
          <p:cNvSpPr/>
          <p:nvPr/>
        </p:nvSpPr>
        <p:spPr>
          <a:xfrm>
            <a:off x="1066680" y="2455920"/>
            <a:ext cx="3648240" cy="2783880"/>
          </a:xfrm>
          <a:prstGeom prst="roundRect">
            <a:avLst>
              <a:gd name="adj" fmla="val 7981"/>
            </a:avLst>
          </a:prstGeom>
          <a:blipFill rotWithShape="0">
            <a:blip r:embed="rId5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 сло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4876920" y="4721400"/>
            <a:ext cx="3887640" cy="2059560"/>
          </a:xfrm>
          <a:prstGeom prst="roundRect">
            <a:avLst>
              <a:gd name="adj" fmla="val 11338"/>
            </a:avLst>
          </a:prstGeom>
          <a:blipFill rotWithShape="0">
            <a:blip r:embed="rId6">
              <a:alphaModFix amt="61000"/>
            </a:blip>
            <a:srcRect/>
            <a:tile tx="0" ty="0" sx="100000" sy="100000" algn="ctr"/>
          </a:blipFill>
          <a:ln cap="sq" w="12600">
            <a:solidFill>
              <a:srgbClr val="9d9c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Логическое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6095880" y="5319720"/>
            <a:ext cx="827280" cy="1260360"/>
          </a:xfrm>
          <a:prstGeom prst="rect">
            <a:avLst/>
          </a:prstGeom>
          <a:blipFill rotWithShape="0">
            <a:blip r:embed="rId7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1"/>
          <p:cNvSpPr/>
          <p:nvPr/>
        </p:nvSpPr>
        <p:spPr>
          <a:xfrm>
            <a:off x="6999120" y="5319720"/>
            <a:ext cx="827280" cy="1260360"/>
          </a:xfrm>
          <a:prstGeom prst="rect">
            <a:avLst/>
          </a:prstGeom>
          <a:blipFill rotWithShape="0">
            <a:blip r:embed="rId8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Times New Roman"/>
              </a:rPr>
              <a:t>¬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2"/>
          <p:cNvSpPr/>
          <p:nvPr/>
        </p:nvSpPr>
        <p:spPr>
          <a:xfrm>
            <a:off x="1459080" y="3124080"/>
            <a:ext cx="826920" cy="1974960"/>
          </a:xfrm>
          <a:prstGeom prst="rect">
            <a:avLst/>
          </a:prstGeom>
          <a:blipFill rotWithShape="0">
            <a:blip r:embed="rId9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373480" y="3124080"/>
            <a:ext cx="826920" cy="1974960"/>
          </a:xfrm>
          <a:prstGeom prst="rect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287880" y="3124080"/>
            <a:ext cx="979200" cy="1974960"/>
          </a:xfrm>
          <a:prstGeom prst="rect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ополнительные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логические функции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Импликацию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эквивалентность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 можно выразить через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конъюнкцию, дизъюнкцию и отрицание,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поэтому их называют дополнительными логическими функциями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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 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↔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А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≡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В)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¬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1" lang="ru-RU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Объединение двух высказываний, из которых первое является условием, а второе – следствием из него, называется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импликацией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логическим следованием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95280" y="1828800"/>
            <a:ext cx="731376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– простые высказывания, содержащие только одну мысль. 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Обозначаются буквами латинского алфавита: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, B, C…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 Narrow"/>
              </a:rPr>
              <a:t>Логические переменные могут принимать лишь два значения: «ИСТИНА» (1) или «ЛОЖЬ» (0)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Импликац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Импликация ложн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тогда и только тогда, когда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условие истинно,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Arial Narrow"/>
              </a:rPr>
              <a:t>а следствие ложно</a:t>
            </a:r>
            <a:endParaRPr b="0" lang="en-US" sz="4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Пример</a:t>
            </a: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Если выучишь материал, то сдашь зачет</a:t>
            </a:r>
            <a:r>
              <a:rPr b="0" i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Это высказывание ложно только тогда, когд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материал выуче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а </a:t>
            </a: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зачет не сдан</a:t>
            </a:r>
            <a:r>
              <a:rPr b="0" lang="ru-RU" sz="2400" spc="-1" strike="noStrike">
                <a:solidFill>
                  <a:srgbClr val="000000"/>
                </a:solidFill>
                <a:latin typeface="Arial Narrow"/>
              </a:rPr>
              <a:t>, т.к. сдать зачет можно и случайно, например если попался единственный знакомый вопрос или удалось воспользоваться шпаргалкой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импликаци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Эквивалентность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6600"/>
                </a:solidFill>
                <a:latin typeface="Arial Narrow"/>
              </a:rPr>
              <a:t>Эквивалентность</a:t>
            </a: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 – это логическая операция, объединяющая два простых высказывания в одно составное и которое является истинным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тогда и только тогда, когда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 Narrow"/>
              </a:rPr>
              <a:t>оба исходных высказывания одновременно либо истинны, либо ложны.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Таблица истинности </a:t>
            </a:r>
            <a:br>
              <a:rPr sz="4400"/>
            </a:br>
            <a:r>
              <a:rPr b="0" lang="ru-RU" sz="4400" spc="-1" strike="noStrike">
                <a:solidFill>
                  <a:srgbClr val="301800"/>
                </a:solidFill>
                <a:latin typeface="Arial Narrow"/>
              </a:rPr>
              <a:t>для эквивалентност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373040" y="2057400"/>
          <a:ext cx="7313760" cy="4343400"/>
        </p:xfrm>
        <a:graphic>
          <a:graphicData uri="http://schemas.openxmlformats.org/drawingml/2006/table">
            <a:tbl>
              <a:tblPr/>
              <a:tblGrid>
                <a:gridCol w="2438640"/>
                <a:gridCol w="2436840"/>
                <a:gridCol w="2438280"/>
              </a:tblGrid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 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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Перемести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 ≡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301800"/>
                </a:solidFill>
                <a:latin typeface="Arial Narrow"/>
              </a:rPr>
              <a:t>Сочетательный</a:t>
            </a:r>
            <a:endParaRPr b="0" lang="en-US" sz="4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Распределительны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Y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 ≡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Z)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равила де Моргана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X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Идемпотен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X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Поглоще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переменные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Например, два простых высказывания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А = «2 </a:t>
            </a:r>
            <a:r>
              <a:rPr b="1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4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стина 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В = «2 </a:t>
            </a:r>
            <a:r>
              <a:rPr b="1" i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 2 = 5»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ложь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(0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являются логическими переменными А и В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Склеи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(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Y) ≡ Y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Переменная </a:t>
            </a:r>
            <a:br>
              <a:rPr sz="4400"/>
            </a:b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со своей инверсией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≡ 0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01800"/>
                </a:solidFill>
                <a:latin typeface="Arial Narrow"/>
              </a:rPr>
              <a:t>Операция с константами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1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: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0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0, </a:t>
            </a: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37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01800"/>
                </a:solidFill>
                <a:latin typeface="Arial Narrow"/>
              </a:rPr>
              <a:t>Двойного отриц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  <a:p>
            <a:pPr indent="0" algn="ctr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¬(¬</a:t>
            </a:r>
            <a:r>
              <a:rPr b="1" lang="en-US" sz="3700" spc="-1" strike="noStrike">
                <a:solidFill>
                  <a:srgbClr val="000000"/>
                </a:solidFill>
                <a:latin typeface="Arial Narrow"/>
              </a:rPr>
              <a:t>X) ≡ X</a:t>
            </a:r>
            <a:endParaRPr b="0" lang="en-US" sz="37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76320" y="227160"/>
            <a:ext cx="289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01800"/>
                </a:solidFill>
                <a:latin typeface="Times New Roman"/>
              </a:rPr>
              <a:t>Основные законы алгебры высказыван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Порядок действий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ействия в скобках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Эквивалентность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высказывания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обозначаются именами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х переменных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которые могут принимать лишь два значения: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ИСТИНА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1) или «</a:t>
            </a:r>
            <a:r>
              <a:rPr b="1" lang="ru-RU" sz="4000" spc="-1" strike="noStrike">
                <a:solidFill>
                  <a:srgbClr val="336600"/>
                </a:solidFill>
                <a:latin typeface="Arial Narrow"/>
              </a:rPr>
              <a:t>ЛОЖЬ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» (0)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В алгебре высказываний над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ми переменным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(над высказываниями) можно производить определенные </a:t>
            </a:r>
            <a:r>
              <a:rPr b="1" i="1" lang="ru-RU" sz="4000" spc="-1" strike="noStrike">
                <a:solidFill>
                  <a:srgbClr val="336600"/>
                </a:solidFill>
                <a:latin typeface="Arial Narrow"/>
              </a:rPr>
              <a:t>логические операции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, в результате которых получаются новые высказывания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Составные высказывания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94920" y="1828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Высказывания, состоящие из нескольких простых суждений и содержащие в себе более, чем одну простую мысль, называются </a:t>
            </a:r>
            <a:r>
              <a:rPr b="1" i="1" lang="ru-RU" sz="3200" spc="-1" strike="noStrike">
                <a:solidFill>
                  <a:srgbClr val="000000"/>
                </a:solidFill>
                <a:latin typeface="Arial Narrow"/>
              </a:rPr>
              <a:t>логическими функция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Обозначаются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(A,B,C…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Narrow"/>
              </a:rPr>
              <a:t>Также могут принимать значения «ИСТИНА» или «ЛОЖЬ» в зависимости от того, какие значения имеют входящие в их состав логические переменные и от действий над ними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01800"/>
                </a:solidFill>
                <a:latin typeface="Arial Narrow"/>
              </a:rPr>
              <a:t>Логические операции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Конъюнкция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умножение, «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Дизъюнк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ожение, «ИЛИ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нверс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отрицание, «НЕ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Импликация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следование, «Если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, то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975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336600"/>
                </a:solidFill>
                <a:uFillTx/>
                <a:latin typeface="Arial Narrow"/>
              </a:rPr>
              <a:t>Эквивалентность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(логическое равенство, «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А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 тогда и только тогда, когда </a:t>
            </a:r>
            <a:r>
              <a:rPr b="1" i="1" lang="ru-RU" sz="2600" spc="-1" strike="noStrike">
                <a:solidFill>
                  <a:srgbClr val="336600"/>
                </a:solidFill>
                <a:latin typeface="Arial Narrow"/>
              </a:rPr>
              <a:t>В</a:t>
            </a:r>
            <a:r>
              <a:rPr b="0" lang="ru-RU" sz="2600" spc="-1" strike="noStrike">
                <a:solidFill>
                  <a:srgbClr val="000000"/>
                </a:solidFill>
                <a:latin typeface="Arial Narrow"/>
              </a:rPr>
              <a:t>»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295280" y="22860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Объединение двух или нескольких высказываний в одно с помощью союза «И» называется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операцией логического умножения</a:t>
            </a:r>
            <a:r>
              <a:rPr b="1" lang="ru-RU" sz="4400" spc="-1" strike="noStrike">
                <a:solidFill>
                  <a:srgbClr val="000000"/>
                </a:solidFill>
                <a:latin typeface="Arial Narrow"/>
              </a:rPr>
              <a:t>, или </a:t>
            </a:r>
            <a:r>
              <a:rPr b="1" i="1" lang="ru-RU" sz="4400" spc="-1" strike="noStrike">
                <a:solidFill>
                  <a:srgbClr val="336600"/>
                </a:solidFill>
                <a:latin typeface="Arial Narrow"/>
              </a:rPr>
              <a:t>конъюнкцией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ргеев Евгений</cp:lastModifiedBy>
  <dcterms:modified xsi:type="dcterms:W3CDTF">2010-09-29T14:51:14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49</vt:r8>
  </property>
  <property fmtid="{D5CDD505-2E9C-101B-9397-08002B2CF9AE}" pid="3" name="Version">
    <vt:r8>3</vt:r8>
  </property>
</Properties>
</file>