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AE34-C787-4C85-86B5-54A15C4F31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D009-A801-4564-88B7-9B5A53CC07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D1A-71BB-4BE4-A93F-B0768E4E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CB3-FCC4-4D2A-886B-2E32EE6E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1E7-EEB6-4AC5-B82B-BF1CD5AA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AF1-FE99-4BFE-A2E6-F6767C32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A224-E73F-4E82-8A14-B71156D4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1444-99F3-4682-9640-03B4EA72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D2D4-CE92-4C63-A13E-D141571C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AF9D-E039-4C6B-8A0A-E01DD936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77DF-009F-4966-9354-B726DEE0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20F1-1F05-4FFA-969B-0C5AB286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0A0C-89C8-42E4-BAD3-3AEF4BBA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DE7-DA6C-4DDE-B00D-8293C03F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0EA2-1AF1-4430-9240-6A3B3129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11E1-9FFA-43CA-9FFA-120BC906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9747-97AF-4382-BE2C-39BFF3BE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AEAF-13AA-4804-8EFF-3D054811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956C-F179-44B4-87D2-402983B7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66D-4171-467C-BBC1-A2D3B415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047-1CEA-4FFA-8962-82674F0F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6351-9EF2-4EF6-B311-1E22A302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521-3C59-48B0-AA7C-C56D472A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082-7CB7-4A63-9696-5591776E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D05-F6D7-43A3-B7C0-57AD4443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771-2116-4EBC-AE6C-FE8C5A7D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20F2-292A-4600-B5C0-E8CB206B09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26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1027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28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029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030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31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32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33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34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35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036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037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038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039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40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41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42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43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044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45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46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049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1050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1051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1052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1053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1054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1055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1056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57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058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1059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1060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1061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1062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063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1064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065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066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067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068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069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070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071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E1BE-6486-4C45-B216-BDD1B422F8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Алгебра высказывани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 и только тогда, когда истинны все входящие в него логические переменны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Кон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стинна только функция (4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кон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&amp; B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and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Значение логической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функции определяется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по ее таблице истинности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Таблица истинности показывает какие значения принимает логическая функция при всех возможных значениях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Л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сл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, когда истинна хотя бы одна из входящих в него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из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жна только функция (1)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стальные истинны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диз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B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+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or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Алгебра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лгебра высказываний была разработана для того, чтобы определять истинность или ложность составных высказываний, не вникая в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исоединение частицы «НЕ» к высказыванию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отрица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ое отрицание (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) делает истинное высказывание ложным, а ложное – истинным 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гическая отрицательн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единица, перевертыш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нверс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Пусть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A =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=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истинное высказывание, тогд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F(A) =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≠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ложное высказыв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инверс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not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нверс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0480" y="2209680"/>
          <a:ext cx="5641920" cy="274320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¬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ы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основных логических функци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878360" y="1746360"/>
            <a:ext cx="3843360" cy="2783880"/>
          </a:xfrm>
          <a:prstGeom prst="roundRect">
            <a:avLst>
              <a:gd name="adj" fmla="val 7981"/>
            </a:avLst>
          </a:prstGeom>
          <a:blipFill rotWithShape="0">
            <a:blip r:embed="rId1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410080" y="2344680"/>
            <a:ext cx="827280" cy="20145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303960" y="2344680"/>
            <a:ext cx="826920" cy="20145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218360" y="2344680"/>
            <a:ext cx="990720" cy="201456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1066680" y="2455920"/>
            <a:ext cx="3648240" cy="2783880"/>
          </a:xfrm>
          <a:prstGeom prst="roundRect">
            <a:avLst>
              <a:gd name="adj" fmla="val 7981"/>
            </a:avLst>
          </a:prstGeom>
          <a:blipFill rotWithShape="0">
            <a:blip r:embed="rId5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с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876920" y="4721400"/>
            <a:ext cx="3887640" cy="2059560"/>
          </a:xfrm>
          <a:prstGeom prst="roundRect">
            <a:avLst>
              <a:gd name="adj" fmla="val 11338"/>
            </a:avLst>
          </a:prstGeom>
          <a:blipFill rotWithShape="0">
            <a:blip r:embed="rId6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95880" y="5319720"/>
            <a:ext cx="827280" cy="1260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999120" y="5319720"/>
            <a:ext cx="827280" cy="126036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¬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459080" y="3124080"/>
            <a:ext cx="826920" cy="197496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373480" y="3124080"/>
            <a:ext cx="826920" cy="197496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87880" y="3124080"/>
            <a:ext cx="979200" cy="197496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ополнительные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логические функции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пликацию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эквивал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можно выразить через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конъюнкцию, дизъюнкцию и отрицание,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этому их называют дополнительными логическими функциями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↔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Объединение двух высказываний, из которых первое является условием, а второе – следствием из него, называется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импликацией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логическим следованием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– простые высказывания, содержащие только одну мысль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Обозначаются буквами латинского алфавита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, B, C…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могут принимать лишь два значения: «ИСТИНА» (1) или «ЛОЖЬ» (0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Импликация ложн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тогда и только тогда, когд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условие истинно,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а следствие ложно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Если выучишь материал, то сдашь заче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то высказывание ложно только тогда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атериал выуче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зачет не сда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т.к. сдать зачет можно и случайно, например если попался единственный знакомый вопрос или удалось воспользоваться шпаргалко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мплика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Эквивалентнос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 Narrow"/>
              </a:rPr>
              <a:t>Эквивалентность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– это логическая операция, объединяющая два простых высказывания в одно составное и которое является истинны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огда и только тогда, ког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а исходных высказывания одновременно либо истинны, либо ложны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эквивалентност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Перемести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Сочета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Распределительны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равила де Морган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Идемпотен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оглощ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пример, два простых высказыва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 = «2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4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а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 = «2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5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яются логическими переменными А и 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Склеи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Переменная </a:t>
            </a:r>
            <a:br>
              <a:rPr sz="4400"/>
            </a:b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со своей инверсие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0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Операция с константам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0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Двойного отриц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(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рядок действ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ействия в скобка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квивалентнос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высказывани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обозначаются именами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х переменных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которые могут принимать лишь два значения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ИСТИНА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1) или 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ЛОЖЬ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0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над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ми переменным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над высказываниями) можно производить определенные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е операци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в результате которых получаются новые высказывания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остав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я, состоящие из нескольких простых суждений и содержащие в себе более, чем одну простую мысль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логическими функция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означаются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(A,B,C…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гут принимать значения «ИСТИНА» или «ЛОЖЬ» в зависимости от того, какие значения имеют входящие в их состав логические переменные и от действий над ни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опера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умножение, «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ожение, «ИЛ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нверс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отрицание, «НЕ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едование, «Если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, то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равенство, «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тогда и только тогда, когда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умн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1:1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