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6933600" cy="939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move the slide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ftr" idx="8"/>
          </p:nvPr>
        </p:nvSpPr>
        <p:spPr>
          <a:xfrm>
            <a:off x="-36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 type="sldNum" idx="9"/>
          </p:nvPr>
        </p:nvSpPr>
        <p:spPr>
          <a:xfrm>
            <a:off x="396216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2F2BA-2D15-48C9-87B3-BFD849BB138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1031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DFF46-FBCC-4237-934A-568829E3E94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A889-4D9A-4A6A-9BD8-AE4AA064C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7B67-7646-4389-A491-142FBDA3B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6E60-0FCA-48D2-AC52-F8CD86D33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9E77-A49D-44FC-B1AB-83CE84B8F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7D10A-62D4-49B7-A0BD-587D2B919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90864-C349-47CE-BC5B-B4958C570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7D8A1-54A0-4A51-8A9C-A823448B5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24EA3-9642-498D-977C-F88791013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516B8-C6C4-490E-8B56-EDAB3A7A0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CD97E-A741-4227-91D6-E99B8A7A9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81FD2-D2D2-44D8-9A7C-E33310F3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CC0D-34F4-4850-AD0D-70792726E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7DC75-61C2-4ECE-A3EA-3DE8A329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9A2DD-7E61-42F3-A7C4-90817022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C1A25-C0C7-47B8-8B60-5EF61A562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C0B95-6A31-42D2-9A82-E2CF49DBC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154D9-D996-4EA0-9422-961E7C521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1A46-EBAF-415E-BFF1-B224F5613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B160-BFA3-4A21-A1EB-05E70D528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FE4F-4BEE-4951-8AD2-6BC82247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3890-8958-42E0-A68B-886BF7AC8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7E27-8CA1-48BA-BE3A-FF6BDA58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DD40-A3ED-4AB1-8078-42681180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CA07-5EA2-4E73-9D4F-BCE974DB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1" name="Rectangle 3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body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dt" idx="1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5"/>
          <p:cNvSpPr>
            <a:spLocks noGrp="1"/>
          </p:cNvSpPr>
          <p:nvPr>
            <p:ph type="sldNum" idx="3"/>
          </p:nvPr>
        </p:nvSpPr>
        <p:spPr>
          <a:xfrm>
            <a:off x="67053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06839-A6AF-4E5D-9B44-7078B710F67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026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63" name="Rectangle 1027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Rectangle 1028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029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1030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031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032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1033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034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035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1036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1037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1038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1039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Rectangle 1040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Rectangle 1041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1042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1043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1044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1045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1046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Group 1049"/>
          <p:cNvGrpSpPr/>
          <p:nvPr/>
        </p:nvGrpSpPr>
        <p:grpSpPr>
          <a:xfrm>
            <a:off x="0" y="0"/>
            <a:ext cx="3057480" cy="2057400"/>
            <a:chOff x="0" y="0"/>
            <a:chExt cx="3057480" cy="2057400"/>
          </a:xfrm>
        </p:grpSpPr>
        <p:sp>
          <p:nvSpPr>
            <p:cNvPr id="84" name="Rectangle 1050"/>
            <p:cNvSpPr/>
            <p:nvPr/>
          </p:nvSpPr>
          <p:spPr>
            <a:xfrm>
              <a:off x="0" y="0"/>
              <a:ext cx="3048120" cy="2057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Group 1051"/>
            <p:cNvGrpSpPr/>
            <p:nvPr/>
          </p:nvGrpSpPr>
          <p:grpSpPr>
            <a:xfrm>
              <a:off x="1440" y="2009880"/>
              <a:ext cx="3052800" cy="47520"/>
              <a:chOff x="1440" y="2009880"/>
              <a:chExt cx="3052800" cy="47520"/>
            </a:xfrm>
          </p:grpSpPr>
          <p:sp>
            <p:nvSpPr>
              <p:cNvPr id="86" name="Rectangle 1052"/>
              <p:cNvSpPr/>
              <p:nvPr/>
            </p:nvSpPr>
            <p:spPr>
              <a:xfrm>
                <a:off x="1440" y="2009880"/>
                <a:ext cx="3052800" cy="47520"/>
              </a:xfrm>
              <a:prstGeom prst="rect">
                <a:avLst/>
              </a:prstGeom>
              <a:solidFill>
                <a:srgbClr val="b38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Rectangle 1053"/>
              <p:cNvSpPr/>
              <p:nvPr/>
            </p:nvSpPr>
            <p:spPr>
              <a:xfrm>
                <a:off x="936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Rectangle 1054"/>
              <p:cNvSpPr/>
              <p:nvPr/>
            </p:nvSpPr>
            <p:spPr>
              <a:xfrm>
                <a:off x="31608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Rectangle 1055"/>
              <p:cNvSpPr/>
              <p:nvPr/>
            </p:nvSpPr>
            <p:spPr>
              <a:xfrm>
                <a:off x="622440" y="2021040"/>
                <a:ext cx="15372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Rectangle 1056"/>
              <p:cNvSpPr/>
              <p:nvPr/>
            </p:nvSpPr>
            <p:spPr>
              <a:xfrm>
                <a:off x="93024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Rectangle 1057"/>
              <p:cNvSpPr/>
              <p:nvPr/>
            </p:nvSpPr>
            <p:spPr>
              <a:xfrm>
                <a:off x="123660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Rectangle 1058"/>
              <p:cNvSpPr/>
              <p:nvPr/>
            </p:nvSpPr>
            <p:spPr>
              <a:xfrm>
                <a:off x="154296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Rectangle 1059"/>
              <p:cNvSpPr/>
              <p:nvPr/>
            </p:nvSpPr>
            <p:spPr>
              <a:xfrm>
                <a:off x="1849320" y="2021040"/>
                <a:ext cx="1540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Rectangle 1060"/>
              <p:cNvSpPr/>
              <p:nvPr/>
            </p:nvSpPr>
            <p:spPr>
              <a:xfrm>
                <a:off x="215748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Rectangle 1061"/>
              <p:cNvSpPr/>
              <p:nvPr/>
            </p:nvSpPr>
            <p:spPr>
              <a:xfrm>
                <a:off x="246384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1062"/>
              <p:cNvSpPr/>
              <p:nvPr/>
            </p:nvSpPr>
            <p:spPr>
              <a:xfrm>
                <a:off x="277020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Group 1063"/>
            <p:cNvGrpSpPr/>
            <p:nvPr/>
          </p:nvGrpSpPr>
          <p:grpSpPr>
            <a:xfrm>
              <a:off x="3014640" y="0"/>
              <a:ext cx="42840" cy="2055960"/>
              <a:chOff x="3014640" y="0"/>
              <a:chExt cx="42840" cy="2055960"/>
            </a:xfrm>
          </p:grpSpPr>
          <p:sp>
            <p:nvSpPr>
              <p:cNvPr id="98" name="Rectangle 1064"/>
              <p:cNvSpPr/>
              <p:nvPr/>
            </p:nvSpPr>
            <p:spPr>
              <a:xfrm>
                <a:off x="3014640" y="0"/>
                <a:ext cx="42840" cy="2055960"/>
              </a:xfrm>
              <a:prstGeom prst="rect">
                <a:avLst/>
              </a:prstGeom>
              <a:solidFill>
                <a:srgbClr val="b38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1065"/>
              <p:cNvSpPr/>
              <p:nvPr/>
            </p:nvSpPr>
            <p:spPr>
              <a:xfrm>
                <a:off x="3016080" y="189720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Rectangle 1066"/>
              <p:cNvSpPr/>
              <p:nvPr/>
            </p:nvSpPr>
            <p:spPr>
              <a:xfrm>
                <a:off x="3016080" y="159084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Rectangle 1067"/>
              <p:cNvSpPr/>
              <p:nvPr/>
            </p:nvSpPr>
            <p:spPr>
              <a:xfrm>
                <a:off x="3016080" y="128412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Rectangle 1068"/>
              <p:cNvSpPr/>
              <p:nvPr/>
            </p:nvSpPr>
            <p:spPr>
              <a:xfrm>
                <a:off x="3016080" y="97776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Rectangle 1069"/>
              <p:cNvSpPr/>
              <p:nvPr/>
            </p:nvSpPr>
            <p:spPr>
              <a:xfrm>
                <a:off x="3016080" y="67140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Rectangle 1070"/>
              <p:cNvSpPr/>
              <p:nvPr/>
            </p:nvSpPr>
            <p:spPr>
              <a:xfrm>
                <a:off x="3016080" y="36504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Rectangle 1071"/>
              <p:cNvSpPr/>
              <p:nvPr/>
            </p:nvSpPr>
            <p:spPr>
              <a:xfrm>
                <a:off x="3016080" y="5868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200400" y="640080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D4750-D575-43FB-A3D6-B8212165123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Основы логики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457200" y="38088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447920" y="2362320"/>
            <a:ext cx="7238880" cy="3962160"/>
          </a:xfrm>
          <a:prstGeom prst="rect">
            <a:avLst/>
          </a:prstGeom>
          <a:solidFill>
            <a:srgbClr val="9d9c81"/>
          </a:solidFill>
          <a:ln cap="sq" w="12600">
            <a:solidFill>
              <a:srgbClr val="000000"/>
            </a:solidFill>
            <a:miter/>
          </a:ln>
          <a:effectLst>
            <a:outerShdw dist="197537" dir="2700000" blurRad="0" rotWithShape="0">
              <a:srgbClr val="614020"/>
            </a:outerShdw>
          </a:effectLst>
        </p:spPr>
        <p:txBody>
          <a:bodyPr lIns="92160" rIns="92160" tIns="46080" bIns="4608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Алгебра высказываний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 Narrow"/>
              </a:rPr>
              <a:t>Автор: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Сергеев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Евгений Викторович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МОУ СОШ №4 г. Миньяра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Челябинской области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rgeev73@mail.ru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http://shk4-minyar.ucoz.ru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Логическая функция, полученная в результате </a:t>
            </a:r>
            <a:r>
              <a:rPr b="1" i="1" lang="ru-RU" sz="4400" spc="-1" strike="noStrike">
                <a:solidFill>
                  <a:srgbClr val="336600"/>
                </a:solidFill>
                <a:latin typeface="Arial Narrow"/>
              </a:rPr>
              <a:t>конъюнкции</a:t>
            </a:r>
            <a:r>
              <a:rPr b="1" i="1" lang="ru-RU" sz="4400" spc="-1" strike="noStrike">
                <a:solidFill>
                  <a:srgbClr val="000000"/>
                </a:solidFill>
                <a:latin typeface="Arial Narrow"/>
              </a:rPr>
              <a:t>, истинна тогда и только тогда, когда истинны все входящие в него логические переменные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Конъюнкция. Определите истинность логической функци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42640" y="182844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-603360">
              <a:lnSpc>
                <a:spcPct val="80000"/>
              </a:lnSpc>
              <a:spcBef>
                <a:spcPts val="1001"/>
              </a:spcBef>
              <a:buClr>
                <a:srgbClr val="9d9c81"/>
              </a:buClr>
              <a:buSzPct val="8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2 = 5» 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«3 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3 = 10»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-603360">
              <a:lnSpc>
                <a:spcPct val="80000"/>
              </a:lnSpc>
              <a:spcBef>
                <a:spcPts val="1001"/>
              </a:spcBef>
              <a:buClr>
                <a:srgbClr val="9d9c81"/>
              </a:buClr>
              <a:buSzPct val="8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2 = 5» 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«3 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3 = 9»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-603360">
              <a:lnSpc>
                <a:spcPct val="80000"/>
              </a:lnSpc>
              <a:spcBef>
                <a:spcPts val="1001"/>
              </a:spcBef>
              <a:buClr>
                <a:srgbClr val="9d9c81"/>
              </a:buClr>
              <a:buSzPct val="8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2 = 4» 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«3 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3 = 10»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-603360">
              <a:lnSpc>
                <a:spcPct val="80000"/>
              </a:lnSpc>
              <a:spcBef>
                <a:spcPts val="1001"/>
              </a:spcBef>
              <a:buClr>
                <a:srgbClr val="9d9c81"/>
              </a:buClr>
              <a:buSzPct val="8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2 = 4» 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«3 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3 = 9»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Истинна только функция (4)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01800"/>
                </a:solidFill>
                <a:latin typeface="Arial Narrow"/>
              </a:rPr>
              <a:t>Запись конъюнкции на формальном языке алгебры высказываний</a:t>
            </a:r>
            <a:endParaRPr b="0" lang="en-US" sz="40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95280" y="1828800"/>
            <a:ext cx="74678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F(A,B) = A &amp; B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или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F(A,B) = A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 B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Также может встретиться запись, типа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F(A,B) = A </a:t>
            </a: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 B</a:t>
            </a: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или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F(A,B) = A and B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Arial Narrow"/>
              </a:rPr>
              <a:t>Значение логической </a:t>
            </a:r>
            <a:br>
              <a:rPr sz="2800"/>
            </a:br>
            <a:r>
              <a:rPr b="1" lang="ru-RU" sz="2800" spc="-1" strike="noStrike">
                <a:solidFill>
                  <a:srgbClr val="301800"/>
                </a:solidFill>
                <a:latin typeface="Arial Narrow"/>
              </a:rPr>
              <a:t>функции определяется </a:t>
            </a:r>
            <a:br>
              <a:rPr sz="2800"/>
            </a:br>
            <a:r>
              <a:rPr b="1" lang="ru-RU" sz="2800" spc="-1" strike="noStrike">
                <a:solidFill>
                  <a:srgbClr val="301800"/>
                </a:solidFill>
                <a:latin typeface="Arial Narrow"/>
              </a:rPr>
              <a:t>по ее таблице истинности</a:t>
            </a:r>
            <a:endParaRPr b="0" lang="en-US" sz="2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Таблица истинности показывает какие значения принимает логическая функция при всех возможных значениях логических переменных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Таблица истинности </a:t>
            </a:r>
            <a:br>
              <a:rPr sz="4400"/>
            </a:b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для конъюнкци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297080" y="1828800"/>
          <a:ext cx="7313400" cy="4343400"/>
        </p:xfrm>
        <a:graphic>
          <a:graphicData uri="http://schemas.openxmlformats.org/drawingml/2006/table">
            <a:tbl>
              <a:tblPr/>
              <a:tblGrid>
                <a:gridCol w="2438280"/>
                <a:gridCol w="2436840"/>
                <a:gridCol w="243828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 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B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2 = 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3 = 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ЛОЖЬ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2 = 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3 = </a:t>
                      </a: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ЛОЖЬ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2 = </a:t>
                      </a: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3 = 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ЛОЖЬ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2 = </a:t>
                      </a: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3 = </a:t>
                      </a: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ИСТИН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Таблица истинности </a:t>
            </a:r>
            <a:br>
              <a:rPr sz="4400"/>
            </a:b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для конъюнкци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297080" y="1828800"/>
          <a:ext cx="7313400" cy="4343400"/>
        </p:xfrm>
        <a:graphic>
          <a:graphicData uri="http://schemas.openxmlformats.org/drawingml/2006/table">
            <a:tbl>
              <a:tblPr/>
              <a:tblGrid>
                <a:gridCol w="2438280"/>
                <a:gridCol w="2436840"/>
                <a:gridCol w="243828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 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B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Объединение двух или нескольких высказываний в одно с помощью союза «ИЛИ» называется </a:t>
            </a:r>
            <a:r>
              <a:rPr b="1" i="1" lang="ru-RU" sz="4400" spc="-1" strike="noStrike">
                <a:solidFill>
                  <a:srgbClr val="336600"/>
                </a:solidFill>
                <a:latin typeface="Arial Narrow"/>
              </a:rPr>
              <a:t>операцией логического сложения</a:t>
            </a: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, или </a:t>
            </a:r>
            <a:r>
              <a:rPr b="1" i="1" lang="ru-RU" sz="4400" spc="-1" strike="noStrike">
                <a:solidFill>
                  <a:srgbClr val="336600"/>
                </a:solidFill>
                <a:latin typeface="Arial Narrow"/>
              </a:rPr>
              <a:t>дизъюнкцией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Логическая функция, полученная в результате </a:t>
            </a:r>
            <a:r>
              <a:rPr b="1" i="1" lang="ru-RU" sz="4400" spc="-1" strike="noStrike">
                <a:solidFill>
                  <a:srgbClr val="336600"/>
                </a:solidFill>
                <a:latin typeface="Arial Narrow"/>
              </a:rPr>
              <a:t>дизъюнкции</a:t>
            </a:r>
            <a:r>
              <a:rPr b="1" i="1" lang="ru-RU" sz="4400" spc="-1" strike="noStrike">
                <a:solidFill>
                  <a:srgbClr val="000000"/>
                </a:solidFill>
                <a:latin typeface="Arial Narrow"/>
              </a:rPr>
              <a:t>, истинна тогда, когда истинна хотя бы одна из входящих в него логических переменных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Дизъюнкция. Определите истинность логической функци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82844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591120" indent="-591120">
              <a:lnSpc>
                <a:spcPct val="80000"/>
              </a:lnSpc>
              <a:spcBef>
                <a:spcPts val="901"/>
              </a:spcBef>
              <a:buClr>
                <a:srgbClr val="9d9c81"/>
              </a:buClr>
              <a:buSzPct val="8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2 = 5» 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ИЛИ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«3 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3 = 10»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591120" indent="-591120">
              <a:lnSpc>
                <a:spcPct val="80000"/>
              </a:lnSpc>
              <a:spcBef>
                <a:spcPts val="901"/>
              </a:spcBef>
              <a:buClr>
                <a:srgbClr val="9d9c81"/>
              </a:buClr>
              <a:buSzPct val="8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2 = 5» 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ИЛИ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«3 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3 = 9»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591120" indent="-591120">
              <a:lnSpc>
                <a:spcPct val="80000"/>
              </a:lnSpc>
              <a:spcBef>
                <a:spcPts val="901"/>
              </a:spcBef>
              <a:buClr>
                <a:srgbClr val="9d9c81"/>
              </a:buClr>
              <a:buSzPct val="8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2 = 4» 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ИЛИ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«3 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3 = 10»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591120" indent="-591120">
              <a:lnSpc>
                <a:spcPct val="80000"/>
              </a:lnSpc>
              <a:spcBef>
                <a:spcPts val="901"/>
              </a:spcBef>
              <a:buClr>
                <a:srgbClr val="9d9c81"/>
              </a:buClr>
              <a:buSzPct val="8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2 = 4» 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ИЛИ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«3 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3 = 9»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591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59112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Ложна только функция (1),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остальные истинны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01800"/>
                </a:solidFill>
                <a:latin typeface="Arial Narrow"/>
              </a:rPr>
              <a:t>Запись дизъюнкции на формальном языке алгебры высказываний</a:t>
            </a:r>
            <a:endParaRPr b="0" lang="en-US" sz="40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F(A,B) = A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 B 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Также может встретиться запись, типа: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F(A,B) = A + B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или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F(A,B) = A or B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Алгебра высказываний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Алгебра высказываний была разработана для того, чтобы определять истинность или ложность составных высказываний, не вникая в их содержание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Таблица истинности </a:t>
            </a:r>
            <a:br>
              <a:rPr sz="4400"/>
            </a:b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для дизъюнкци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297080" y="1828800"/>
          <a:ext cx="7313400" cy="4343400"/>
        </p:xfrm>
        <a:graphic>
          <a:graphicData uri="http://schemas.openxmlformats.org/drawingml/2006/table">
            <a:tbl>
              <a:tblPr/>
              <a:tblGrid>
                <a:gridCol w="2438280"/>
                <a:gridCol w="2436840"/>
                <a:gridCol w="243828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 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B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2 = 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3 = 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ЛОЖЬ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2 = 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3 = </a:t>
                      </a: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ИСТИН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2 = </a:t>
                      </a: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3 = 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ИСТИН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2 = </a:t>
                      </a: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3 = </a:t>
                      </a: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ИСТИН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Таблица истинности </a:t>
            </a:r>
            <a:br>
              <a:rPr sz="4400"/>
            </a:b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для дизъюнкци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297080" y="1828800"/>
          <a:ext cx="7313400" cy="4343400"/>
        </p:xfrm>
        <a:graphic>
          <a:graphicData uri="http://schemas.openxmlformats.org/drawingml/2006/table">
            <a:tbl>
              <a:tblPr/>
              <a:tblGrid>
                <a:gridCol w="2438280"/>
                <a:gridCol w="2436840"/>
                <a:gridCol w="243828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 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B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Присоединение частицы «НЕ» к высказыванию называется </a:t>
            </a:r>
            <a:r>
              <a:rPr b="1" i="1" lang="ru-RU" sz="4400" spc="-1" strike="noStrike">
                <a:solidFill>
                  <a:srgbClr val="336600"/>
                </a:solidFill>
                <a:latin typeface="Arial Narrow"/>
              </a:rPr>
              <a:t>операцией логического отрицания</a:t>
            </a: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, или </a:t>
            </a:r>
            <a:r>
              <a:rPr b="1" i="1" lang="ru-RU" sz="4400" spc="-1" strike="noStrike">
                <a:solidFill>
                  <a:srgbClr val="336600"/>
                </a:solidFill>
                <a:latin typeface="Arial Narrow"/>
              </a:rPr>
              <a:t>инверсией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Логическое отрицание (</a:t>
            </a:r>
            <a:r>
              <a:rPr b="1" i="1" lang="ru-RU" sz="4400" spc="-1" strike="noStrike">
                <a:solidFill>
                  <a:srgbClr val="336600"/>
                </a:solidFill>
                <a:latin typeface="Arial Narrow"/>
              </a:rPr>
              <a:t>инверсия</a:t>
            </a: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) делает истинное высказывание ложным, а ложное – истинным 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логическая отрицательная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единица, перевертыш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Инверсия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42640" y="182844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Narrow"/>
              </a:rPr>
              <a:t>Пусть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 Narrow"/>
              </a:rPr>
              <a:t>A = </a:t>
            </a:r>
            <a:r>
              <a:rPr b="1" i="1" lang="ru-RU" sz="44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400" spc="-1" strike="noStrike">
                <a:solidFill>
                  <a:srgbClr val="000000"/>
                </a:solidFill>
                <a:latin typeface="Arial Narrow"/>
              </a:rPr>
              <a:t> 2 = 4»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Arial Narrow"/>
              </a:rPr>
              <a:t>истинное высказывание, тогда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 Narrow"/>
              </a:rPr>
              <a:t>F(A) =</a:t>
            </a: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400" spc="-1" strike="noStrike">
                <a:solidFill>
                  <a:srgbClr val="000000"/>
                </a:solidFill>
                <a:latin typeface="Arial Narrow"/>
              </a:rPr>
              <a:t> 2 ≠ 4»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Arial Narrow"/>
              </a:rPr>
              <a:t>ложное высказывание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01800"/>
                </a:solidFill>
                <a:latin typeface="Arial Narrow"/>
              </a:rPr>
              <a:t>Запись инверсии на формальном языке алгебры высказываний</a:t>
            </a:r>
            <a:endParaRPr b="0" lang="en-US" sz="40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F(A) = </a:t>
            </a: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или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F(A) = Ā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Также может встретиться запись, типа: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F(A) = not </a:t>
            </a: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Таблица истинности </a:t>
            </a:r>
            <a:br>
              <a:rPr sz="4400"/>
            </a:b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для инверси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2130480" y="2209680"/>
          <a:ext cx="5641920" cy="2743200"/>
        </p:xfrm>
        <a:graphic>
          <a:graphicData uri="http://schemas.openxmlformats.org/drawingml/2006/table">
            <a:tbl>
              <a:tblPr/>
              <a:tblGrid>
                <a:gridCol w="2820960"/>
                <a:gridCol w="282096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¬</a:t>
                      </a: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Таблицы истинности </a:t>
            </a:r>
            <a:br>
              <a:rPr sz="4400"/>
            </a:b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основных логических функций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08" name="AutoShape 4"/>
          <p:cNvSpPr/>
          <p:nvPr/>
        </p:nvSpPr>
        <p:spPr>
          <a:xfrm>
            <a:off x="4878360" y="1746360"/>
            <a:ext cx="3843360" cy="2783880"/>
          </a:xfrm>
          <a:prstGeom prst="roundRect">
            <a:avLst>
              <a:gd name="adj" fmla="val 7981"/>
            </a:avLst>
          </a:prstGeom>
          <a:blipFill rotWithShape="0">
            <a:blip r:embed="rId1">
              <a:alphaModFix amt="61000"/>
            </a:blip>
            <a:srcRect/>
            <a:tile tx="0" ty="0" sx="100000" sy="100000" algn="ctr"/>
          </a:blipFill>
          <a:ln cap="sq" w="12600">
            <a:solidFill>
              <a:srgbClr val="9d9c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Логическое умнож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5410080" y="2344680"/>
            <a:ext cx="827280" cy="201456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6303960" y="2344680"/>
            <a:ext cx="826920" cy="201456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7218360" y="2344680"/>
            <a:ext cx="990720" cy="2014560"/>
          </a:xfrm>
          <a:prstGeom prst="rect">
            <a:avLst/>
          </a:prstGeom>
          <a:blipFill rotWithShape="0">
            <a:blip r:embed="rId4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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AutoShape 8"/>
          <p:cNvSpPr/>
          <p:nvPr/>
        </p:nvSpPr>
        <p:spPr>
          <a:xfrm>
            <a:off x="1066680" y="2455920"/>
            <a:ext cx="3648240" cy="2783880"/>
          </a:xfrm>
          <a:prstGeom prst="roundRect">
            <a:avLst>
              <a:gd name="adj" fmla="val 7981"/>
            </a:avLst>
          </a:prstGeom>
          <a:blipFill rotWithShape="0">
            <a:blip r:embed="rId5">
              <a:alphaModFix amt="61000"/>
            </a:blip>
            <a:srcRect/>
            <a:tile tx="0" ty="0" sx="100000" sy="100000" algn="ctr"/>
          </a:blipFill>
          <a:ln cap="sq" w="12600">
            <a:solidFill>
              <a:srgbClr val="9d9c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Логическое слож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utoShape 9"/>
          <p:cNvSpPr/>
          <p:nvPr/>
        </p:nvSpPr>
        <p:spPr>
          <a:xfrm>
            <a:off x="4876920" y="4721400"/>
            <a:ext cx="3887640" cy="2059560"/>
          </a:xfrm>
          <a:prstGeom prst="roundRect">
            <a:avLst>
              <a:gd name="adj" fmla="val 11338"/>
            </a:avLst>
          </a:prstGeom>
          <a:blipFill rotWithShape="0">
            <a:blip r:embed="rId6">
              <a:alphaModFix amt="61000"/>
            </a:blip>
            <a:srcRect/>
            <a:tile tx="0" ty="0" sx="100000" sy="100000" algn="ctr"/>
          </a:blipFill>
          <a:ln cap="sq" w="12600">
            <a:solidFill>
              <a:srgbClr val="9d9c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Логическое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отриц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6095880" y="5319720"/>
            <a:ext cx="827280" cy="1260360"/>
          </a:xfrm>
          <a:prstGeom prst="rect">
            <a:avLst/>
          </a:prstGeom>
          <a:blipFill rotWithShape="0">
            <a:blip r:embed="rId7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1"/>
          <p:cNvSpPr/>
          <p:nvPr/>
        </p:nvSpPr>
        <p:spPr>
          <a:xfrm>
            <a:off x="6999120" y="5319720"/>
            <a:ext cx="827280" cy="1260360"/>
          </a:xfrm>
          <a:prstGeom prst="rect">
            <a:avLst/>
          </a:prstGeom>
          <a:blipFill rotWithShape="0">
            <a:blip r:embed="rId8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¬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2"/>
          <p:cNvSpPr/>
          <p:nvPr/>
        </p:nvSpPr>
        <p:spPr>
          <a:xfrm>
            <a:off x="1459080" y="3124080"/>
            <a:ext cx="826920" cy="1974960"/>
          </a:xfrm>
          <a:prstGeom prst="rect">
            <a:avLst/>
          </a:prstGeom>
          <a:blipFill rotWithShape="0">
            <a:blip r:embed="rId9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3"/>
          <p:cNvSpPr/>
          <p:nvPr/>
        </p:nvSpPr>
        <p:spPr>
          <a:xfrm>
            <a:off x="2373480" y="3124080"/>
            <a:ext cx="826920" cy="1974960"/>
          </a:xfrm>
          <a:prstGeom prst="rect">
            <a:avLst/>
          </a:prstGeom>
          <a:blipFill rotWithShape="0">
            <a:blip r:embed="rId10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4"/>
          <p:cNvSpPr/>
          <p:nvPr/>
        </p:nvSpPr>
        <p:spPr>
          <a:xfrm>
            <a:off x="3287880" y="3124080"/>
            <a:ext cx="979200" cy="1974960"/>
          </a:xfrm>
          <a:prstGeom prst="rect">
            <a:avLst/>
          </a:prstGeom>
          <a:blipFill rotWithShape="0">
            <a:blip r:embed="rId1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Дополнительные </a:t>
            </a:r>
            <a:br>
              <a:rPr sz="4400"/>
            </a:b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логические функции</a:t>
            </a:r>
            <a:r>
              <a:rPr b="0" lang="en-US" sz="4400" spc="-1" strike="noStrike">
                <a:solidFill>
                  <a:srgbClr val="3018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Импликацию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эквивалентность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можно выразить через </a:t>
            </a: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конъюнкцию, дизъюнкцию и отрицание,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поэтому их называют дополнительными логическими функциями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6600"/>
                </a:solidFill>
                <a:uFillTx/>
                <a:latin typeface="Arial Narrow"/>
              </a:rPr>
              <a:t>Импликация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→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или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или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 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6600"/>
                </a:solidFill>
                <a:uFillTx/>
                <a:latin typeface="Arial Narrow"/>
              </a:rPr>
              <a:t>Эквивалентность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↔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)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A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или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)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A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или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≡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)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A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Импликация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Объединение двух высказываний, из которых первое является условием, а второе – следствием из него, называется </a:t>
            </a:r>
            <a:r>
              <a:rPr b="1" i="1" lang="ru-RU" sz="4000" spc="-1" strike="noStrike">
                <a:solidFill>
                  <a:srgbClr val="336600"/>
                </a:solidFill>
                <a:latin typeface="Arial Narrow"/>
              </a:rPr>
              <a:t>импликацией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 (логическим следованием)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Логические переменные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95280" y="1828800"/>
            <a:ext cx="73137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Логические переменные – простые высказывания, содержащие только одну мысль. 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Обозначаются буквами латинского алфавита: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A, B, C…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Логические переменные могут принимать лишь два значения: «ИСТИНА» (1) или «ЛОЖЬ» (0)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Импликация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 Narrow"/>
              </a:rPr>
              <a:t>Импликация ложна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 Narrow"/>
              </a:rPr>
              <a:t>тогда и только тогда, когда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 Narrow"/>
              </a:rPr>
              <a:t>условие истинно,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 Narrow"/>
              </a:rPr>
              <a:t>а следствие ложно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Пример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Если выучишь материал, то сдашь зачет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Это высказывание ложно только тогда, когда </a:t>
            </a: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материал выучен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, а </a:t>
            </a: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зачет не сдан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, т.к. сдать зачет можно и случайно, например если попался единственный знакомый вопрос или удалось воспользоваться шпаргалкой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Таблица истинности </a:t>
            </a:r>
            <a:br>
              <a:rPr sz="4400"/>
            </a:b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для импликаци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373040" y="2057400"/>
          <a:ext cx="7313760" cy="4343400"/>
        </p:xfrm>
        <a:graphic>
          <a:graphicData uri="http://schemas.openxmlformats.org/drawingml/2006/table">
            <a:tbl>
              <a:tblPr/>
              <a:tblGrid>
                <a:gridCol w="2438640"/>
                <a:gridCol w="2436840"/>
                <a:gridCol w="243828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 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Эквивалентность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00"/>
                </a:solidFill>
                <a:latin typeface="Arial Narrow"/>
              </a:rPr>
              <a:t>Эквивалентность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 – это логическая операция, объединяющая два простых высказывания в одно составное и которое является истинным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тогда и только тогда, когд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оба исходных высказывания одновременно либо истинны, либо ложны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Таблица истинности </a:t>
            </a:r>
            <a:br>
              <a:rPr sz="4400"/>
            </a:b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для эквивалентност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373040" y="2057400"/>
          <a:ext cx="7313760" cy="4343400"/>
        </p:xfrm>
        <a:graphic>
          <a:graphicData uri="http://schemas.openxmlformats.org/drawingml/2006/table">
            <a:tbl>
              <a:tblPr/>
              <a:tblGrid>
                <a:gridCol w="2438640"/>
                <a:gridCol w="2436840"/>
                <a:gridCol w="243828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 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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301800"/>
                </a:solidFill>
                <a:latin typeface="Arial Narrow"/>
              </a:rPr>
              <a:t>Переместительный</a:t>
            </a:r>
            <a:endParaRPr b="0" lang="en-US" sz="46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  ≡ Y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  ≡ Y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301800"/>
                </a:solidFill>
                <a:latin typeface="Arial Narrow"/>
              </a:rPr>
              <a:t>Сочетательный</a:t>
            </a:r>
            <a:endParaRPr b="0" lang="en-US" sz="46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(Y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Z) ≡ 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Z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(Y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Z) ≡ 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Z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01800"/>
                </a:solidFill>
                <a:latin typeface="Arial Narrow"/>
              </a:rPr>
              <a:t>Распределительный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(Y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Z) ≡ 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Z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(Y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Z) ≡ 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Z)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01800"/>
                </a:solidFill>
                <a:latin typeface="Arial Narrow"/>
              </a:rPr>
              <a:t>Правила де Моргана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≡ </a:t>
            </a:r>
            <a:r>
              <a:rPr b="0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X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Y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≡ </a:t>
            </a:r>
            <a:r>
              <a:rPr b="0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X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Y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01800"/>
                </a:solidFill>
                <a:latin typeface="Arial Narrow"/>
              </a:rPr>
              <a:t>Идемпотенции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X ≡ X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X ≡ X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01800"/>
                </a:solidFill>
                <a:latin typeface="Arial Narrow"/>
              </a:rPr>
              <a:t>Поглощения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≡ X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≡ X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Логические переменные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Например, два простых высказывания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А = «2 </a:t>
            </a:r>
            <a:r>
              <a:rPr b="1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 2 = 4»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истина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В = «2 </a:t>
            </a:r>
            <a:r>
              <a:rPr b="1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 2 = 5»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ложь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(0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являются логическими переменными А и В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01800"/>
                </a:solidFill>
                <a:latin typeface="Arial Narrow"/>
              </a:rPr>
              <a:t>Склеивания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1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≡ Y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1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≡ Y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01800"/>
                </a:solidFill>
                <a:latin typeface="Arial Narrow"/>
              </a:rPr>
              <a:t>Переменная </a:t>
            </a:r>
            <a:br>
              <a:rPr sz="4400"/>
            </a:br>
            <a:r>
              <a:rPr b="1" lang="ru-RU" sz="4400" spc="-1" strike="noStrike">
                <a:solidFill>
                  <a:srgbClr val="301800"/>
                </a:solidFill>
                <a:latin typeface="Arial Narrow"/>
              </a:rPr>
              <a:t>со своей инверсией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≡ 1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≡ 0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01800"/>
                </a:solidFill>
                <a:latin typeface="Arial Narrow"/>
              </a:rPr>
              <a:t>Операция с константам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0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≡ X, 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1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≡ 1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0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≡ 0, 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1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≡ X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01800"/>
                </a:solidFill>
                <a:latin typeface="Arial Narrow"/>
              </a:rPr>
              <a:t>Двойного отрицания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(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) ≡ X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Порядок действий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Действия в скобках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Отрицание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Конъюнкция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Дизъюнкция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Импликация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Эквивалентность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В алгебре высказываний </a:t>
            </a:r>
            <a:r>
              <a:rPr b="1" i="1" lang="ru-RU" sz="4000" spc="-1" strike="noStrike">
                <a:solidFill>
                  <a:srgbClr val="336600"/>
                </a:solidFill>
                <a:latin typeface="Arial Narrow"/>
              </a:rPr>
              <a:t>высказывания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 обозначаются именами </a:t>
            </a:r>
            <a:r>
              <a:rPr b="1" i="1" lang="ru-RU" sz="4000" spc="-1" strike="noStrike">
                <a:solidFill>
                  <a:srgbClr val="336600"/>
                </a:solidFill>
                <a:latin typeface="Arial Narrow"/>
              </a:rPr>
              <a:t>логических переменных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, которые могут принимать лишь два значения: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«</a:t>
            </a:r>
            <a:r>
              <a:rPr b="1" lang="ru-RU" sz="4000" spc="-1" strike="noStrike">
                <a:solidFill>
                  <a:srgbClr val="336600"/>
                </a:solidFill>
                <a:latin typeface="Arial Narrow"/>
              </a:rPr>
              <a:t>ИСТИНА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» (1) или «</a:t>
            </a:r>
            <a:r>
              <a:rPr b="1" lang="ru-RU" sz="4000" spc="-1" strike="noStrike">
                <a:solidFill>
                  <a:srgbClr val="336600"/>
                </a:solidFill>
                <a:latin typeface="Arial Narrow"/>
              </a:rPr>
              <a:t>ЛОЖЬ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» (0)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В алгебре высказываний над </a:t>
            </a:r>
            <a:r>
              <a:rPr b="1" i="1" lang="ru-RU" sz="4000" spc="-1" strike="noStrike">
                <a:solidFill>
                  <a:srgbClr val="336600"/>
                </a:solidFill>
                <a:latin typeface="Arial Narrow"/>
              </a:rPr>
              <a:t>логическими переменными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 (над высказываниями) можно производить определенные </a:t>
            </a:r>
            <a:r>
              <a:rPr b="1" i="1" lang="ru-RU" sz="4000" spc="-1" strike="noStrike">
                <a:solidFill>
                  <a:srgbClr val="336600"/>
                </a:solidFill>
                <a:latin typeface="Arial Narrow"/>
              </a:rPr>
              <a:t>логические операции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, в результате которых получаются новые высказывания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Составные высказывания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76964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ысказывания, состоящие из нескольких простых суждений и содержащие в себе более, чем одну простую мысль, называются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логическими функциями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Обозначаются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(A,B,C…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Также могут принимать значения «ИСТИНА» или «ЛОЖЬ» в зависимости от того, какие значения имеют входящие в их состав логические переменные и от действий над ними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Логические операции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75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(логическое умножение, «И»)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75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</a:t>
            </a:r>
            <a:r>
              <a:rPr b="1" i="1" lang="ru-RU" sz="2600" spc="-1" strike="noStrike">
                <a:solidFill>
                  <a:srgbClr val="336600"/>
                </a:solidFill>
                <a:latin typeface="Arial Narrow"/>
              </a:rPr>
              <a:t>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(логическое сложение, «ИЛИ»)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75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336600"/>
                </a:solidFill>
                <a:uFillTx/>
                <a:latin typeface="Arial Narrow"/>
              </a:rPr>
              <a:t>Инверсия</a:t>
            </a:r>
            <a:r>
              <a:rPr b="1" i="1" lang="ru-RU" sz="2600" spc="-1" strike="noStrike">
                <a:solidFill>
                  <a:srgbClr val="336600"/>
                </a:solidFill>
                <a:latin typeface="Arial Narrow"/>
              </a:rPr>
              <a:t>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(логическое отрицание, «НЕ»)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75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336600"/>
                </a:solidFill>
                <a:uFillTx/>
                <a:latin typeface="Arial Narrow"/>
              </a:rPr>
              <a:t>Импликация</a:t>
            </a:r>
            <a:r>
              <a:rPr b="1" i="1" lang="ru-RU" sz="2600" spc="-1" strike="noStrike">
                <a:solidFill>
                  <a:srgbClr val="336600"/>
                </a:solidFill>
                <a:latin typeface="Arial Narrow"/>
              </a:rPr>
              <a:t>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(логическое следование, «Если </a:t>
            </a:r>
            <a:r>
              <a:rPr b="1" i="1" lang="ru-RU" sz="2600" spc="-1" strike="noStrike">
                <a:solidFill>
                  <a:srgbClr val="336600"/>
                </a:solidFill>
                <a:latin typeface="Arial Narrow"/>
              </a:rPr>
              <a:t>А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, то </a:t>
            </a:r>
            <a:r>
              <a:rPr b="1" i="1" lang="ru-RU" sz="2600" spc="-1" strike="noStrike">
                <a:solidFill>
                  <a:srgbClr val="336600"/>
                </a:solidFill>
                <a:latin typeface="Arial Narrow"/>
              </a:rPr>
              <a:t>В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»)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75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336600"/>
                </a:solidFill>
                <a:uFillTx/>
                <a:latin typeface="Arial Narrow"/>
              </a:rPr>
              <a:t>Эквивалентность</a:t>
            </a:r>
            <a:r>
              <a:rPr b="1" i="1" lang="ru-RU" sz="2600" spc="-1" strike="noStrike">
                <a:solidFill>
                  <a:srgbClr val="336600"/>
                </a:solidFill>
                <a:latin typeface="Arial Narrow"/>
              </a:rPr>
              <a:t>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(логическое равенство, «</a:t>
            </a:r>
            <a:r>
              <a:rPr b="1" i="1" lang="ru-RU" sz="2600" spc="-1" strike="noStrike">
                <a:solidFill>
                  <a:srgbClr val="336600"/>
                </a:solidFill>
                <a:latin typeface="Arial Narrow"/>
              </a:rPr>
              <a:t>А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 тогда и только тогда, когда </a:t>
            </a:r>
            <a:r>
              <a:rPr b="1" i="1" lang="ru-RU" sz="2600" spc="-1" strike="noStrike">
                <a:solidFill>
                  <a:srgbClr val="336600"/>
                </a:solidFill>
                <a:latin typeface="Arial Narrow"/>
              </a:rPr>
              <a:t>В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»)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Объединение двух или нескольких высказываний в одно с помощью союза «И» называется </a:t>
            </a:r>
            <a:r>
              <a:rPr b="1" i="1" lang="ru-RU" sz="4400" spc="-1" strike="noStrike">
                <a:solidFill>
                  <a:srgbClr val="336600"/>
                </a:solidFill>
                <a:latin typeface="Arial Narrow"/>
              </a:rPr>
              <a:t>операцией логического умножения</a:t>
            </a: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, или </a:t>
            </a:r>
            <a:r>
              <a:rPr b="1" i="1" lang="ru-RU" sz="4400" spc="-1" strike="noStrike">
                <a:solidFill>
                  <a:srgbClr val="336600"/>
                </a:solidFill>
                <a:latin typeface="Arial Narrow"/>
              </a:rPr>
              <a:t>конъюнкцией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ргеев Евгений</cp:lastModifiedBy>
  <dcterms:modified xsi:type="dcterms:W3CDTF">2010-09-29T14:51:14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