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E3F2-EC92-45EE-A119-1DD6EA0F3E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вая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мож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перехода на следующий слайд нажать кнопку «Примеры». Это позволит корректно проинициализировать переменные на следующем слайде и осуществит правильный запуск мак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возможно, придется нажать дважды,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ный слайд. В офисе 2007 анимация о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ое» положение слайда – когда в обеих цепях идет ток (красные шарики отображены в обеих цепях). Конечно, это неверно с точки зрения информатики, поэтому при переходе на этот слайд нужно быстро нажать кнопку автоматического переключателя, чтобы эта ошибка не бросалась в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ще, это – не ошибка, это особенности программной реализации. Дело в том, что если на слайде есть какие-то скрытые элементы, видимость которых изменяется программным способом, то при демонстрации слайда анимация таких элементов не запускается (так уж устроен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Power Point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а как ее запустить программно, я не знаю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приходится делать все анимированные элементы видимыми, чтобы запустить их анимацию, а уже потом, при показе слайдов, управлять видимостью этих элементов программ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2007 офисе вообще, анимация останавливае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0E99-599F-4CD3-B200-FCA50E90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F81-7BF2-4877-B1B8-5827F312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290-C732-4AEE-8DC2-97AB50F5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CDF5-E4C7-48C4-84B4-113E1A55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6102-DC4F-4B1D-8471-05A9BE0F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C83-F115-4821-9E6C-32664A6B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1B0-3E0C-417D-9C82-B0ED8BEA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E7A-CE06-4979-9D33-16707CF1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D727-B95F-4BE2-BC0B-35D9FBCB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334-6AA7-4375-AC8F-FDAFEB70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A64C-6CF1-4298-8316-0754EA1C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F84-C03A-4290-966E-74550DD4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7746-3864-4676-9A33-7BC74727C3C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ие основы компьют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349360"/>
            <a:ext cx="73040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996600"/>
                </a:solidFill>
                <a:latin typeface="Arial"/>
              </a:rPr>
              <a:t>Базовые логические элемент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Инве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ходы инвертора пода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ыходе инвертора появля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729400" y="2060640"/>
            <a:ext cx="3163680" cy="2768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726160" y="3654360"/>
            <a:ext cx="31636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умматор двоичных чисе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е математическое сколь угодно сложное выражение может быть представлено в виде последовательности элементарных математических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 математические действия в компьютере сводятся к сложению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у микропроцессора составляют </a:t>
            </a:r>
            <a:r>
              <a:rPr b="1" i="1" lang="en-US" sz="3000" spc="-1" strike="noStrike">
                <a:solidFill>
                  <a:srgbClr val="cc9900"/>
                </a:solidFill>
                <a:latin typeface="Arial"/>
              </a:rPr>
              <a:t>сумматоры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усумматор. Арифметическое сложение двоичных чисе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каждом разряде образуется сумма цифр в соответствующих разрядах слагаемых, при этом возможен перенос единицы в старший разря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9600" y="407664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urier New"/>
                <a:ea typeface="Arial"/>
              </a:rPr>
              <a:t>Без пере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7564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7175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97172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20896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714760" y="551340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9559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09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4480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7240" y="4076640"/>
            <a:ext cx="243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Courier New"/>
                <a:ea typeface="Arial"/>
              </a:rPr>
              <a:t>С перен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3632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604840" y="5513400"/>
            <a:ext cx="4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8593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976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6016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84360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097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33500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614000">
            <a:off x="6987960" y="5518080"/>
            <a:ext cx="360360" cy="101520"/>
          </a:xfrm>
          <a:custGeom>
            <a:avLst/>
            <a:gdLst>
              <a:gd name="textAreaLeft" fmla="*/ 63000 w 360360"/>
              <a:gd name="textAreaRight" fmla="*/ 261360 w 360360"/>
              <a:gd name="textAreaTop" fmla="*/ 13320 h 101520"/>
              <a:gd name="textAreaBottom" fmla="*/ 88200 h 10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544356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54435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186560" y="46512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075280" y="46512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бозначим слагаемые через А и В, перенос – через Р, а сумму – через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блица сложения одноразрядных двоичных чисел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4360" y="2276640"/>
          <a:ext cx="7848360" cy="339084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564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536580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5984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805360"/>
            <a:ext cx="8435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чевидно, чт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 = А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360" y="2852640"/>
            <a:ext cx="5903640" cy="2808360"/>
          </a:xfrm>
          <a:prstGeom prst="rect">
            <a:avLst/>
          </a:prstGeom>
          <a:solidFill>
            <a:srgbClr val="cc99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сравнить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0480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85928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468360" y="4941720"/>
            <a:ext cx="82803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 очевидно, что они практически идентич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бы равенство оказалось полным нужно выраж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множить на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4292640"/>
            <a:ext cx="338436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59280" y="4292640"/>
            <a:ext cx="338472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9640" y="2205000"/>
          <a:ext cx="8280360" cy="2519280"/>
        </p:xfrm>
        <a:graphic>
          <a:graphicData uri="http://schemas.openxmlformats.org/drawingml/2006/table">
            <a:tbl>
              <a:tblPr/>
              <a:tblGrid>
                <a:gridCol w="719280"/>
                <a:gridCol w="720720"/>
                <a:gridCol w="1224000"/>
                <a:gridCol w="1081080"/>
                <a:gridCol w="1511280"/>
                <a:gridCol w="30240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239112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580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6108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7076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896000"/>
            <a:ext cx="829152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перь, имея элементарные логические выражения, можно построить логическую схему устройства для сложения одноразрядных двоичных чисел (полусумматор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воичного полу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714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лусумматор называется так, потому, что здесь не учитывается перенос единицы из младшего разря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3640" y="5229360"/>
            <a:ext cx="8636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08720" y="5445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48360" y="5300640"/>
            <a:ext cx="1293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95640" y="558972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82920" y="5013360"/>
            <a:ext cx="8654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4221000"/>
            <a:ext cx="86508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5373720"/>
            <a:ext cx="86508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4292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309" idx="3"/>
            <a:endCxn id="308" idx="1"/>
          </p:cNvCxnSpPr>
          <p:nvPr/>
        </p:nvCxnSpPr>
        <p:spPr>
          <a:xfrm>
            <a:off x="2211120" y="4436640"/>
            <a:ext cx="2057760" cy="79308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313" name=""/>
          <p:cNvSpPr/>
          <p:nvPr/>
        </p:nvSpPr>
        <p:spPr>
          <a:xfrm>
            <a:off x="612720" y="458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98560" y="57340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42920" y="5445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042920" y="429228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98560" y="458136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3933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4581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66920" y="40705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5222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62400" y="49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51280" y="4505400"/>
            <a:ext cx="189108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88" y="6562"/>
                </a:moveTo>
                <a:lnTo>
                  <a:pt x="23735" y="6562"/>
                </a:lnTo>
                <a:lnTo>
                  <a:pt x="23735" y="30167"/>
                </a:lnTo>
                <a:lnTo>
                  <a:pt x="14586" y="5501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69680" y="3171960"/>
            <a:ext cx="24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ный одноразрядный сумматор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ен иметь три входа (А, В и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 два выход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11280" y="2060640"/>
          <a:ext cx="7993080" cy="455616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8760"/>
                <a:gridCol w="1598400"/>
                <a:gridCol w="15987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020280" y="2925720"/>
            <a:ext cx="34992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98160" y="2924280"/>
            <a:ext cx="34992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нимает знач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гда хотя бы две из трех переменных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 = (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мма равна произведению логического сложения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на инвертированный перено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=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выражение справедливо во всех случаях, кроме одного, когд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авильное значение суммы 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Для ее получения необходимо полученное выражение сложить с произведением этих же переменны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S = (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)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 ¬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Р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(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Базовые логические 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выполняет арифметические и логические операции при помощи т.н. </a:t>
            </a:r>
            <a:r>
              <a:rPr b="1" i="1" lang="ru-RU" sz="2800" spc="-1" strike="noStrike">
                <a:solidFill>
                  <a:srgbClr val="cc9900"/>
                </a:solidFill>
                <a:latin typeface="Arial"/>
              </a:rPr>
              <a:t>базовых логических элемен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также еще называют венти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 «И» – кон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кон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 – диз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диз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» – инвер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инвер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Многоразрядный сумма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строен на основе полных одноразрядных сумматоров (по одному на каждый разряд), причем таким образом, чтобы выход (перенос) младшего сумматора был подключен ко входу старшего сумма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ригг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ажнейшая структурная единица оперативной памяти и регистров процесс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стоит из двух логических элементов «ИЛИ» и двух логических элементов «НЕ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ая схем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2852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7164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7636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97440" y="2997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9272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97440" y="4941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1672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38560" y="2986200"/>
            <a:ext cx="4894200" cy="1811160"/>
          </a:xfrm>
          <a:custGeom>
            <a:avLst/>
            <a:gdLst/>
            <a:ahLst/>
            <a:rect l="l" t="t" r="r" b="b"/>
            <a:pathLst>
              <a:path w="3083" h="1141">
                <a:moveTo>
                  <a:pt x="2632" y="0"/>
                </a:moveTo>
                <a:lnTo>
                  <a:pt x="3073" y="0"/>
                </a:lnTo>
                <a:lnTo>
                  <a:pt x="3083" y="325"/>
                </a:lnTo>
                <a:lnTo>
                  <a:pt x="0" y="868"/>
                </a:lnTo>
                <a:lnTo>
                  <a:pt x="0" y="1141"/>
                </a:lnTo>
                <a:lnTo>
                  <a:pt x="272" y="114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43240" y="3063960"/>
            <a:ext cx="4894200" cy="1731960"/>
          </a:xfrm>
          <a:custGeom>
            <a:avLst/>
            <a:gdLst/>
            <a:ahLst/>
            <a:rect l="l" t="t" r="r" b="b"/>
            <a:pathLst>
              <a:path w="3083" h="1091">
                <a:moveTo>
                  <a:pt x="264" y="0"/>
                </a:moveTo>
                <a:lnTo>
                  <a:pt x="0" y="3"/>
                </a:lnTo>
                <a:lnTo>
                  <a:pt x="0" y="275"/>
                </a:lnTo>
                <a:lnTo>
                  <a:pt x="3083" y="818"/>
                </a:lnTo>
                <a:lnTo>
                  <a:pt x="3083" y="1091"/>
                </a:lnTo>
                <a:lnTo>
                  <a:pt x="2631" y="10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2347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4579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96360" y="4579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7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8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8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9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абот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бычном состоянии на входы триггер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дан сигнал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и триггер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принимает значение на выходе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возвращается в свое исходное состояние –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оставные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ая логическая операция может быть представлена через конъюнкцию, дизъюнкцию и инверс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й сколь угодно сложный элемент компьютера может быть сконструирован из элементарных венти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аргументы и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функции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нтили оперируют с электрическими импульсам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 имеется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1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а нет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0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входы вентиля подаются импульсы – значения аргументов, на выходе вентиля появляется сигнал – значение функ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кон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40516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671920" y="18334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98116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2688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55608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2692440" y="234936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2692440" y="2349360"/>
            <a:ext cx="86364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 flipH="1">
            <a:off x="1468080" y="2781360"/>
            <a:ext cx="1222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 flipH="1">
            <a:off x="146844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 flipH="1">
            <a:off x="1468080" y="638172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6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23" name="Line 27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32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 flipH="1">
            <a:off x="463716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4997520" y="4941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4997520" y="38354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924360" y="501336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386064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21600" y="1674720"/>
            <a:ext cx="414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оследоват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1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1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2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2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2695680" y="234144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844720" y="6093000"/>
            <a:ext cx="504720" cy="575640"/>
            <a:chOff x="2844720" y="6093000"/>
            <a:chExt cx="504720" cy="575640"/>
          </a:xfrm>
        </p:grpSpPr>
        <p:sp>
          <p:nvSpPr>
            <p:cNvPr id="139" name="Line 5"/>
            <p:cNvSpPr/>
            <p:nvPr/>
          </p:nvSpPr>
          <p:spPr>
            <a:xfrm>
              <a:off x="284472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291780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327636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34944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2917800" y="63824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1"/>
          <p:cNvSpPr/>
          <p:nvPr/>
        </p:nvSpPr>
        <p:spPr>
          <a:xfrm flipH="1">
            <a:off x="1476000" y="638028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>
            <a:off x="3349800" y="63802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 flipH="1" flipV="1">
            <a:off x="3563640" y="277812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1474920" y="277956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274920" y="5877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2556000" y="5877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Л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диз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Line 23"/>
          <p:cNvSpPr/>
          <p:nvPr/>
        </p:nvSpPr>
        <p:spPr>
          <a:xfrm>
            <a:off x="4643280" y="530064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4643280" y="278136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406728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406728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521964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>
            <a:off x="521964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 flipH="1">
            <a:off x="4068360" y="5300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 flipH="1">
            <a:off x="4068360" y="371808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305928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5"/>
          <p:cNvSpPr/>
          <p:nvPr/>
        </p:nvSpPr>
        <p:spPr>
          <a:xfrm>
            <a:off x="1409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6"/>
          <p:cNvSpPr/>
          <p:nvPr/>
        </p:nvSpPr>
        <p:spPr>
          <a:xfrm>
            <a:off x="1409760" y="385452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7"/>
          <p:cNvSpPr/>
          <p:nvPr/>
        </p:nvSpPr>
        <p:spPr>
          <a:xfrm>
            <a:off x="1409760" y="5084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0"/>
          <p:cNvSpPr/>
          <p:nvPr/>
        </p:nvSpPr>
        <p:spPr>
          <a:xfrm>
            <a:off x="305928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1"/>
          <p:cNvSpPr/>
          <p:nvPr/>
        </p:nvSpPr>
        <p:spPr>
          <a:xfrm>
            <a:off x="457200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2"/>
          <p:cNvSpPr/>
          <p:nvPr/>
        </p:nvSpPr>
        <p:spPr>
          <a:xfrm>
            <a:off x="140652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3"/>
          <p:cNvSpPr/>
          <p:nvPr/>
        </p:nvSpPr>
        <p:spPr>
          <a:xfrm>
            <a:off x="4578480" y="52340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4"/>
          <p:cNvSpPr/>
          <p:nvPr/>
        </p:nvSpPr>
        <p:spPr>
          <a:xfrm>
            <a:off x="4584600" y="364500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5"/>
          <p:cNvSpPr/>
          <p:nvPr/>
        </p:nvSpPr>
        <p:spPr>
          <a:xfrm>
            <a:off x="4572000" y="2709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6"/>
          <p:cNvSpPr/>
          <p:nvPr/>
        </p:nvSpPr>
        <p:spPr>
          <a:xfrm>
            <a:off x="4008600" y="44132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305604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8"/>
          <p:cNvSpPr/>
          <p:nvPr/>
        </p:nvSpPr>
        <p:spPr>
          <a:xfrm>
            <a:off x="140652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9"/>
          <p:cNvSpPr/>
          <p:nvPr/>
        </p:nvSpPr>
        <p:spPr>
          <a:xfrm>
            <a:off x="1406520" y="3863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1406520" y="5094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1"/>
          <p:cNvSpPr/>
          <p:nvPr/>
        </p:nvSpPr>
        <p:spPr>
          <a:xfrm>
            <a:off x="305604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2"/>
          <p:cNvSpPr/>
          <p:nvPr/>
        </p:nvSpPr>
        <p:spPr>
          <a:xfrm>
            <a:off x="456876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3"/>
          <p:cNvSpPr/>
          <p:nvPr/>
        </p:nvSpPr>
        <p:spPr>
          <a:xfrm>
            <a:off x="140328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4"/>
          <p:cNvSpPr/>
          <p:nvPr/>
        </p:nvSpPr>
        <p:spPr>
          <a:xfrm>
            <a:off x="4575240" y="52434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5"/>
          <p:cNvSpPr/>
          <p:nvPr/>
        </p:nvSpPr>
        <p:spPr>
          <a:xfrm>
            <a:off x="4581360" y="3654360"/>
            <a:ext cx="1209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6"/>
          <p:cNvSpPr/>
          <p:nvPr/>
        </p:nvSpPr>
        <p:spPr>
          <a:xfrm>
            <a:off x="4568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7"/>
          <p:cNvSpPr/>
          <p:nvPr/>
        </p:nvSpPr>
        <p:spPr>
          <a:xfrm>
            <a:off x="5157720" y="44226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2698920" y="2349360"/>
            <a:ext cx="86328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8"/>
          <p:cNvSpPr/>
          <p:nvPr/>
        </p:nvSpPr>
        <p:spPr>
          <a:xfrm>
            <a:off x="341964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9"/>
          <p:cNvSpPr/>
          <p:nvPr/>
        </p:nvSpPr>
        <p:spPr>
          <a:xfrm>
            <a:off x="557856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0"/>
          <p:cNvSpPr/>
          <p:nvPr/>
        </p:nvSpPr>
        <p:spPr>
          <a:xfrm>
            <a:off x="240984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1"/>
          <p:cNvSpPr/>
          <p:nvPr/>
        </p:nvSpPr>
        <p:spPr>
          <a:xfrm>
            <a:off x="2627280" y="184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29862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3"/>
          <p:cNvSpPr/>
          <p:nvPr/>
        </p:nvSpPr>
        <p:spPr>
          <a:xfrm>
            <a:off x="327492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4"/>
          <p:cNvSpPr/>
          <p:nvPr/>
        </p:nvSpPr>
        <p:spPr>
          <a:xfrm>
            <a:off x="356220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041800" y="1674720"/>
            <a:ext cx="36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аралл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10434 0.13611 L 0.10295 0.36667 L 0.16614 0.36759 L 0.16614 0.52593 L -0.17969 0.52408 L -0.18038 -0.00046 L -0.00052 -0.00046 E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28368 0.13519 L 0.28368 0.36713 L 0.34531 0.36759 L 0.34531 0.52477 L -0.00104 0.52454 L -0.00122 -0.00092 L -0.00104 -2.22222E-006 E">
                                      <p:cBhvr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28437 -0.02986 L 0.28437 0.20023 L 0.34687 0.20162 L 0.34722 0.35903 L -0.00035 0.35857 L 0.00017 0.00139 E">
                                      <p:cBhvr>
                                        <p:cTn id="3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28368 -0.2088 L 0.28368 0.0213 L 0.34531 0.02083 L 0.34514 0.17778 L 3.33333E-006 0.18009 L -0.00052 0.00093 E">
                                      <p:cBhvr>
                                        <p:cTn id="3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0.00023 L -0.17986 -0.00069 L -0.17934 -0.525 L 0.16718 -0.525 L 0.16701 -0.38935 L 0.10312 -0.38842 L 0.10312 -0.15787 L 0.16701 -0.15694 L 0.16718 0.00023 L -0.0007 -3.33333E-006 E">
                                      <p:cBhvr>
                                        <p:cTn id="3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-0.06181 -0.3875 L -0.06181 -0.15787 L 0.00069 -0.15694 L 0.00017 0.00093 L 1.11022E-016 -3.33333E-006 E">
                                      <p:cBhvr>
                                        <p:cTn id="4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28403 -0.38657 L 0.28437 -0.15787 L 0.34705 -0.15648 L 0.34809 0.00232 L 0.00139 0.00023 E">
                                      <p:cBhvr>
                                        <p:cTn id="4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-0.06215 -0.23009 L -0.06319 1.11111E-006 L -0.00034 -0.00093 E">
                                      <p:cBhvr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-0.0625 0.00023 L -0.0632 0.23078 L -0.0007 0.23125 L -0.00035 0.38865 L -0.34722 0.3875 L -0.34618 -0.13542 L -0.0007 -0.13635 L 1.11111E-006 -0.00024 E">
                                      <p:cBhvr>
                                        <p:cTn id="4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-0.06111 0.13704 L -0.06146 0.36852 L 0.00104 0.3676 L 0.00069 0.52616 L -0.34583 0.52454 L -0.34653 -0.00046 L 1.11022E-016 0.00139 E">
                                      <p:cBhvr>
                                        <p:cTn id="4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1.94444E-006 0.11945 L 0.0625 0.11991 L 0.06285 0.27732 L -0.28403 0.27616 L -0.28299 -0.24699 L 0.0625 -0.24791 L 0.0625 -0.1118 L 0.00035 -0.1118 L 0.00035 0.00023 E">
                                      <p:cBhvr>
                                        <p:cTn id="5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22934 0.13611 L 0.22934 0.36667 L 0.16614 0.36759 L 0.16614 0.52593 L -0.17969 0.52408 L -0.18038 -0.00046 L -0.00052 -0.00046 E">
                                      <p:cBhvr>
                                        <p:cTn id="5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41007 0.13519 L 0.41007 0.36713 L 0.34687 0.36759 L 0.34531 0.52477 L -0.00104 0.52454 L -0.00122 -0.00092 L -0.00104 -2.22222E-006 E">
                                      <p:cBhvr>
                                        <p:cTn id="5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40972 -0.02986 L 0.40972 0.2007 L 0.34652 0.20162 L 0.34722 0.35903 L -0.00035 0.35857 L 0.00017 0.00139 E">
                                      <p:cBhvr>
                                        <p:cTn id="5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41007 -0.2088 L 0.40972 0.0213 L 0.34531 0.02083 L 0.34514 0.17778 L 3.33333E-006 0.18009 L -0.00052 0.00093 E">
                                      <p:cBhvr>
                                        <p:cTn id="58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-0.17986 -0.00069 L -0.17934 -0.525 L 0.16719 -0.525 L 0.16701 -0.38935 L 0.22969 -0.38796 L 0.22969 -0.15694 L 0.16701 -0.15694 L 0.16719 0.00023 L -0.0007 -3.33333E-006 E">
                                      <p:cBhvr>
                                        <p:cTn id="6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0.06389 -0.3875 L 0.06424 -0.15787 L 0.00069 -0.15694 L 0.00017 0.00093 L 1.11022E-016 -3.33333E-006 E">
                                      <p:cBhvr>
                                        <p:cTn id="6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41007 -0.38796 L 0.41007 -0.15648 L 0.34705 -0.15648 L 0.34809 0.00232 L 0.00139 0.00023 E">
                                      <p:cBhvr>
                                        <p:cTn id="64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0.06389 -0.23009 L 0.0632 -0.00093 L -0.00034 -0.00093 E">
                                      <p:cBhvr>
                                        <p:cTn id="6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0.06215 0.00069 L 0.06319 0.23125 L -0.0007 0.23125 L -0.00035 0.38865 L -0.34722 0.3875 L -0.34618 -0.13542 L -0.0007 -0.13635 L 1.11111E-006 -0.00024 E">
                                      <p:cBhvr>
                                        <p:cTn id="6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0.06424 0.1375 L 0.06424 0.36713 L 0.00104 0.3676 L 0.00069 0.52616 L -0.34583 0.52454 L -0.34653 -0.00046 L 1.11022E-016 0.00139 E">
                                      <p:cBhvr>
                                        <p:cTn id="70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L -0.00052 0.11875 L -0.06354 0.11991 L -0.06319 0.27732 L -0.41007 0.27616 L -0.40903 -0.24699 L -0.06354 -0.24791 L -0.06354 -0.1118 L -0.00052 -0.1118 L 0.00017 0.0007 E">
                                      <p:cBhvr>
                                        <p:cTn id="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54"/>
          <p:cNvSpPr/>
          <p:nvPr/>
        </p:nvSpPr>
        <p:spPr>
          <a:xfrm>
            <a:off x="491328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2689200" y="2349360"/>
            <a:ext cx="87012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96" name="Line 4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8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9"/>
          <p:cNvSpPr/>
          <p:nvPr/>
        </p:nvSpPr>
        <p:spPr>
          <a:xfrm flipH="1">
            <a:off x="463716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H="1">
            <a:off x="1469880" y="638820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1469880" y="278604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 flipH="1">
            <a:off x="146844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26880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254952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НЕ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инвер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2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3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4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5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6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7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8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9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41"/>
          <p:cNvGrpSpPr/>
          <p:nvPr/>
        </p:nvGrpSpPr>
        <p:grpSpPr>
          <a:xfrm>
            <a:off x="5513400" y="4508640"/>
            <a:ext cx="504720" cy="575640"/>
            <a:chOff x="5513400" y="4508640"/>
            <a:chExt cx="504720" cy="575640"/>
          </a:xfrm>
        </p:grpSpPr>
        <p:sp>
          <p:nvSpPr>
            <p:cNvPr id="221" name="Line 42"/>
            <p:cNvSpPr/>
            <p:nvPr/>
          </p:nvSpPr>
          <p:spPr>
            <a:xfrm>
              <a:off x="551340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3"/>
            <p:cNvSpPr/>
            <p:nvPr/>
          </p:nvSpPr>
          <p:spPr>
            <a:xfrm>
              <a:off x="558648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4"/>
            <p:cNvSpPr/>
            <p:nvPr/>
          </p:nvSpPr>
          <p:spPr>
            <a:xfrm>
              <a:off x="594504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5"/>
            <p:cNvSpPr/>
            <p:nvPr/>
          </p:nvSpPr>
          <p:spPr>
            <a:xfrm>
              <a:off x="601812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6"/>
            <p:cNvSpPr/>
            <p:nvPr/>
          </p:nvSpPr>
          <p:spPr>
            <a:xfrm>
              <a:off x="5586480" y="479808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47"/>
          <p:cNvSpPr/>
          <p:nvPr/>
        </p:nvSpPr>
        <p:spPr>
          <a:xfrm flipH="1">
            <a:off x="4912920" y="4797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8"/>
          <p:cNvSpPr/>
          <p:nvPr/>
        </p:nvSpPr>
        <p:spPr>
          <a:xfrm flipH="1" flipV="1">
            <a:off x="5992920" y="4795920"/>
            <a:ext cx="488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9"/>
          <p:cNvSpPr/>
          <p:nvPr/>
        </p:nvSpPr>
        <p:spPr>
          <a:xfrm>
            <a:off x="5919840" y="42926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0"/>
          <p:cNvSpPr/>
          <p:nvPr/>
        </p:nvSpPr>
        <p:spPr>
          <a:xfrm>
            <a:off x="5200560" y="4292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H="1">
            <a:off x="4912920" y="3284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>
            <a:off x="649764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7"/>
          <p:cNvSpPr/>
          <p:nvPr/>
        </p:nvSpPr>
        <p:spPr>
          <a:xfrm>
            <a:off x="6431040" y="472608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8"/>
          <p:cNvSpPr/>
          <p:nvPr/>
        </p:nvSpPr>
        <p:spPr>
          <a:xfrm>
            <a:off x="6424560" y="32241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9"/>
          <p:cNvSpPr/>
          <p:nvPr/>
        </p:nvSpPr>
        <p:spPr>
          <a:xfrm>
            <a:off x="4878360" y="32209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>
            <a:off x="4863960" y="4726080"/>
            <a:ext cx="1209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5"/>
          <p:cNvSpPr/>
          <p:nvPr/>
        </p:nvSpPr>
        <p:spPr>
          <a:xfrm>
            <a:off x="3199320" y="38466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¬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5141880" y="38354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2"/>
          <p:cNvSpPr/>
          <p:nvPr/>
        </p:nvSpPr>
        <p:spPr>
          <a:xfrm>
            <a:off x="2692440" y="2354400"/>
            <a:ext cx="863640" cy="86652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164360" y="3429000"/>
          <a:ext cx="1368360" cy="1461960"/>
        </p:xfrm>
        <a:graphic>
          <a:graphicData uri="http://schemas.openxmlformats.org/drawingml/2006/table">
            <a:tbl>
              <a:tblPr/>
              <a:tblGrid>
                <a:gridCol w="503280"/>
                <a:gridCol w="865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4712760" y="1674720"/>
            <a:ext cx="39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с одни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втоматическим выключа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7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8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8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84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8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90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9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9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9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47 L -0.17257 0.00047 L -0.17239 -0.2199 L 0.00018 -0.2199 L 0.00018 0.00093 L -1.94444E-006 0.00047 E">
                                      <p:cBhvr>
                                        <p:cTn id="98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0.00035 0.21898 L -0.17204 0.21828 L -0.17222 -0.00116 L -4.72222E-006 -0.00047 E">
                                      <p:cBhvr>
                                        <p:cTn id="100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23 L 0.17049 -0.00023 L 0.17031 0.22014 L -0.00104 0.22014 L -0.00104 -0.0007 L -0.00087 -0.00023 E">
                                      <p:cBhvr>
                                        <p:cTn id="102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 L -0.00035 -0.22106 L 0.171 -0.22037 L 0.17118 0.00116 L 4.16667E-006 0.00046 E">
                                      <p:cBhvr>
                                        <p:cTn id="104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он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651640" y="2865600"/>
            <a:ext cx="3205080" cy="1550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667480" y="4010040"/>
            <a:ext cx="3182760" cy="1481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675400" y="5137200"/>
            <a:ext cx="3217680" cy="13161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кон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кон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из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диз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диз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3384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58Z</dcterms:modified>
  <cp:revision>118</cp:revision>
  <dc:subject/>
  <dc:title>Слайд 1</dc:title>
</cp:coreProperties>
</file>