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6.gif" ContentType="image/gif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4.wmf" ContentType="image/x-wmf"/>
  <Override PartName="/ppt/media/image3.gif" ContentType="image/gif"/>
  <Override PartName="/ppt/media/image12.png" ContentType="image/png"/>
  <Override PartName="/ppt/media/image7.png" ContentType="image/png"/>
  <Override PartName="/ppt/media/image4.gif" ContentType="image/gif"/>
  <Override PartName="/ppt/media/image9.jpeg" ContentType="image/jpeg"/>
  <Override PartName="/ppt/media/image11.jpeg" ContentType="image/jpeg"/>
  <Override PartName="/ppt/media/image8.png" ContentType="image/pn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E7D0-7EF8-4AA7-AE76-D95BF27E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2B2E-4AB0-4ED4-BB19-AC8FC410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E031-47B0-457F-AF27-7FB40E9E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E2C9-5B21-458E-94C5-B21F2A80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AE2D-96B6-4024-BC42-DAF690EC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3084-0856-4A1B-892C-30630FA4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6065-D15B-4066-B901-53615366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0BF3-0C21-438E-BE5B-C7E4F3DA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451E-7139-4C3C-B184-FB2ED752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57EB-AE42-4DDB-983F-8CB32F2A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10FF-80C5-487C-8B25-48F31DBC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24B6-5CDA-4EB6-ADFE-57A9CF7D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48AB-D490-46DE-A84D-856048A72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80880"/>
            <a:ext cx="6858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   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Закончи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стихотвор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2532240" cy="4419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3505320" cy="2803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066680" y="533520"/>
            <a:ext cx="1108080" cy="960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391520" y="685800"/>
            <a:ext cx="1181160" cy="944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1128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2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68360" y="1125360"/>
            <a:ext cx="4824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цея №1589 г. Мос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арова Гали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564000" y="3500280"/>
            <a:ext cx="1998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-43920"/>
            <a:ext cx="8424720" cy="50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2520" rIns="825120" tIns="539640" bIns="228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кромный серый колоб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Длинный тонкий провод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Ну а на коробке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Две или три кноп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В зоопарке есть зайчиш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У компьютера есть </a:t>
            </a:r>
            <a:r>
              <a:rPr b="1" lang="en-US" sz="4000" spc="-1" strike="noStrike">
                <a:solidFill>
                  <a:srgbClr val="007f00"/>
                </a:solidFill>
                <a:latin typeface="Arial"/>
                <a:ea typeface="Times New Roman"/>
              </a:rPr>
              <a:t>...</a:t>
            </a:r>
            <a:r>
              <a:rPr b="1" lang="en-US" sz="4000" spc="-1" strike="noStrike">
                <a:solidFill>
                  <a:srgbClr val="007f00"/>
                </a:solidFill>
                <a:latin typeface="Arial"/>
              </a:rPr>
              <a:t>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8200" y="5310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8200" y="74314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541656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476280"/>
            <a:ext cx="7667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ловно смелый капитан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на нем - горит экр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Яркой радугой он дыши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на нем компьютер пиш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рисует без запин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севозможные картин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верху машины вс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мещае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27640" y="1916280"/>
            <a:ext cx="4019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00000" y="692280"/>
          <a:ext cx="7632720" cy="324036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32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теперь, друзья, загадка!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то такое; рукоятка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нопки две, курок и хвостик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у конечно, это ...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41608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765000"/>
            <a:ext cx="88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коло дисплея - главный бло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ам бежит электро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 самым важным микросхем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от блок зовут ………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11640" y="333360"/>
            <a:ext cx="35146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333360"/>
            <a:ext cx="813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клавишам прыг да скок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-ре-ги но-го-то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-два и готово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стукали слов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т где пальцам физкуль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вот - ...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547640" y="2349360"/>
            <a:ext cx="666612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9640" y="549360"/>
          <a:ext cx="7777080" cy="460800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46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чего же этот ящик?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н в себя бумагу тащит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сейчас же буквы, точки, Запятые - строчка к строчке -Напечатает картинку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вкий мастер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тот ….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08360" y="692280"/>
            <a:ext cx="4672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549000"/>
            <a:ext cx="7632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на как новая ком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 нам в жизнь стремительно лети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имя просто ей -………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информацию хран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ней записаны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для мамы, и для пап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упаковке, как конфет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ыстро верти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56000" y="765000"/>
            <a:ext cx="549108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07560" y="475920"/>
            <a:ext cx="6860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 компьютеры пор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оворят между собо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о для этого од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м штуковина нуж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 телефону подключ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общение получил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ещь, известная не всем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зывае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979640" y="1844640"/>
            <a:ext cx="63104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16:26:31Z</dcterms:created>
  <dc:creator>1</dc:creator>
  <dc:description/>
  <dc:language>en-US</dc:language>
  <cp:lastModifiedBy>Мама</cp:lastModifiedBy>
  <dcterms:modified xsi:type="dcterms:W3CDTF">2010-10-08T11:11:01Z</dcterms:modified>
  <cp:revision>24</cp:revision>
  <dc:subject/>
  <dc:title>Слайд 1</dc:title>
</cp:coreProperties>
</file>