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6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4.wmf" ContentType="image/x-wm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095-ACF7-45B6-AE9E-7D1FED46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5FE-6E75-436E-BA93-C63FC4C5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996-661B-4453-8B62-1948F69B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A850-5DDC-44B4-82F0-4B59EF02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309-1063-4151-BDAC-740B9B5D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370-C53B-40CC-88AF-43769F8B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07D-5844-44A4-B50C-018AA8A0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DC8-D734-425A-BDC3-55C49532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E18-A37B-4152-9F69-7806C3A1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819-B8E1-48C2-9E59-876E4B59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8CA-FEE3-42DD-AE39-DC571810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EA1-4690-4578-B4BA-A0AEEB9C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508F-6380-4FE3-84FC-6656187FE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808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Законч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ихотвор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532240" cy="441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053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1108080" cy="96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391520" y="685800"/>
            <a:ext cx="1181160" cy="94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68360" y="1125360"/>
            <a:ext cx="48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цея №1589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арова Гали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-43920"/>
            <a:ext cx="842472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2520" rIns="825120" tIns="5396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ромный серый колоб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ный тонкий провод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у а на коробк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или три кноп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оопарке есть зайчи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омпьютера есть 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  <a:ea typeface="Times New Roman"/>
              </a:rPr>
              <a:t>...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310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200" y="7431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416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476280"/>
            <a:ext cx="766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но смелый капит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на нем - горит эк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ркой радугой он дыш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на нем компьютер пиш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рисует без запин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евозможные карт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ерху машины вс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мещ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019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00000" y="692280"/>
          <a:ext cx="7632720" cy="32403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теперь, друзья, загадка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такое; рукоятк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нопки две, курок и хвостик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у конечно, это ..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60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6500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коло дисплея - главный бл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ам бежит электр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самым важным микросхем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т блок зовут ……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11640" y="333360"/>
            <a:ext cx="3514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813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клавишам прыг да скок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-ре-ги но-го-т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-два и готово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стукали сл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где пальцам физ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вот - 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6661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549360"/>
          <a:ext cx="7777080" cy="4608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46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чего же этот ящик?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н в себя бумагу тащи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сейчас же буквы, точки, Запятые - строчка к строчке -Напечатает картинку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кий мастер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т ….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692280"/>
            <a:ext cx="4672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54900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на как новая ко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нам в жизнь стремительно лети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имя просто ей -………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информацию хран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ней записаны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для мамы, и для пап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паковке, как конфе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стро верти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56000" y="765000"/>
            <a:ext cx="54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7560" y="475920"/>
            <a:ext cx="6860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омпьютеры п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ворят между соб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 для этого од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 штуковина нуж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телефону подключ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общение получи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щь, известная не все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ыв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6310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6:26:31Z</dcterms:created>
  <dc:creator>1</dc:creator>
  <dc:description/>
  <dc:language>en-US</dc:language>
  <cp:lastModifiedBy>Мама</cp:lastModifiedBy>
  <dcterms:modified xsi:type="dcterms:W3CDTF">2010-10-08T11:11:01Z</dcterms:modified>
  <cp:revision>24</cp:revision>
  <dc:subject/>
  <dc:title>Слайд 1</dc:title>
</cp:coreProperties>
</file>