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6.gif" ContentType="image/gif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4.wmf" ContentType="image/x-wmf"/>
  <Override PartName="/ppt/media/image3.gif" ContentType="image/gif"/>
  <Override PartName="/ppt/media/image12.png" ContentType="image/png"/>
  <Override PartName="/ppt/media/image7.png" ContentType="image/png"/>
  <Override PartName="/ppt/media/image4.gif" ContentType="image/gif"/>
  <Override PartName="/ppt/media/image9.jpeg" ContentType="image/jpeg"/>
  <Override PartName="/ppt/media/image11.jpeg" ContentType="image/jpeg"/>
  <Override PartName="/ppt/media/image8.png" ContentType="image/png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7C61-3B34-4AC1-A7C1-E7BE4EB4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A7C9-E11C-481C-9AFC-5189BA01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B315-E6CD-45C1-B500-14EA3522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094B-B0E2-43A1-9C1B-5A8F4A96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AB9-29C2-4FA7-B279-8304B4F7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E2B1-E198-48A0-8EE6-DC385746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7FCE-61AA-4E96-92BB-11F7F9DD4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BD55-080B-44DE-8F57-8356830A0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0A98-BA25-48C7-8C9A-9AC28A76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6440-0F23-4F64-995F-559D8B45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2B3E-4005-4565-9269-41003532E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6819-20F7-4413-8CB7-7A9E6CF84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9F74-B65E-4A11-9BBB-F8476D6B1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80880"/>
            <a:ext cx="685800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   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Закончи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стихотвор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080" y="1828800"/>
            <a:ext cx="2532240" cy="4419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4800600" y="3429000"/>
            <a:ext cx="3505320" cy="2803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066680" y="533520"/>
            <a:ext cx="1108080" cy="9604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391520" y="685800"/>
            <a:ext cx="1181160" cy="9446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611280" y="476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12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68360" y="1125360"/>
            <a:ext cx="4824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Выполни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цея №1589 г. Моск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арова Гали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564000" y="3500280"/>
            <a:ext cx="1998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-43920"/>
            <a:ext cx="8424720" cy="50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2520" rIns="825120" tIns="539640" bIns="228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Скромный серый колоб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линный тонкий провод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Ну а на коробке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Две или три кнопк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В зоопарке есть зайчишк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У компьютера есть 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  <a:ea typeface="Times New Roman"/>
              </a:rPr>
              <a:t>...</a:t>
            </a:r>
            <a:r>
              <a:rPr b="1" lang="en-US" sz="4000" spc="-1" strike="noStrike">
                <a:solidFill>
                  <a:srgbClr val="007f00"/>
                </a:solidFill>
                <a:latin typeface="Arial"/>
              </a:rPr>
              <a:t>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8200" y="531000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8200" y="74314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76720" y="2133720"/>
            <a:ext cx="541656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476280"/>
            <a:ext cx="766764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ловно смелый капитан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на нем - горит экр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Яркой радугой он дыши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на нем компьютер пише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рисует без запин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евозможные картинк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верху машины все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змещ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27640" y="1916280"/>
            <a:ext cx="4019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00000" y="692280"/>
          <a:ext cx="7632720" cy="324036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теперь, друзья, загадка!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то такое; рукоятка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нопки две, курок и хвостик?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у конечно, это ...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41608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765000"/>
            <a:ext cx="88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коло дисплея - главный блок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Там бежит электрот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самым важным микросхем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т блок зовут …………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11640" y="333360"/>
            <a:ext cx="35146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8360" y="333360"/>
            <a:ext cx="8136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клавишам прыг да скок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е-ре-ги но-го-ток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з-два и готово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тстукали слово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т где пальцам физкуль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вот - ....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6666120" cy="37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9640" y="549360"/>
          <a:ext cx="7777080" cy="4608000"/>
        </p:xfrm>
        <a:graphic>
          <a:graphicData uri="http://schemas.openxmlformats.org/drawingml/2006/table">
            <a:tbl>
              <a:tblPr/>
              <a:tblGrid>
                <a:gridCol w="7777080"/>
              </a:tblGrid>
              <a:tr h="46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ля чего же этот ящик?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н в себя бумагу тащит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сейчас же буквы, точки, Запятые - строчка к строчке -Напечатает картинку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вкий мастер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тот ….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08360" y="692280"/>
            <a:ext cx="467208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84360" y="549000"/>
            <a:ext cx="763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на как новая ком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 нам в жизнь стремительно летит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А имя просто ей -………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то информацию хран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ней записаны програм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 для мамы, и для пап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упаковке, как конфет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Быстро верти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56000" y="765000"/>
            <a:ext cx="5491080" cy="54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07560" y="475920"/>
            <a:ext cx="68605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 компьютеры пор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ворят между собо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о для этого од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м штуковина нуж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телефону подключи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общение получил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ещь, известная не всем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азывается ........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979640" y="1844640"/>
            <a:ext cx="63104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6:26:31Z</dcterms:created>
  <dc:creator>1</dc:creator>
  <dc:description/>
  <dc:language>en-US</dc:language>
  <cp:lastModifiedBy>Мама</cp:lastModifiedBy>
  <dcterms:modified xsi:type="dcterms:W3CDTF">2010-10-08T11:11:01Z</dcterms:modified>
  <cp:revision>24</cp:revision>
  <dc:subject/>
  <dc:title>Слайд 1</dc:title>
</cp:coreProperties>
</file>