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6.gif" ContentType="image/gif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14.wmf" ContentType="image/x-wmf"/>
  <Override PartName="/ppt/media/image3.gif" ContentType="image/gif"/>
  <Override PartName="/ppt/media/image12.png" ContentType="image/png"/>
  <Override PartName="/ppt/media/image7.png" ContentType="image/png"/>
  <Override PartName="/ppt/media/image4.gif" ContentType="image/gif"/>
  <Override PartName="/ppt/media/image9.jpeg" ContentType="image/jpeg"/>
  <Override PartName="/ppt/media/image11.jpeg" ContentType="image/jpeg"/>
  <Override PartName="/ppt/media/image8.png" ContentType="image/png"/>
  <Override PartName="/ppt/media/image5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573C-0867-4BE7-AA48-C408FD4AF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264D-ABE3-4CF8-8B66-9D2A3C7CF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716A-6449-4C0C-ACF1-4FA7B9661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0432-B1A8-4F78-84E2-0A992B9A2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95FF-388B-42A0-82AE-93BC99AEC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60D3-ADED-4D67-A03E-DFB24D03E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B358-7A27-4F01-8A98-A05455E7A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BE44-73DD-40A1-BE5B-B237F4A95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3561-A698-4AA0-829E-2167FAFDA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5378-6C1C-4388-BBF5-AD11EA57A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24C1-02AE-432B-AB9F-614809271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F98A-56F1-4A2D-882D-BC6DD7F29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F1F27-6F20-4ED0-BE74-606117D7AC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838080" y="380880"/>
            <a:ext cx="685800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     </a:t>
            </a: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Закончи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стихотворение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838080" y="1828800"/>
            <a:ext cx="2532240" cy="44197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4800600" y="3429000"/>
            <a:ext cx="3505320" cy="28036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1066680" y="533520"/>
            <a:ext cx="1108080" cy="9604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7391520" y="685800"/>
            <a:ext cx="1181160" cy="9446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611280" y="476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123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268360" y="1125360"/>
            <a:ext cx="48247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Выполнил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читель информа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ицея №1589 г. Москв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зарова Галина Алексе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3564000" y="3500280"/>
            <a:ext cx="199872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24000" y="-43920"/>
            <a:ext cx="8424720" cy="50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2520" rIns="825120" tIns="539640" bIns="2286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Скромный серый колобок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Длинный тонкий проводок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Ну а на коробке 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Две или три кнопк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В зоопарке есть зайчишка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У компьютера есть </a:t>
            </a:r>
            <a:r>
              <a:rPr b="1" lang="en-US" sz="4000" spc="-1" strike="noStrike">
                <a:solidFill>
                  <a:srgbClr val="007f00"/>
                </a:solidFill>
                <a:latin typeface="Arial"/>
                <a:ea typeface="Times New Roman"/>
              </a:rPr>
              <a:t>...</a:t>
            </a:r>
            <a:r>
              <a:rPr b="1" lang="en-US" sz="4000" spc="-1" strike="noStrike">
                <a:solidFill>
                  <a:srgbClr val="007f00"/>
                </a:solidFill>
                <a:latin typeface="Arial"/>
              </a:rPr>
              <a:t>....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38200" y="53100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8200" y="7431480"/>
            <a:ext cx="18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76720" y="2133720"/>
            <a:ext cx="5416560" cy="44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971640" y="476280"/>
            <a:ext cx="766764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ловно смелый капитан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А на нем - горит экран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Яркой радугой он дышит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И на нем компьютер пише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И рисует без запинк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севозможные картинки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Наверху машины всей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азмещается ........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427640" y="1916280"/>
            <a:ext cx="40194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900000" y="692280"/>
          <a:ext cx="7632720" cy="3240360"/>
        </p:xfrm>
        <a:graphic>
          <a:graphicData uri="http://schemas.openxmlformats.org/drawingml/2006/table">
            <a:tbl>
              <a:tblPr/>
              <a:tblGrid>
                <a:gridCol w="7632720"/>
              </a:tblGrid>
              <a:tr h="324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 теперь, друзья, загадка!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то такое; рукоятка.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нопки две, курок и хвостик?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у конечно, это ...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643280" y="333360"/>
            <a:ext cx="4160880" cy="61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24000" y="765000"/>
            <a:ext cx="8820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коло дисплея - главный блок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Там бежит электрот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К самым важным микросхема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Этот блок зовут …………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111640" y="333360"/>
            <a:ext cx="351468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68360" y="333360"/>
            <a:ext cx="8136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 клавишам прыг да скок 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Бе-ре-ги но-го-ток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аз-два и готово 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тстукали слово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от где пальцам физкульту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Это вот - ............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547640" y="2349360"/>
            <a:ext cx="6666120" cy="37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539640" y="549360"/>
          <a:ext cx="7777080" cy="4608000"/>
        </p:xfrm>
        <a:graphic>
          <a:graphicData uri="http://schemas.openxmlformats.org/drawingml/2006/table">
            <a:tbl>
              <a:tblPr/>
              <a:tblGrid>
                <a:gridCol w="7777080"/>
              </a:tblGrid>
              <a:tr h="460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ля чего же этот ящик?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н в себя бумагу тащит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 сейчас же буквы, точки, Запятые - строчка к строчке -Напечатает картинку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Ловкий мастер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Этот …..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708360" y="692280"/>
            <a:ext cx="467208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84360" y="549000"/>
            <a:ext cx="763272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на как новая коме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 нам в жизнь стремительно летит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А имя просто ей -………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Что информацию храни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 ней записаны программ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И для мамы, и для папы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 упаковке, как конфета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Быстро вертится ........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2556000" y="765000"/>
            <a:ext cx="5491080" cy="546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907560" y="475920"/>
            <a:ext cx="68605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И компьютеры порой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Говорят между собой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Но для этого одн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Им штуковина нужн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К телефону подключи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ообщение получил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Вещь, известная не всем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Называется ........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979640" y="1844640"/>
            <a:ext cx="631044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5T16:26:31Z</dcterms:created>
  <dc:creator>1</dc:creator>
  <dc:description/>
  <dc:language>en-US</dc:language>
  <cp:lastModifiedBy>Мама</cp:lastModifiedBy>
  <dcterms:modified xsi:type="dcterms:W3CDTF">2010-10-08T11:11:01Z</dcterms:modified>
  <cp:revision>24</cp:revision>
  <dc:subject/>
  <dc:title>Слайд 1</dc:title>
</cp:coreProperties>
</file>