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13.png" ContentType="image/png"/>
  <Override PartName="/ppt/media/image4.png" ContentType="image/png"/>
  <Override PartName="/ppt/media/image1.gif" ContentType="image/gif"/>
  <Override PartName="/ppt/media/image24.gif" ContentType="image/gif"/>
  <Override PartName="/ppt/media/image3.png" ContentType="image/png"/>
  <Override PartName="/ppt/media/image23.gif" ContentType="image/gif"/>
  <Override PartName="/ppt/media/whoosh.wav" ContentType="audio/x-wav"/>
  <Override PartName="/ppt/media/image5.png" ContentType="image/png"/>
  <Override PartName="/ppt/media/image25.gif" ContentType="image/gif"/>
  <Override PartName="/ppt/media/image2.png" ContentType="image/png"/>
  <Override PartName="/ppt/media/image26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2.png" ContentType="image/png"/>
  <Override PartName="/ppt/media/camera.wav" ContentType="audio/x-wav"/>
  <Override PartName="/ppt/media/image14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ABC-E2B5-4291-B947-DF94B7A9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72E-2FC5-4505-B87E-A8FD8D78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6389-83E2-43DB-B37F-BA1826A1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CB3-F5CA-4094-9668-6B62694F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27CB-EB00-4867-8C53-37BA74E2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FA05-0DA8-4AB8-8288-303BD431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E43C-6B21-496A-BA1A-7B396B94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D6BB-B92F-4004-808E-06C8B3D6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CBD5-2D2D-4A53-8CC2-1C8A1360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5243-1B53-45B9-B988-DBD8EF07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0185-39E9-4957-84EE-85117AAF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E0A7-5AD9-43F9-988C-33551D98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2BA3-08FB-4718-BF06-FC201880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B9DE-342B-4A81-9E58-DEDB89F7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CA97-DD1A-407D-9422-BA9515A2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9973-3A8F-4749-8866-AF34C23A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2FA8-1D11-4954-951C-E17B93D5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2A1-E7F3-4803-A16D-D996F22C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717-A01D-4DCB-8948-6530B18C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056F-3D43-4624-9CFB-3D38F632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F42-81C2-442D-9C89-E1F2C66E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938-403F-4398-B564-EA10FEB1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A0B-9C9F-4EAB-881D-2EF92E29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BF9-DD10-4397-A6D5-B73C03AC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6F15-284A-4AF7-97C8-B96917CA302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11C8-8D39-4D72-BE88-E62605A66EB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4.gif"/><Relationship Id="rId8" Type="http://schemas.openxmlformats.org/officeDocument/2006/relationships/image" Target="../media/image23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4.gi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hammer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50920" y="2421000"/>
            <a:ext cx="8064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мпьютерный верифика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4076640"/>
            <a:ext cx="72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Прочитав, скажи в отве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Слово «Да» иль слово «Нет»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8317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11280" y="33336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3)  Агентурная, торговая, рыболовная, любовная, паучья, локальная, глобальная, региональная, корпоративная, школьная, компьютер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427640" y="2421000"/>
            <a:ext cx="21286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ть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/>
          <p:nvPr/>
        </p:nvSpPr>
        <p:spPr>
          <a:xfrm>
            <a:off x="755640" y="328464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5640" y="40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4)  Физическое, логическое, полное, быстр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59280" y="537372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атировани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11280" y="260280"/>
            <a:ext cx="72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5)  Рублёный, декоративный, заголовочный, текстовый, масштабируемый, обычный, полужирный, типографский, набор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708360" y="2060640"/>
            <a:ext cx="27352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риф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328464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6)  Зелёный, шахматный, игровой, бортовой, карманный, домашний, главный, сетевой, аналоговый, цифровой, портативный, персональ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916360" y="508464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пьютер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11280" y="476280"/>
            <a:ext cx="66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7) Заработная, входная, достойная, высокая, своевременная, комбинированная, печатная, материнск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995640" y="1916280"/>
            <a:ext cx="27370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т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/>
          <p:nvPr/>
        </p:nvSpPr>
        <p:spPr>
          <a:xfrm>
            <a:off x="826920" y="3284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8)  Транспортная, лечебная, камерная, бескамерная, надувная, шипованная, электрическая, главная, локальная, универсальная, последовательная, адрес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59280" y="5300640"/>
            <a:ext cx="273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н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9640" y="33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9)  Иностранный, воздушный, морской, речной, торговый, коммуникационный, последовательный, параллельный, игрово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140360" y="2060640"/>
            <a:ext cx="2219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342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0)  Разнообразное, диетическое, ресторанное, выпадающее, вложенное, контекстн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ню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79280" y="26028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1) Узкий, широкий, символьный, строчный, страничный, матричный, струйный, лазерный, цветной, чёрно-белый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124000" y="2060640"/>
            <a:ext cx="4235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т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32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2) Неподвижный, подвижный, оконный, дверной, стеновой, левый, правый, системный …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о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00000" y="404640"/>
            <a:ext cx="4740480" cy="267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4932360" y="3357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2843280" y="18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1547640" y="335772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3348000" y="5157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8"/>
          <a:stretch/>
        </p:blipFill>
        <p:spPr>
          <a:xfrm>
            <a:off x="324000" y="501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6156360" y="51577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0"/>
          <a:stretch/>
        </p:blipFill>
        <p:spPr>
          <a:xfrm>
            <a:off x="179280" y="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1"/>
          <a:stretch/>
        </p:blipFill>
        <p:spPr>
          <a:xfrm>
            <a:off x="7596360" y="4076640"/>
            <a:ext cx="1223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11280" y="333360"/>
            <a:ext cx="4751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Назарова Галина Алексеевна, учитель информатики г. Москвы Лицея №1589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28526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В древности считали в двоичной системе счисления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1413000"/>
            <a:ext cx="20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234936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омпьютеры являются цифровыми устройств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95640" y="328464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4149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Информацию, хранимую в собственной памяти человека, можно назвать оперативной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140360" y="5445000"/>
            <a:ext cx="17478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Цифру ноль можно заменить прописной буквой «О»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84720" y="141300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335772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5)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Windows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опускает, чтобы на одном диске находились два файла с абсолютно одинаковыми имен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148360" y="5229360"/>
            <a:ext cx="1531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9640" y="404640"/>
            <a:ext cx="58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7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расота системного корпуса благоприятно влияет на качество и производительность персонального компью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427640" y="206064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14172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8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Если содержание двух файлов объединить в одном файле, то размер получившегося файла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может быть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меньше суммы размеров двух исходных файлов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716360" y="4797360"/>
            <a:ext cx="172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755640" y="33577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0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лавиатура компьютера изготовлена таким образом, что клавиши с буквами, имеющие большие частоты, находятся ближе к центру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788000" y="4797360"/>
            <a:ext cx="138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539640" y="404640"/>
            <a:ext cx="58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 материнской плате одного ПК можно присоединить жёсткий магнитный диск другого ПК и сделать так, чтобы на первом ПК было как бы два винчес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067280" y="2565360"/>
            <a:ext cx="1630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" y="393372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Благодаря Интернету, родные и друзья заключённых в тюрьмы в Страсбурге могут ознакомиться с условиями содержания близких, не выходя из дом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80000" y="5589720"/>
            <a:ext cx="1387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68360" y="26028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18900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3) У первых версий некоторых ПК отсутствовали жёсткие магнитные диск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95640" y="155736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5" name=""/>
          <p:cNvSpPr/>
          <p:nvPr/>
        </p:nvSpPr>
        <p:spPr>
          <a:xfrm>
            <a:off x="684360" y="270828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14) Клавиша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&lt;End&gt;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на клавиатуре ПК прекращает выполнение любой программы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427640" y="371628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4724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5) Люди являются аналоговыми устройствам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588000" y="530064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8360" y="2349360"/>
            <a:ext cx="81360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огика настоящег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граммис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/>
          <p:nvPr/>
        </p:nvSpPr>
        <p:spPr>
          <a:xfrm>
            <a:off x="1908000" y="4437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Отгадай слово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0920" y="5229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( Здесь необходимо отгадать компьютерный термин или понятие информатики)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6123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82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4360" y="549360"/>
            <a:ext cx="67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Своевременная, объективная, ложная, проверенная, полная, секретная, массовая, генетическая, газетная, телевизионная, научно-техническая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780000" y="2421000"/>
            <a:ext cx="367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3716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2) Текстовый, графический, программный, системный, исполняемый, командный, пакетный, скрытый, архив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859280" y="5373720"/>
            <a:ext cx="22478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йл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8:33:41Z</dcterms:created>
  <dc:creator>1</dc:creator>
  <dc:description/>
  <dc:language>en-US</dc:language>
  <cp:lastModifiedBy>K49</cp:lastModifiedBy>
  <dcterms:modified xsi:type="dcterms:W3CDTF">2010-10-08T10:56:16Z</dcterms:modified>
  <cp:revision>293</cp:revision>
  <dc:subject/>
  <dc:title>Слайд 1</dc:title>
</cp:coreProperties>
</file>