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13.png" ContentType="image/png"/>
  <Override PartName="/ppt/media/image4.png" ContentType="image/png"/>
  <Override PartName="/ppt/media/image1.gif" ContentType="image/gif"/>
  <Override PartName="/ppt/media/image24.gif" ContentType="image/gif"/>
  <Override PartName="/ppt/media/image3.png" ContentType="image/png"/>
  <Override PartName="/ppt/media/image23.gif" ContentType="image/gif"/>
  <Override PartName="/ppt/media/whoosh.wav" ContentType="audio/x-wav"/>
  <Override PartName="/ppt/media/image5.png" ContentType="image/png"/>
  <Override PartName="/ppt/media/image25.gif" ContentType="image/gif"/>
  <Override PartName="/ppt/media/image2.png" ContentType="image/png"/>
  <Override PartName="/ppt/media/image26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2.png" ContentType="image/png"/>
  <Override PartName="/ppt/media/camera.wav" ContentType="audio/x-wav"/>
  <Override PartName="/ppt/media/image14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779-51A4-4845-80A6-7541A263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F5C-FE1C-44AA-9F5D-44FBA1AF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9CE-C89A-457B-BC35-D34FA7AD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7D8-07C3-421B-99F4-B1287A02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C0C5-913C-4902-9A46-BAC9D471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1216-4299-456D-AF4F-28BA9C28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6257-4444-48DA-A940-6B668D19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EF1A-9239-436C-B7DC-24C196D9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F698-F99D-4E2D-9123-805B1A39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233C-49E5-4C0C-A955-7096CEFC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FAAB-B26E-4DF4-93B6-3300F9B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2E3-8AF6-432C-98E0-C78CE0F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45F6-6A43-4AAA-A081-3B5E0F47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DCC9-5237-4155-B2CB-04F8A7D6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AD94-54A8-4BCF-8E48-0EF75AD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F15-3BB5-4139-9EDB-1DBA66CE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F31F-9994-4B71-9468-8DD0728C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371-1B26-49D7-96B3-1BEC37F9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7FB3-CE53-48F1-8262-C6E7D068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624-A036-48A6-8C31-AECDFA2E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BE2-25D0-4D88-ACDE-EFF46DF3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B14E-AD50-434B-9B8A-1DDC487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BB6-0605-49FA-BE78-B6C6184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FDC9-A34A-4DF6-AE2C-79579DAF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6F9C-6972-49B7-A4FC-818E8F5EFD7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130-D3A7-4949-A02B-BB9BC1F524B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4.gif"/><Relationship Id="rId8" Type="http://schemas.openxmlformats.org/officeDocument/2006/relationships/image" Target="../media/image23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image" Target="../media/image24.gif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audio" Target="../media/hammer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audio" Target="../media/hammer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920" y="2421000"/>
            <a:ext cx="806436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пьютерный верифика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4076640"/>
            <a:ext cx="727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Прочитав, скажи в ответ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Слово «Да» иль слово «Нет»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8317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11280" y="33336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3)  Агентурная, торговая, рыболовная, любовная, паучья, локальная, глобальная, региональная, корпоративная, школьная, компьютер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427640" y="2421000"/>
            <a:ext cx="21286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ть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/>
          <p:nvPr/>
        </p:nvSpPr>
        <p:spPr>
          <a:xfrm>
            <a:off x="755640" y="328464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40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4)  Физическое, логическое, полное, быстр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59280" y="537372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орматирование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11280" y="260280"/>
            <a:ext cx="72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5)  Рублёный, декоративный, заголовочный, текстовый, масштабируемый, обычный, полужирный, типографский, набор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708360" y="2060640"/>
            <a:ext cx="27352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риф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755640" y="3284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6)  Зелёный, шахматный, игровой, бортовой, карманный, домашний, главный, сетевой, аналоговый, цифровой, портативный, персональ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2916360" y="5084640"/>
            <a:ext cx="561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мпьютер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11280" y="476280"/>
            <a:ext cx="66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7) Заработная, входная, достойная, высокая, своевременная, комбинированная, печатная, материнск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995640" y="1916280"/>
            <a:ext cx="2737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т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826920" y="3284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8)  Транспортная, лечебная, камерная, бескамерная, надувная, шипованная, электрическая, главная, локальная, универсальная, последовательная, адресная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5300640"/>
            <a:ext cx="273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шин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539640" y="33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9)  Иностранный, воздушный, морской, речной, торговый, коммуникационный, последовательный, параллельный, игрово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140360" y="2060640"/>
            <a:ext cx="22190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3429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0)  Разнообразное, диетическое, ресторанное, выпадающее, вложенное, контекстное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ю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79280" y="2602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1) Узкий, широкий, символьный, строчный, страничный, матричный, струйный, лазерный, цветной, чёрно-белый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124000" y="2060640"/>
            <a:ext cx="4235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нт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6" name=""/>
          <p:cNvSpPr/>
          <p:nvPr/>
        </p:nvSpPr>
        <p:spPr>
          <a:xfrm>
            <a:off x="324000" y="32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2) Неподвижный, подвижный, оконный, дверной, стеновой, левый, правый, системный …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4869000"/>
            <a:ext cx="2160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ло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900000" y="404640"/>
            <a:ext cx="4740480" cy="267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2843280" y="189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1547640" y="335772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3348000" y="5157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8"/>
          <a:stretch/>
        </p:blipFill>
        <p:spPr>
          <a:xfrm>
            <a:off x="324000" y="501336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9"/>
          <a:stretch/>
        </p:blipFill>
        <p:spPr>
          <a:xfrm>
            <a:off x="6156360" y="515772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0"/>
          <a:stretch/>
        </p:blipFill>
        <p:spPr>
          <a:xfrm>
            <a:off x="179280" y="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1"/>
          <a:stretch/>
        </p:blipFill>
        <p:spPr>
          <a:xfrm>
            <a:off x="7596360" y="4076640"/>
            <a:ext cx="1223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11280" y="333360"/>
            <a:ext cx="4751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Назарова Галина Алексеевна, учитель информатики г. Москвы Лицея №1589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708360" y="2349360"/>
            <a:ext cx="285264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В древности считали в двоичной системе счисления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1413000"/>
            <a:ext cx="2087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4" name=""/>
          <p:cNvSpPr/>
          <p:nvPr/>
        </p:nvSpPr>
        <p:spPr>
          <a:xfrm>
            <a:off x="684360" y="234936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омпьютеры являются цифровыми устройств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95640" y="328464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84360" y="4149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3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Информацию, хранимую в собственной памяти человека, можно назвать оперативной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140360" y="5445000"/>
            <a:ext cx="17478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539640" y="404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4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Цифру ноль можно заменить прописной буквой «О»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4720" y="1413000"/>
            <a:ext cx="172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335772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5)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Windows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допускает, чтобы на одном диске находились два файла с абсолютно одинаковыми именами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148360" y="5229360"/>
            <a:ext cx="15318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9640" y="404640"/>
            <a:ext cx="58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7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расота системного корпуса благоприятно влияет на качество и производительность персонального компью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427640" y="206064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314172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8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Если содержание двух файлов объединить в одном файле, то размер получившегося файла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может быть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меньше суммы размеров двух исходных файлов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716360" y="4797360"/>
            <a:ext cx="1727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755640" y="335772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0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лавиатура компьютера изготовлена таким образом, что клавиши с буквами, имеющие большие частоты, находятся ближе к центру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788000" y="4797360"/>
            <a:ext cx="1387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539640" y="404640"/>
            <a:ext cx="58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1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К материнской плате одного ПК можно присоединить жёсткий магнитный диск другого ПК и сделать так, чтобы на первом ПК было как бы два винчестера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067280" y="2565360"/>
            <a:ext cx="16300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" y="3933720"/>
            <a:ext cx="77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2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Благодаря Интернету, родные и друзья заключённых в тюрьмы в Страсбурге могут ознакомиться с условиями содержания близких, не выходя из дом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0000" y="5589720"/>
            <a:ext cx="1387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468360" y="26028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18900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3) У первых версий некоторых ПК отсутствовали жёсткие магнитные диск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95640" y="155736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5" name=""/>
          <p:cNvSpPr/>
          <p:nvPr/>
        </p:nvSpPr>
        <p:spPr>
          <a:xfrm>
            <a:off x="684360" y="270828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14) Клавиша 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&lt;End&gt; </a:t>
            </a:r>
            <a:r>
              <a:rPr b="1" lang="ru-RU" sz="2400" spc="-1" strike="noStrike">
                <a:solidFill>
                  <a:srgbClr val="ffcc00"/>
                </a:solidFill>
                <a:latin typeface="Arial Black"/>
              </a:rPr>
              <a:t>на клавиатуре ПК прекращает выполнение любой программы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27640" y="3716280"/>
            <a:ext cx="18478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472428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15) Люди являются аналоговыми устройствам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588000" y="5300640"/>
            <a:ext cx="1630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360" y="2349360"/>
            <a:ext cx="8136000" cy="18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огика настоящег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f273e"/>
                    </a:gs>
                    <a:gs pos="100000">
                      <a:srgbClr val="32f8f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граммис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f273e"/>
                  </a:gs>
                  <a:gs pos="100000">
                    <a:srgbClr val="32f8f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/>
          <p:nvPr/>
        </p:nvSpPr>
        <p:spPr>
          <a:xfrm>
            <a:off x="1908000" y="443700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«</a:t>
            </a: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Отгадай слово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»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0920" y="5229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( Здесь необходимо отгадать компьютерный термин или понятие информатики)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172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6123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82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4360" y="549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) Своевременная, объективная, ложная, проверенная, полная, секретная, массовая, генетическая, газетная, телевизионная, научно-техническая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80000" y="2421000"/>
            <a:ext cx="3671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/>
          <p:nvPr/>
        </p:nvSpPr>
        <p:spPr>
          <a:xfrm>
            <a:off x="684360" y="371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2) Текстовый, графический, программный, системный, исполняемый, командный, пакетный, скрытый, архивный ….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859280" y="5373720"/>
            <a:ext cx="22478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айл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18:33:41Z</dcterms:created>
  <dc:creator>1</dc:creator>
  <dc:description/>
  <dc:language>en-US</dc:language>
  <cp:lastModifiedBy>K49</cp:lastModifiedBy>
  <dcterms:modified xsi:type="dcterms:W3CDTF">2010-10-08T10:56:16Z</dcterms:modified>
  <cp:revision>293</cp:revision>
  <dc:subject/>
  <dc:title>Слайд 1</dc:title>
</cp:coreProperties>
</file>