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13.png" ContentType="image/png"/>
  <Override PartName="/ppt/media/image4.png" ContentType="image/png"/>
  <Override PartName="/ppt/media/image1.gif" ContentType="image/gif"/>
  <Override PartName="/ppt/media/image24.gif" ContentType="image/gif"/>
  <Override PartName="/ppt/media/image3.png" ContentType="image/png"/>
  <Override PartName="/ppt/media/image23.gif" ContentType="image/gif"/>
  <Override PartName="/ppt/media/whoosh.wav" ContentType="audio/x-wav"/>
  <Override PartName="/ppt/media/image5.png" ContentType="image/png"/>
  <Override PartName="/ppt/media/image25.gif" ContentType="image/gif"/>
  <Override PartName="/ppt/media/image2.png" ContentType="image/png"/>
  <Override PartName="/ppt/media/image26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2.png" ContentType="image/png"/>
  <Override PartName="/ppt/media/camera.wav" ContentType="audio/x-wav"/>
  <Override PartName="/ppt/media/image14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E19-9506-4B86-947A-CAF3F565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9FE-90DF-4D5B-B834-F20FC6DE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7E0-A958-4A94-9B05-788E0B44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925-7C06-47D8-BFE9-3C65E519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EDAF-E12E-4EB4-8BF4-F6F6614D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F514-061F-425F-810E-DC859C25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9124-6C8B-43D9-BBDD-B38D27D8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C912-54A8-4EEB-9006-363B5663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F94E-D338-4B81-989F-6551DF27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54A7-B250-4E8E-B2A2-1AF90B5B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EFFF-7058-4784-B2F2-862DA143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B20-55CA-404D-B8BA-E58E4AAC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DD41-905D-4B6E-A812-008BA8CF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5ACF-1DFC-46E6-B17A-3FBF3419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09C9-2CDF-4841-9EE4-33D39F49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50F2-F79F-4C27-8C5C-9B1D4E1B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A083-C178-41C1-87D1-9F6B8311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D58-027B-464E-B92F-B19F7742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033-8F09-4E8B-9F8C-E09F91BF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F41-5D3F-4A80-B39A-8FE9853F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C4A-8F78-4C4E-B769-479A496C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458-D1A4-4F36-BCF7-A5E3D6B8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F0E-E0BD-4FCB-B694-F0B43B03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DED-8E34-4BB5-91D5-EF259CEE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75DD-1B20-4AB7-B08F-A8FE560CC45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75AA-B870-415C-BE88-CE22449B437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4.gif"/><Relationship Id="rId8" Type="http://schemas.openxmlformats.org/officeDocument/2006/relationships/image" Target="../media/image23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4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hammer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920" y="2421000"/>
            <a:ext cx="8064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мпьютерный верифик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407664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Прочитав, скажи в отве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Слово «Да» иль слово «Нет»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1280" y="33336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3)  Агентурная, торговая, рыболовная, любовная, паучья, локальная, глобальная, региональная, корпоративная, школьная, компьютер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427640" y="2421000"/>
            <a:ext cx="21286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т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/>
          <p:nvPr/>
        </p:nvSpPr>
        <p:spPr>
          <a:xfrm>
            <a:off x="755640" y="328464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40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4)  Физическое, логическое, полное, быстр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59280" y="537372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атировани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1280" y="260280"/>
            <a:ext cx="72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5)  Рублёный, декоративный, заголовочный, текстовый, масштабируемый, обычный, полужирный, типографский, набор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08360" y="2060640"/>
            <a:ext cx="27352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риф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3284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6)  Зелёный, шахматный, игровой, бортовой, карманный, домашний, главный, сетевой, аналоговый, цифровой, портативный, персональ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916360" y="508464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11280" y="476280"/>
            <a:ext cx="66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7) Заработная, входная, достойная, высокая, своевременная, комбинированная, печатная, материнск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995640" y="1916280"/>
            <a:ext cx="2737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т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826920" y="3284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8)  Транспортная, лечебная, камерная, бескамерная, надувная, шипованная, электрическая, главная, локальная, универсальная, последовательная, адрес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5300640"/>
            <a:ext cx="27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33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9)  Иностранный, воздушный, морской, речной, торговый, коммуникационный, последовательный, параллельный, игрово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0360" y="2060640"/>
            <a:ext cx="2219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0)  Разнообразное, диетическое, ресторанное, выпадающее, вложенное, контекстн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ю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79280" y="260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1) Узкий, широкий, символьный, строчный, страничный, матричный, струйный, лазерный, цветной, чёрно-белый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24000" y="2060640"/>
            <a:ext cx="4235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т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32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2) Неподвижный, подвижный, оконный, дверной, стеновой, левый, правый, системный …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о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00000" y="404640"/>
            <a:ext cx="4740480" cy="267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932360" y="33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843280" y="18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547640" y="335772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3348000" y="5157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8"/>
          <a:stretch/>
        </p:blipFill>
        <p:spPr>
          <a:xfrm>
            <a:off x="324000" y="501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6156360" y="5157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179280" y="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1"/>
          <a:stretch/>
        </p:blipFill>
        <p:spPr>
          <a:xfrm>
            <a:off x="7596360" y="407664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11280" y="333360"/>
            <a:ext cx="4751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Назарова Галина Алексеевна, учитель информатики г. Москвы Лицея №1589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28526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В древности считали в двоичной системе счисления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1413000"/>
            <a:ext cx="20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2349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омпьютеры являются цифровыми устройств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95640" y="328464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4149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Информацию, хранимую в собственной памяти человека, можно назвать оперативной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40360" y="5445000"/>
            <a:ext cx="1747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Цифру ноль можно заменить прописной буквой «О»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4720" y="141300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3357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)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Windows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опускает, чтобы на одном диске находились два файла с абсолютно одинаковыми имен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148360" y="5229360"/>
            <a:ext cx="1531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9640" y="40464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расота системного корпуса благоприятно влияет на качество и производительность персонального компью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427640" y="206064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14172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Если содержание двух файлов объединить в одном файле, то размер получившегося файла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может быт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меньше суммы размеров двух исходных файлов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716360" y="4797360"/>
            <a:ext cx="17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55640" y="3357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лавиатура компьютера изготовлена таким образом, что клавиши с буквами, имеющие большие частоты, находятся ближе к центру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788000" y="4797360"/>
            <a:ext cx="138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404640"/>
            <a:ext cx="58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 материнской плате одного ПК можно присоединить жёсткий магнитный диск другого ПК и сделать так, чтобы на первом ПК было как бы два винчес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67280" y="2565360"/>
            <a:ext cx="1630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393372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Благодаря Интернету, родные и друзья заключённых в тюрьмы в Страсбурге могут ознакомиться с условиями содержания близких, не выходя из дом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80000" y="5589720"/>
            <a:ext cx="138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68360" y="26028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189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3) У первых версий некоторых ПК отсутствовали жёсткие магнитные диск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640" y="155736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270828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14) Клавиша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&lt;End&gt;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на клавиатуре ПК прекращает выполнение любой программы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427640" y="371628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4724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5) Люди являются аналоговыми устройствам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588000" y="530064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2349360"/>
            <a:ext cx="8136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гика настояще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44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Отгадай слово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522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( Здесь необходимо отгадать компьютерный термин или понятие информатики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6123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8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4360" y="549360"/>
            <a:ext cx="67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Своевременная, объективная, ложная, проверенная, полная, секретная, массовая, генетическая, газетная, телевизионная, научно-техническая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780000" y="2421000"/>
            <a:ext cx="367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371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2) Текстовый, графический, программный, системный, исполняемый, командный, пакетный, скрытый, архив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859280" y="5373720"/>
            <a:ext cx="2247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йл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33:41Z</dcterms:created>
  <dc:creator>1</dc:creator>
  <dc:description/>
  <dc:language>en-US</dc:language>
  <cp:lastModifiedBy>K49</cp:lastModifiedBy>
  <dcterms:modified xsi:type="dcterms:W3CDTF">2010-10-08T10:56:16Z</dcterms:modified>
  <cp:revision>293</cp:revision>
  <dc:subject/>
  <dc:title>Слайд 1</dc:title>
</cp:coreProperties>
</file>