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13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1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3F7-2B70-414A-B435-7F0B4B7F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81B-B204-4529-9E67-090A41FB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A88-0799-47E9-8E23-B531A26C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39C-CC72-4F79-8C41-FC037121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9D62-24DE-4363-84B1-4BD9E418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796D-C8D8-40CE-AF37-AA73CEA8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0B46-AEAE-44CE-B2E0-48C6A589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D6E7-DEFA-45D3-94A9-CF2AEAF4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9EE1-FDE6-4892-90E7-8B8A7B17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B25E-6DA4-4B55-86F2-F5A68C04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590E-1FF4-4E8B-BBC5-57911292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50F-8C4E-47DE-BBFC-51373236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6076-3305-4D94-8E09-2163368E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F469-4D4B-4B39-A072-5D39A8F9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73E8-6FD2-45B3-B065-ABC89080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25DE-4AB9-47C4-87F3-87416D17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11FC-57F8-4DF5-8E2B-A764FBDB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367-C693-4B61-9C2B-EE5BF100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204-A0E0-4AEA-BC74-CEE62BAC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8DB-AE6A-4E8F-BB27-21F584CF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E38-5C7F-4536-B87B-A83FD51A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083-9A95-425B-AF0A-88504BE2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252-2D64-4BF6-B898-8E4CDB94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F0B-E638-4B4A-917A-C512C6B0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85DF-E03A-4C4A-BC09-79744A38C47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B93C-5ECE-456B-9E25-940DCEDB2C5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4.gif"/><Relationship Id="rId8" Type="http://schemas.openxmlformats.org/officeDocument/2006/relationships/image" Target="../media/image23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421000"/>
            <a:ext cx="8064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пьютерный верифик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0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Прочитав, скажи в отве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лово «Да» иль слово «Нет»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333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)  Агентурная, торговая, рыболовная, любовная, паучья, локальная, глобальная, региональная, корпоративная, школьная, компьютер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7640" y="2421000"/>
            <a:ext cx="2128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40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)  Физическое, логическое, полное, быстр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59280" y="537372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26028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)  Рублёный, декоративный, заголовочный, текстовый, масштабируемый, обычный, полужирный, типографский, набор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08360" y="2060640"/>
            <a:ext cx="2735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риф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328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6)  Зелёный, шахматный, игровой, бортовой, карманный, домашний, главный, сетевой, аналоговый, цифровой, портативный, персональ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16360" y="508464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11280" y="476280"/>
            <a:ext cx="66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7) Заработная, входная, достойная, высокая, своевременная, комбинированная, печатная, материнск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95640" y="1916280"/>
            <a:ext cx="2737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3284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8)  Транспортная, лечебная, камерная, бескамерная, надувная, шипованная, электрическая, главная, локальная, универсальная, последовательная, адрес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5300640"/>
            <a:ext cx="27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33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9)  Иностранный, воздушный, морской, речной, торговый, коммуникационный, последовательный, параллельный, игрово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060640"/>
            <a:ext cx="2219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0)  Разнообразное, диетическое, ресторанное, выпадающее, вложенное, контекстн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ю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260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1) Узкий, широкий, символьный, строчный, страничный, матричный, струйный, лазерный, цветной, чёрно-белый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24000" y="2060640"/>
            <a:ext cx="4235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т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2) Неподвижный, подвижный, оконный, дверной, стеновой, левый, правый, системный …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00000" y="404640"/>
            <a:ext cx="4740480" cy="267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843280" y="18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547640" y="335772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3348000" y="5157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179280" y="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7596360" y="4076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11280" y="333360"/>
            <a:ext cx="475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Назарова Галина Алексеевна, учитель информатики г. Москвы Лицея №1589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2852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В древности считали в двоичной системе счисления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141300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23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омпьютеры являются цифровыми устройств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95640" y="328464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14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Информацию, хранимую в собственной памяти человека, можно назвать оперативной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5445000"/>
            <a:ext cx="174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Цифру ноль можно заменить прописной буквой «О»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720" y="141300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3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)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Windows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опускает, чтобы на одном диске находились два файла с абсолютно одинаковыми имен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48360" y="5229360"/>
            <a:ext cx="153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9640" y="404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расота системного корпуса благоприятно влияет на качество и производительность персонального компью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427640" y="206064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1417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Если содержание двух файлов объединить в одном файле, то размер получившегося файла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может быт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меньше суммы размеров двух исходных файлов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716360" y="479736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3357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лавиатура компьютера изготовлена таким образом, что клавиши с буквами, имеющие большие частоты, находятся ближе к центру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788000" y="4797360"/>
            <a:ext cx="138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40464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 материнской плате одного ПК можно присоединить жёсткий магнитный диск другого ПК и сделать так, чтобы на первом ПК было как бы два винчес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67280" y="2565360"/>
            <a:ext cx="1630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Благодаря Интернету, родные и друзья заключённых в тюрьмы в Страсбурге могут ознакомиться с условиями содержания близких, не выходя из дом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0000" y="5589720"/>
            <a:ext cx="138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68360" y="260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8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3) У первых версий некоторых ПК отсутствовали жёсткие магнитные диск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640" y="155736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270828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14) Клавиша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&lt;End&gt;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на клавиатуре ПК прекращает выполнение любой программ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27640" y="371628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724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5) Люди являются аналоговыми устройствам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0" y="530064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2349360"/>
            <a:ext cx="8136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ка настояще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тгадай слово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522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Здесь необходимо отгадать компьютерный термин или понятие информатики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6123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549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воевременная, объективная, ложная, проверенная, полная, секретная, массовая, генетическая, газетная, телевизионная, научно-техническая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80000" y="2421000"/>
            <a:ext cx="36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71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) Текстовый, графический, программный, системный, исполняемый, командный, пакетный, скрытый, архив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59280" y="5373720"/>
            <a:ext cx="2247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33:41Z</dcterms:created>
  <dc:creator>1</dc:creator>
  <dc:description/>
  <dc:language>en-US</dc:language>
  <cp:lastModifiedBy>K49</cp:lastModifiedBy>
  <dcterms:modified xsi:type="dcterms:W3CDTF">2010-10-08T10:56:16Z</dcterms:modified>
  <cp:revision>293</cp:revision>
  <dc:subject/>
  <dc:title>Слайд 1</dc:title>
</cp:coreProperties>
</file>