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7.png" ContentType="image/png"/>
  <Override PartName="/ppt/media/hammer.wav" ContentType="audio/x-wav"/>
  <Override PartName="/ppt/media/image13.png" ContentType="image/png"/>
  <Override PartName="/ppt/media/image4.png" ContentType="image/png"/>
  <Override PartName="/ppt/media/image1.gif" ContentType="image/gif"/>
  <Override PartName="/ppt/media/image24.gif" ContentType="image/gif"/>
  <Override PartName="/ppt/media/image3.png" ContentType="image/png"/>
  <Override PartName="/ppt/media/image23.gif" ContentType="image/gif"/>
  <Override PartName="/ppt/media/whoosh.wav" ContentType="audio/x-wav"/>
  <Override PartName="/ppt/media/image5.png" ContentType="image/png"/>
  <Override PartName="/ppt/media/image25.gif" ContentType="image/gif"/>
  <Override PartName="/ppt/media/image2.png" ContentType="image/png"/>
  <Override PartName="/ppt/media/image26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2.png" ContentType="image/png"/>
  <Override PartName="/ppt/media/camera.wav" ContentType="audio/x-wav"/>
  <Override PartName="/ppt/media/image14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E536-84D6-41F9-9C2E-45C15827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4FED-B5D1-4DBE-A22E-DED68796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F816-03C5-4B20-A71C-816FA0145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4187-FBBE-45F6-8363-F23B25E5B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6C50-1C4B-4E24-BFC2-9038A2980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9204-5C8F-4FDA-99C6-B162CF35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5597-D926-4993-9B1B-14C0AFBB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BC09-B9AB-485B-86A1-BE4CA3A4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0B03-3B5F-48C3-9E2D-DC097145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ACB4-02EF-4BB0-8FB6-0AF75B3A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8821-CB4B-4C57-BAE3-11006E6A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29F4-7EB5-4DD9-8B60-5433AB42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A9AD-4511-436A-8EEE-FA6D7087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8AD6-7264-4835-9F91-1ECACA08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67B1-FF0A-4DF1-8753-A2770AC0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89AF-32F7-45E4-9014-F60261234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125E-D517-4DB8-8313-BF5B7F9FE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9F89-5468-4287-A6CC-7C933C94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CFA6-3800-4952-B3DA-D92B43A7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1725-65E8-4CB2-8B18-49BB849D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F613-79D2-4576-B7A4-730C8E2C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E970-EFB3-4C3D-8383-96F099CF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08CD-249D-4270-91D2-14F58D20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C640-3C03-440F-BABF-77FD86AF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5FA9-5DC7-4A38-B396-0FB59470F78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D38F-B086-4218-9F4C-305B1410AB7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3.gif"/><Relationship Id="rId5" Type="http://schemas.openxmlformats.org/officeDocument/2006/relationships/image" Target="../media/image24.gif"/><Relationship Id="rId6" Type="http://schemas.openxmlformats.org/officeDocument/2006/relationships/image" Target="../media/image25.gif"/><Relationship Id="rId7" Type="http://schemas.openxmlformats.org/officeDocument/2006/relationships/image" Target="../media/image24.gif"/><Relationship Id="rId8" Type="http://schemas.openxmlformats.org/officeDocument/2006/relationships/image" Target="../media/image23.gif"/><Relationship Id="rId9" Type="http://schemas.openxmlformats.org/officeDocument/2006/relationships/image" Target="../media/image25.gif"/><Relationship Id="rId10" Type="http://schemas.openxmlformats.org/officeDocument/2006/relationships/image" Target="../media/image25.gif"/><Relationship Id="rId11" Type="http://schemas.openxmlformats.org/officeDocument/2006/relationships/image" Target="../media/image24.gif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audio" Target="../media/hammer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audio" Target="../media/hammer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audio" Target="../media/hammer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audio" Target="../media/hammer.wav"/><Relationship Id="rId9" Type="http://schemas.openxmlformats.org/officeDocument/2006/relationships/audio" Target="../media/hammer.wav"/><Relationship Id="rId10" Type="http://schemas.openxmlformats.org/officeDocument/2006/relationships/audio" Target="../media/hammer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250920" y="2421000"/>
            <a:ext cx="806436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омпьютерный верификато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87280" y="4076640"/>
            <a:ext cx="7272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Прочитав, скажи в ответ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Слово «Да» иль слово «Нет»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831708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123" fill="hold"/>
                                        <p:tgtEl>
                                          <p:spTgt spid="3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11280" y="333360"/>
            <a:ext cx="67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3)  Агентурная, торговая, рыболовная, любовная, паучья, локальная, глобальная, региональная, корпоративная, школьная, компьютерная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427640" y="2421000"/>
            <a:ext cx="21286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ть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9" name=""/>
          <p:cNvSpPr/>
          <p:nvPr/>
        </p:nvSpPr>
        <p:spPr>
          <a:xfrm>
            <a:off x="755640" y="3284640"/>
            <a:ext cx="72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55640" y="4005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4)  Физическое, логическое, полное, быстрое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059280" y="5373720"/>
            <a:ext cx="5616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орматирование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11280" y="260280"/>
            <a:ext cx="727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5)  Рублёный, декоративный, заголовочный, текстовый, масштабируемый, обычный, полужирный, типографский, наборны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708360" y="2060640"/>
            <a:ext cx="273528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риф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4" name=""/>
          <p:cNvSpPr/>
          <p:nvPr/>
        </p:nvSpPr>
        <p:spPr>
          <a:xfrm>
            <a:off x="755640" y="3284640"/>
            <a:ext cx="770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6)  Зелёный, шахматный, игровой, бортовой, карманный, домашний, главный, сетевой, аналоговый, цифровой, портативный, персональны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916360" y="5084640"/>
            <a:ext cx="5616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мпьютер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11280" y="476280"/>
            <a:ext cx="669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7) Заработная, входная, достойная, высокая, своевременная, комбинированная, печатная, материнская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995640" y="1916280"/>
            <a:ext cx="27370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ат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8" name=""/>
          <p:cNvSpPr/>
          <p:nvPr/>
        </p:nvSpPr>
        <p:spPr>
          <a:xfrm>
            <a:off x="826920" y="3284640"/>
            <a:ext cx="749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8)  Транспортная, лечебная, камерная, бескамерная, надувная, шипованная, электрическая, главная, локальная, универсальная, последовательная, адресная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859280" y="5300640"/>
            <a:ext cx="2737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ин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539640" y="333360"/>
            <a:ext cx="70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9)  Иностранный, воздушный, морской, речной, торговый, коммуникационный, последовательный, параллельный, игрово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140360" y="2060640"/>
            <a:ext cx="22190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р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2" name=""/>
          <p:cNvSpPr/>
          <p:nvPr/>
        </p:nvSpPr>
        <p:spPr>
          <a:xfrm>
            <a:off x="611280" y="3429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0)  Разнообразное, диетическое, ресторанное, выпадающее, вложенное, контекстное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00720" y="4869000"/>
            <a:ext cx="216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ню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79280" y="260280"/>
            <a:ext cx="712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1) Узкий, широкий, символьный, строчный, страничный, матричный, струйный, лазерный, цветной, чёрно-белый ……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2124000" y="2060640"/>
            <a:ext cx="42354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нтер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6" name=""/>
          <p:cNvSpPr/>
          <p:nvPr/>
        </p:nvSpPr>
        <p:spPr>
          <a:xfrm>
            <a:off x="324000" y="3284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2) Неподвижный, подвижный, оконный, дверной, стеновой, левый, правый, системный ……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00720" y="4869000"/>
            <a:ext cx="216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лок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900000" y="404640"/>
            <a:ext cx="4740480" cy="267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4"/>
          <a:stretch/>
        </p:blipFill>
        <p:spPr>
          <a:xfrm>
            <a:off x="4932360" y="335772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5"/>
          <a:stretch/>
        </p:blipFill>
        <p:spPr>
          <a:xfrm>
            <a:off x="2843280" y="189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6"/>
          <a:stretch/>
        </p:blipFill>
        <p:spPr>
          <a:xfrm>
            <a:off x="1547640" y="3357720"/>
            <a:ext cx="1366920" cy="136656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7"/>
          <a:stretch/>
        </p:blipFill>
        <p:spPr>
          <a:xfrm>
            <a:off x="3348000" y="5157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8"/>
          <a:stretch/>
        </p:blipFill>
        <p:spPr>
          <a:xfrm>
            <a:off x="324000" y="50133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9"/>
          <a:stretch/>
        </p:blipFill>
        <p:spPr>
          <a:xfrm>
            <a:off x="6156360" y="515772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10"/>
          <a:stretch/>
        </p:blipFill>
        <p:spPr>
          <a:xfrm>
            <a:off x="179280" y="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11"/>
          <a:stretch/>
        </p:blipFill>
        <p:spPr>
          <a:xfrm>
            <a:off x="7596360" y="4076640"/>
            <a:ext cx="1223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611280" y="333360"/>
            <a:ext cx="4751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Выполнила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Назарова Галина Алексеевна, учитель информатики г. Москвы Лицея №1589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3708360" y="2349360"/>
            <a:ext cx="285264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539640" y="404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В древности считали в двоичной системе счисления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924360" y="1413000"/>
            <a:ext cx="208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4" name=""/>
          <p:cNvSpPr/>
          <p:nvPr/>
        </p:nvSpPr>
        <p:spPr>
          <a:xfrm>
            <a:off x="684360" y="234936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омпьютеры являются цифровыми устройствами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995640" y="3284640"/>
            <a:ext cx="172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6" name=""/>
          <p:cNvSpPr/>
          <p:nvPr/>
        </p:nvSpPr>
        <p:spPr>
          <a:xfrm>
            <a:off x="684360" y="414972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3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Информацию, хранимую в собственной памяти человека, можно назвать оперативной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140360" y="5445000"/>
            <a:ext cx="17478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539640" y="404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4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Цифру ноль можно заменить прописной буквой «О»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284720" y="1413000"/>
            <a:ext cx="172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0" name=""/>
          <p:cNvSpPr/>
          <p:nvPr/>
        </p:nvSpPr>
        <p:spPr>
          <a:xfrm>
            <a:off x="684360" y="335772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5)</a:t>
            </a: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Windows </a:t>
            </a: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допускает, чтобы на одном диске находились два файла с абсолютно одинаковыми именами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148360" y="5229360"/>
            <a:ext cx="15318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539640" y="404640"/>
            <a:ext cx="58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7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расота системного корпуса благоприятно влияет на качество и производительность персонального компьютера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427640" y="2060640"/>
            <a:ext cx="18478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3141720"/>
            <a:ext cx="81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8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Если содержание двух файлов объединить в одном файле, то размер получившегося файла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может быть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меньше суммы размеров двух исходных файлов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716360" y="4797360"/>
            <a:ext cx="1727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755640" y="335772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0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лавиатура компьютера изготовлена таким образом, что клавиши с буквами, имеющие большие частоты, находятся ближе к центру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788000" y="4797360"/>
            <a:ext cx="1387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539640" y="404640"/>
            <a:ext cx="58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1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 материнской плате одного ПК можно присоединить жёсткий магнитный диск другого ПК и сделать так, чтобы на первом ПК было как бы два винчестера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067280" y="2565360"/>
            <a:ext cx="163008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0" name=""/>
          <p:cNvSpPr/>
          <p:nvPr/>
        </p:nvSpPr>
        <p:spPr>
          <a:xfrm>
            <a:off x="684360" y="3933720"/>
            <a:ext cx="77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2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Благодаря Интернету, родные и друзья заключённых в тюрьмы в Страсбурге могут ознакомиться с условиями содержания близких, не выходя из дома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580000" y="5589720"/>
            <a:ext cx="1387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468360" y="260280"/>
            <a:ext cx="56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1280" y="18900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3) У первых версий некоторых ПК отсутствовали жёсткие магнитные диски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995640" y="1557360"/>
            <a:ext cx="16304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5" name=""/>
          <p:cNvSpPr/>
          <p:nvPr/>
        </p:nvSpPr>
        <p:spPr>
          <a:xfrm>
            <a:off x="684360" y="2708280"/>
            <a:ext cx="698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14) Клавиша 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&lt;End&gt; </a:t>
            </a: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на клавиатуре ПК прекращает выполнение любой программы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427640" y="3716280"/>
            <a:ext cx="18478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7" name=""/>
          <p:cNvSpPr/>
          <p:nvPr/>
        </p:nvSpPr>
        <p:spPr>
          <a:xfrm>
            <a:off x="826920" y="472428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5) Люди являются аналоговыми устройствами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588000" y="5300640"/>
            <a:ext cx="16304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68360" y="2349360"/>
            <a:ext cx="813600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f273e"/>
                    </a:gs>
                    <a:gs pos="100000">
                      <a:srgbClr val="32f8f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огика настоящег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f273e"/>
                  </a:gs>
                  <a:gs pos="100000">
                    <a:srgbClr val="32f8f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f273e"/>
                    </a:gs>
                    <a:gs pos="100000">
                      <a:srgbClr val="32f8f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граммис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f273e"/>
                  </a:gs>
                  <a:gs pos="100000">
                    <a:srgbClr val="32f8f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0" name=""/>
          <p:cNvSpPr/>
          <p:nvPr/>
        </p:nvSpPr>
        <p:spPr>
          <a:xfrm>
            <a:off x="1908000" y="443700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«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Отгадай слово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»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0920" y="5229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( Здесь необходимо отгадать компьютерный термин или понятие информатики)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8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72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6" dur="6123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82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684360" y="549360"/>
            <a:ext cx="67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) Своевременная, объективная, ложная, проверенная, полная, секретная, массовая, генетическая, газетная, телевизионная, научно-техническая ……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780000" y="2421000"/>
            <a:ext cx="3671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формация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5" name=""/>
          <p:cNvSpPr/>
          <p:nvPr/>
        </p:nvSpPr>
        <p:spPr>
          <a:xfrm>
            <a:off x="684360" y="371628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2) Текстовый, графический, программный, системный, исполняемый, командный, пакетный, скрытый, архивны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859280" y="5373720"/>
            <a:ext cx="22478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айл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8:33:41Z</dcterms:created>
  <dc:creator>1</dc:creator>
  <dc:description/>
  <dc:language>en-US</dc:language>
  <cp:lastModifiedBy>K49</cp:lastModifiedBy>
  <dcterms:modified xsi:type="dcterms:W3CDTF">2010-10-08T10:56:16Z</dcterms:modified>
  <cp:revision>293</cp:revision>
  <dc:subject/>
  <dc:title>Слайд 1</dc:title>
</cp:coreProperties>
</file>