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13.png" ContentType="image/png"/>
  <Override PartName="/ppt/media/image4.png" ContentType="image/png"/>
  <Override PartName="/ppt/media/image1.gif" ContentType="image/gif"/>
  <Override PartName="/ppt/media/image24.gif" ContentType="image/gif"/>
  <Override PartName="/ppt/media/image3.png" ContentType="image/png"/>
  <Override PartName="/ppt/media/image23.gif" ContentType="image/gif"/>
  <Override PartName="/ppt/media/whoosh.wav" ContentType="audio/x-wav"/>
  <Override PartName="/ppt/media/image5.png" ContentType="image/png"/>
  <Override PartName="/ppt/media/image25.gif" ContentType="image/gif"/>
  <Override PartName="/ppt/media/image2.png" ContentType="image/png"/>
  <Override PartName="/ppt/media/image26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2.png" ContentType="image/png"/>
  <Override PartName="/ppt/media/camera.wav" ContentType="audio/x-wav"/>
  <Override PartName="/ppt/media/image14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1E7-9457-467C-95AD-86C4C6CE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0D4-DEC3-4371-A43B-3639CFB6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0FB-47AD-4C0A-9F15-AC7B08CC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807-5B43-42BA-AC23-7F87E3FA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B4D7-29AD-42FC-ACE6-A36087A9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A03F-A8E5-4A77-A7E0-27F82CDB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C5D6-B495-45A8-8741-6FFD7EB5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2AEE-8021-46EB-B4DE-9EC516DD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8058-5CB7-4315-90B0-7E114934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615F-2818-4F60-B790-128C0ACD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8C8B-9F23-49A6-A5B1-7D0B8000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A5C-6ABE-475D-A518-A6789ACE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04B1-7D42-40B8-80F7-88081B34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70EF-7D1C-4B46-B6B1-B2C3F984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014B-00C3-4793-805C-49B4D986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75B2-29D8-4E6C-BF10-5BE953F9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E38C-CD54-49D7-8724-F9203B20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D89-34A3-4D90-B1D4-EBAC8ED1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A8D-F251-4B5E-A4B6-FC96575A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54C-0D45-42F3-8A9A-FD055C91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998-6F1F-4709-BCF8-2650B2C8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2CF-E089-42C7-B043-C64041F5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E27-D149-424F-B741-D9B0B3C3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EA2-AC37-41CE-9B22-02B3AD2E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3F5A-7DF7-44C5-BFF8-B67032A799D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D58D-4EE8-4425-8CBA-68A8D57D01E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4.gif"/><Relationship Id="rId8" Type="http://schemas.openxmlformats.org/officeDocument/2006/relationships/image" Target="../media/image23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4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hammer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920" y="2421000"/>
            <a:ext cx="8064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мпьютерный верифик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407664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Прочитав, скажи в отве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Слово «Да» иль слово «Нет»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1280" y="33336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3)  Агентурная, торговая, рыболовная, любовная, паучья, локальная, глобальная, региональная, корпоративная, школьная, компьютер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427640" y="2421000"/>
            <a:ext cx="21286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т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/>
          <p:nvPr/>
        </p:nvSpPr>
        <p:spPr>
          <a:xfrm>
            <a:off x="755640" y="328464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40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4)  Физическое, логическое, полное, быстр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59280" y="537372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атировани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1280" y="260280"/>
            <a:ext cx="72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5)  Рублёный, декоративный, заголовочный, текстовый, масштабируемый, обычный, полужирный, типографский, набор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08360" y="2060640"/>
            <a:ext cx="27352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риф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3284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6)  Зелёный, шахматный, игровой, бортовой, карманный, домашний, главный, сетевой, аналоговый, цифровой, портативный, персональ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916360" y="508464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11280" y="476280"/>
            <a:ext cx="66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7) Заработная, входная, достойная, высокая, своевременная, комбинированная, печатная, материнск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995640" y="1916280"/>
            <a:ext cx="2737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т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826920" y="3284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8)  Транспортная, лечебная, камерная, бескамерная, надувная, шипованная, электрическая, главная, локальная, универсальная, последовательная, адрес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5300640"/>
            <a:ext cx="27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33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9)  Иностранный, воздушный, морской, речной, торговый, коммуникационный, последовательный, параллельный, игрово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0360" y="2060640"/>
            <a:ext cx="2219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0)  Разнообразное, диетическое, ресторанное, выпадающее, вложенное, контекстн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ю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79280" y="260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1) Узкий, широкий, символьный, строчный, страничный, матричный, струйный, лазерный, цветной, чёрно-белый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24000" y="2060640"/>
            <a:ext cx="4235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т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32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2) Неподвижный, подвижный, оконный, дверной, стеновой, левый, правый, системный …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о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00000" y="404640"/>
            <a:ext cx="4740480" cy="267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932360" y="33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843280" y="18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547640" y="335772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3348000" y="5157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8"/>
          <a:stretch/>
        </p:blipFill>
        <p:spPr>
          <a:xfrm>
            <a:off x="324000" y="501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6156360" y="5157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179280" y="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1"/>
          <a:stretch/>
        </p:blipFill>
        <p:spPr>
          <a:xfrm>
            <a:off x="7596360" y="407664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11280" y="333360"/>
            <a:ext cx="4751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Назарова Галина Алексеевна, учитель информатики г. Москвы Лицея №1589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28526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В древности считали в двоичной системе счисления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1413000"/>
            <a:ext cx="20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2349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омпьютеры являются цифровыми устройств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95640" y="328464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4149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Информацию, хранимую в собственной памяти человека, можно назвать оперативной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40360" y="5445000"/>
            <a:ext cx="1747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Цифру ноль можно заменить прописной буквой «О»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4720" y="141300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3357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)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Windows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опускает, чтобы на одном диске находились два файла с абсолютно одинаковыми имен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148360" y="5229360"/>
            <a:ext cx="1531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9640" y="40464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расота системного корпуса благоприятно влияет на качество и производительность персонального компью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427640" y="206064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14172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Если содержание двух файлов объединить в одном файле, то размер получившегося файла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может быт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меньше суммы размеров двух исходных файлов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716360" y="4797360"/>
            <a:ext cx="17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55640" y="3357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лавиатура компьютера изготовлена таким образом, что клавиши с буквами, имеющие большие частоты, находятся ближе к центру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788000" y="4797360"/>
            <a:ext cx="138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404640"/>
            <a:ext cx="58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 материнской плате одного ПК можно присоединить жёсткий магнитный диск другого ПК и сделать так, чтобы на первом ПК было как бы два винчес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67280" y="2565360"/>
            <a:ext cx="1630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393372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Благодаря Интернету, родные и друзья заключённых в тюрьмы в Страсбурге могут ознакомиться с условиями содержания близких, не выходя из дом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80000" y="5589720"/>
            <a:ext cx="138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68360" y="26028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189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3) У первых версий некоторых ПК отсутствовали жёсткие магнитные диск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640" y="155736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270828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14) Клавиша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&lt;End&gt;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на клавиатуре ПК прекращает выполнение любой программы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427640" y="371628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4724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5) Люди являются аналоговыми устройствам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588000" y="530064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2349360"/>
            <a:ext cx="8136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гика настояще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44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Отгадай слово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522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( Здесь необходимо отгадать компьютерный термин или понятие информатики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6123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8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4360" y="549360"/>
            <a:ext cx="67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Своевременная, объективная, ложная, проверенная, полная, секретная, массовая, генетическая, газетная, телевизионная, научно-техническая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780000" y="2421000"/>
            <a:ext cx="367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371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2) Текстовый, графический, программный, системный, исполняемый, командный, пакетный, скрытый, архив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859280" y="5373720"/>
            <a:ext cx="2247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йл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33:41Z</dcterms:created>
  <dc:creator>1</dc:creator>
  <dc:description/>
  <dc:language>en-US</dc:language>
  <cp:lastModifiedBy>K49</cp:lastModifiedBy>
  <dcterms:modified xsi:type="dcterms:W3CDTF">2010-10-08T10:56:16Z</dcterms:modified>
  <cp:revision>293</cp:revision>
  <dc:subject/>
  <dc:title>Слайд 1</dc:title>
</cp:coreProperties>
</file>