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13.png" ContentType="image/png"/>
  <Override PartName="/ppt/media/image4.png" ContentType="image/png"/>
  <Override PartName="/ppt/media/image1.gif" ContentType="image/gif"/>
  <Override PartName="/ppt/media/image24.gif" ContentType="image/gif"/>
  <Override PartName="/ppt/media/image3.png" ContentType="image/png"/>
  <Override PartName="/ppt/media/image23.gif" ContentType="image/gif"/>
  <Override PartName="/ppt/media/whoosh.wav" ContentType="audio/x-wav"/>
  <Override PartName="/ppt/media/image5.png" ContentType="image/png"/>
  <Override PartName="/ppt/media/image25.gif" ContentType="image/gif"/>
  <Override PartName="/ppt/media/image2.png" ContentType="image/png"/>
  <Override PartName="/ppt/media/image26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2.png" ContentType="image/png"/>
  <Override PartName="/ppt/media/camera.wav" ContentType="audio/x-wav"/>
  <Override PartName="/ppt/media/image14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F23-D860-45D8-8B8F-2EA82FF5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05B-95BD-4932-99C0-36019E96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6921-CC21-40CD-8A60-8F1C02BD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2FA-3E14-4699-8A98-88AB3403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B63A-2926-41C6-97B2-35563646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1A3A-6A05-473A-8001-A9EA1022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35E0-CAEC-49D2-87F3-0D05E5EC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CC39-DEF1-4608-B48B-CD4C2171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6103-040E-4710-845C-6B11A2D4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CFA2-97E9-4D88-B86A-D907658F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7680-818A-4C30-AC37-C84981FF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484-30ED-4810-8EF1-3F906B7A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61D1-D0F4-4A80-871C-B5884702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E988-B784-40B5-B17A-F5B97D97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56C1-64FC-453A-B5EF-3EEBC03A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DD85-F31B-42F8-BEAB-0EA8B50C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1A67-ED7E-4156-A218-D101215E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205-0608-465F-AEE6-F98B9BF4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7CD-71D4-48A0-96ED-16149162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BB7-977B-4EB4-BFB0-D98CA822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912-0335-44DF-A8FD-067ADCC3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56A-8B49-4C48-8103-3872EA66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C85-33B2-4C25-8887-9F837C3B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6C5-A70A-4A2A-973C-78D4DC91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8821-F1BF-4E72-ADFF-1412E466D37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47D5-187B-472F-ABFD-39523791033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4.gif"/><Relationship Id="rId8" Type="http://schemas.openxmlformats.org/officeDocument/2006/relationships/image" Target="../media/image23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4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hammer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0920" y="2421000"/>
            <a:ext cx="8064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мпьютерный верифика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407664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Прочитав, скажи в отве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Слово «Да» иль слово «Нет»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8317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11280" y="33336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3)  Агентурная, торговая, рыболовная, любовная, паучья, локальная, глобальная, региональная, корпоративная, школьная, компьютер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427640" y="2421000"/>
            <a:ext cx="21286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ть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/>
          <p:nvPr/>
        </p:nvSpPr>
        <p:spPr>
          <a:xfrm>
            <a:off x="755640" y="328464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40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4)  Физическое, логическое, полное, быстр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59280" y="537372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атировани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11280" y="260280"/>
            <a:ext cx="72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5)  Рублёный, декоративный, заголовочный, текстовый, масштабируемый, обычный, полужирный, типографский, набор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708360" y="2060640"/>
            <a:ext cx="27352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риф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328464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6)  Зелёный, шахматный, игровой, бортовой, карманный, домашний, главный, сетевой, аналоговый, цифровой, портативный, персональ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916360" y="508464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пьютер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11280" y="476280"/>
            <a:ext cx="66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7) Заработная, входная, достойная, высокая, своевременная, комбинированная, печатная, материнск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995640" y="1916280"/>
            <a:ext cx="2737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т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826920" y="3284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8)  Транспортная, лечебная, камерная, бескамерная, надувная, шипованная, электрическая, главная, локальная, универсальная, последовательная, адрес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59280" y="5300640"/>
            <a:ext cx="273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н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9640" y="33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9)  Иностранный, воздушный, морской, речной, торговый, коммуникационный, последовательный, параллельный, игрово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140360" y="2060640"/>
            <a:ext cx="2219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342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0)  Разнообразное, диетическое, ресторанное, выпадающее, вложенное, контекстн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ню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79280" y="26028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1) Узкий, широкий, символьный, строчный, страничный, матричный, струйный, лазерный, цветной, чёрно-белый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124000" y="2060640"/>
            <a:ext cx="4235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т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32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2) Неподвижный, подвижный, оконный, дверной, стеновой, левый, правый, системный …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о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00000" y="404640"/>
            <a:ext cx="4740480" cy="267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932360" y="3357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2843280" y="18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1547640" y="335772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3348000" y="5157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8"/>
          <a:stretch/>
        </p:blipFill>
        <p:spPr>
          <a:xfrm>
            <a:off x="324000" y="501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6156360" y="51577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0"/>
          <a:stretch/>
        </p:blipFill>
        <p:spPr>
          <a:xfrm>
            <a:off x="179280" y="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1"/>
          <a:stretch/>
        </p:blipFill>
        <p:spPr>
          <a:xfrm>
            <a:off x="7596360" y="407664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11280" y="333360"/>
            <a:ext cx="4751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Назарова Галина Алексеевна, учитель информатики г. Москвы Лицея №1589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28526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В древности считали в двоичной системе счисления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1413000"/>
            <a:ext cx="20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2349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омпьютеры являются цифровыми устройств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95640" y="328464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4149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Информацию, хранимую в собственной памяти человека, можно назвать оперативной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140360" y="5445000"/>
            <a:ext cx="1747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Цифру ноль можно заменить прописной буквой «О»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84720" y="141300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335772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5)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Windows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опускает, чтобы на одном диске находились два файла с абсолютно одинаковыми имен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148360" y="5229360"/>
            <a:ext cx="1531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9640" y="40464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расота системного корпуса благоприятно влияет на качество и производительность персонального компью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427640" y="206064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14172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8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Если содержание двух файлов объединить в одном файле, то размер получившегося файла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может быть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меньше суммы размеров двух исходных файлов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716360" y="4797360"/>
            <a:ext cx="172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55640" y="33577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0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лавиатура компьютера изготовлена таким образом, что клавиши с буквами, имеющие большие частоты, находятся ближе к центру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788000" y="4797360"/>
            <a:ext cx="138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39640" y="404640"/>
            <a:ext cx="58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 материнской плате одного ПК можно присоединить жёсткий магнитный диск другого ПК и сделать так, чтобы на первом ПК было как бы два винчес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067280" y="2565360"/>
            <a:ext cx="1630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393372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Благодаря Интернету, родные и друзья заключённых в тюрьмы в Страсбурге могут ознакомиться с условиями содержания близких, не выходя из дом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80000" y="5589720"/>
            <a:ext cx="138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68360" y="26028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18900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3) У первых версий некоторых ПК отсутствовали жёсткие магнитные диск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640" y="155736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270828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14) Клавиша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&lt;End&gt;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на клавиатуре ПК прекращает выполнение любой программы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427640" y="371628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4724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5) Люди являются аналоговыми устройствам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588000" y="530064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2349360"/>
            <a:ext cx="81360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гика настоящег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раммис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443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Отгадай слово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0920" y="5229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( Здесь необходимо отгадать компьютерный термин или понятие информатики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6123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8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4360" y="549360"/>
            <a:ext cx="67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Своевременная, объективная, ложная, проверенная, полная, секретная, массовая, генетическая, газетная, телевизионная, научно-техническая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780000" y="2421000"/>
            <a:ext cx="367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3716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2) Текстовый, графический, программный, системный, исполняемый, командный, пакетный, скрытый, архив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859280" y="5373720"/>
            <a:ext cx="22478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йл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8:33:41Z</dcterms:created>
  <dc:creator>1</dc:creator>
  <dc:description/>
  <dc:language>en-US</dc:language>
  <cp:lastModifiedBy>K49</cp:lastModifiedBy>
  <dcterms:modified xsi:type="dcterms:W3CDTF">2010-10-08T10:56:16Z</dcterms:modified>
  <cp:revision>293</cp:revision>
  <dc:subject/>
  <dc:title>Слайд 1</dc:title>
</cp:coreProperties>
</file>