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.jpeg" ContentType="image/jpeg"/>
  <Override PartName="/ppt/media/image38.wmf" ContentType="image/x-wmf"/>
  <Override PartName="/ppt/media/image4.jpeg" ContentType="image/jpeg"/>
  <Override PartName="/ppt/media/image61.jpeg" ContentType="image/jpeg"/>
  <Override PartName="/ppt/media/image29.gif" ContentType="image/gif"/>
  <Override PartName="/ppt/media/image15.jpeg" ContentType="image/jpeg"/>
  <Override PartName="/ppt/media/image10.jpeg" ContentType="image/jpeg"/>
  <Override PartName="/ppt/media/image21.gif" ContentType="image/gif"/>
  <Override PartName="/ppt/media/image1.png" ContentType="image/png"/>
  <Override PartName="/ppt/media/image39.gif" ContentType="image/gif"/>
  <Override PartName="/ppt/media/image16.jpeg" ContentType="image/jpeg"/>
  <Override PartName="/ppt/media/image41.jpeg" ContentType="image/jpeg"/>
  <Override PartName="/ppt/media/image54.png" ContentType="image/png"/>
  <Override PartName="/ppt/media/image14.jpeg" ContentType="image/jpeg"/>
  <Override PartName="/ppt/media/image60.jpeg" ContentType="image/jpeg"/>
  <Override PartName="/ppt/media/image37.jpeg" ContentType="image/jpeg"/>
  <Override PartName="/ppt/media/image32.png" ContentType="image/png"/>
  <Override PartName="/ppt/media/image2.png" ContentType="image/png"/>
  <Override PartName="/ppt/media/image27.gif" ContentType="image/gif"/>
  <Override PartName="/ppt/media/image51.jpeg" ContentType="image/jpeg"/>
  <Override PartName="/ppt/media/image24.gif" ContentType="image/gif"/>
  <Override PartName="/ppt/media/image20.gif" ContentType="image/gif"/>
  <Override PartName="/ppt/media/image18.jpeg" ContentType="image/jpeg"/>
  <Override PartName="/ppt/media/image22.gif" ContentType="image/gif"/>
  <Override PartName="/ppt/media/image19.jpeg" ContentType="image/jpeg"/>
  <Override PartName="/ppt/media/image8.jpeg" ContentType="image/jpeg"/>
  <Override PartName="/ppt/media/image23.gif" ContentType="image/gif"/>
  <Override PartName="/ppt/media/image17.jpeg" ContentType="image/jpeg"/>
  <Override PartName="/ppt/media/image49.gif" ContentType="image/gif"/>
  <Override PartName="/ppt/media/image28.gif" ContentType="image/gif"/>
  <Override PartName="/ppt/media/image26.gif" ContentType="image/gif"/>
  <Override PartName="/ppt/media/image42.jpeg" ContentType="image/jpeg"/>
  <Override PartName="/ppt/media/image6.png" ContentType="image/png"/>
  <Override PartName="/ppt/media/image13.gif" ContentType="image/gif"/>
  <Override PartName="/ppt/media/image7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3.gif" ContentType="image/gif"/>
  <Override PartName="/ppt/media/image34.gif" ContentType="image/gif"/>
  <Override PartName="/ppt/media/image36.jpeg" ContentType="image/jpeg"/>
  <Override PartName="/ppt/media/image57.png" ContentType="image/png"/>
  <Override PartName="/ppt/media/image25.gif" ContentType="image/gif"/>
  <Override PartName="/ppt/media/image43.jpeg" ContentType="image/jpeg"/>
  <Override PartName="/ppt/media/image35.gif" ContentType="image/gif"/>
  <Override PartName="/ppt/media/image44.jpeg" ContentType="image/jpeg"/>
  <Override PartName="/ppt/media/image45.png" ContentType="image/png"/>
  <Override PartName="/ppt/media/image46.png" ContentType="image/png"/>
  <Override PartName="/ppt/media/image47.gif" ContentType="image/gif"/>
  <Override PartName="/ppt/media/image48.gif" ContentType="image/gif"/>
  <Override PartName="/ppt/media/image50.gif" ContentType="image/gif"/>
  <Override PartName="/ppt/media/image52.png" ContentType="image/png"/>
  <Override PartName="/ppt/media/image40.gif" ContentType="image/gif"/>
  <Override PartName="/ppt/media/image55.jpeg" ContentType="image/jpeg"/>
  <Override PartName="/ppt/media/image53.gif" ContentType="image/gif"/>
  <Override PartName="/ppt/media/image56.png" ContentType="image/png"/>
  <Override PartName="/ppt/media/image58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2F8D-C403-442A-B2E1-B381C4DE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FA80-96F5-4920-8235-03357461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CCB2-2FEA-42BC-AB35-DB133AD3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044C-74C4-4FB6-95E6-8F1038D4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878E-9833-4A95-9FE3-681C15C0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333C-D48F-40C1-A728-5CB869FD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C9DD-E32D-46FD-99F6-09435002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D494-FC8B-4564-928A-292DEF03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B49E-B7A9-47A8-AE43-F4C882E2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68F3-0A0E-4473-8832-3B5AC05F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A26C-C8D3-4140-8CA7-32D1848C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610-7991-4537-AD21-B5188A2D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B689-C570-4E34-85EE-DDD84903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E1B1-B55D-43C7-B1E5-05592D71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B3CB-7F44-4EB9-943E-04E3CE81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B471-A177-409F-A16F-FD340446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417F-B941-450E-9FD4-3ADB1364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6A3-98BE-4AD2-81C3-832B380A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7233-1C34-4AAE-9012-91AEFC82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BDA4-809C-4EBA-9F4E-05CC77C0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2E8-BF76-4A77-9371-16F92334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7E7-5A98-4BEC-B796-B8203D93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53BE-6223-4747-9E12-64FB8778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7433-54E9-4B8E-90DD-1CDCB3A5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86BD-16FA-41ED-A66D-2C500D5DC5A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7849-D890-47FE-A30F-226A2120157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op500.org/" TargetMode="External"/><Relationship Id="rId3" Type="http://schemas.openxmlformats.org/officeDocument/2006/relationships/hyperlink" Target="http://www.top500.org/" TargetMode="External"/><Relationship Id="rId4" Type="http://schemas.openxmlformats.org/officeDocument/2006/relationships/hyperlink" Target="http://www.top500.org/" TargetMode="External"/><Relationship Id="rId5" Type="http://schemas.openxmlformats.org/officeDocument/2006/relationships/hyperlink" Target="http://www.top500.org/" TargetMode="External"/><Relationship Id="rId6" Type="http://schemas.openxmlformats.org/officeDocument/2006/relationships/hyperlink" Target="http://www.top500.org/" TargetMode="External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gi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3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image" Target="../media/image59.png"/><Relationship Id="rId8" Type="http://schemas.openxmlformats.org/officeDocument/2006/relationships/image" Target="../media/image60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835280" y="836640"/>
            <a:ext cx="3528720" cy="2168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900000" y="2708280"/>
            <a:ext cx="7488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 н а е т е     л и    в ы ,    ч т о . . 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372360" y="4724280"/>
            <a:ext cx="1469880" cy="15130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flipH="1">
            <a:off x="3419640" y="5445000"/>
            <a:ext cx="3024000" cy="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3995640" y="3644640"/>
            <a:ext cx="2376720" cy="136836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2123640" y="691920"/>
            <a:ext cx="4824360" cy="410508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524720" y="4149360"/>
            <a:ext cx="71640" cy="64764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5508720" y="2205000"/>
            <a:ext cx="1800000" cy="266400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3780000" y="189000"/>
            <a:ext cx="2792160" cy="18590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3024360" cy="18781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1706400" cy="20178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1258920" y="2276640"/>
            <a:ext cx="2663640" cy="20905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250920" y="4508640"/>
            <a:ext cx="311472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6554880" cy="5978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11280" y="587700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59421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Учёному и врачу, инженеру и учителю, писателю и композитору, художнику и агроному – всем может помочь компью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95280" y="410400"/>
            <a:ext cx="6985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вестно, что ЭВМ могут сочинять стихи. Вот одно из стихотворений, написанное машиной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очь кажется чернее кошки это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рая луны расплывчатыми стал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еведомая радость рвётся к свет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 берег бьется крыльями усталы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мученный бредёт один кочевни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 пропасть снежная его зовёт и ждё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в об осторожности, плачев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д пропастью мятущийся бредё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тый страх ползёт под потол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ак чайка, вете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ремлет дождь. Ненасть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 свечи догорают… Мотыль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округ огня все кружатся в честь Бас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1439640" cy="693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580000" y="3068640"/>
            <a:ext cx="7207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3059280" y="3645000"/>
            <a:ext cx="5400360" cy="9856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5580000" y="4508640"/>
            <a:ext cx="1171800" cy="11714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6372360" y="5516640"/>
            <a:ext cx="1224000" cy="9795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6"/>
          <a:stretch/>
        </p:blipFill>
        <p:spPr>
          <a:xfrm>
            <a:off x="8101080" y="54450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7"/>
          <a:stretch/>
        </p:blipFill>
        <p:spPr>
          <a:xfrm>
            <a:off x="4932360" y="5373720"/>
            <a:ext cx="666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684360" y="2781360"/>
            <a:ext cx="1868400" cy="25858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3419640" y="1700280"/>
            <a:ext cx="1206360" cy="2565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6"/>
          <a:stretch/>
        </p:blipFill>
        <p:spPr>
          <a:xfrm>
            <a:off x="5724360" y="2492280"/>
            <a:ext cx="2294280" cy="2808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116000" y="55897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Эти ПК смогут различать человеческую реч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68360" y="322704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уперкомпьютер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гласно рейтингу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"/>
              </a:rPr>
              <a:t>WWW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4"/>
              </a:rPr>
              <a:t>top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5"/>
              </a:rPr>
              <a:t>500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6"/>
              </a:rPr>
              <a:t>or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самым мощным на сегодня суперкомпьютером является японски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th Simaulat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Как можно догадаться по названию, он предназначен для исследований в области метеорологии, океанологии и других наук о Земле. Его 5120 процессоров могут выполнять до 36 триллионов операций в секунду – это почти втрое больше производительности ближайшего конкурента из Америки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7"/>
          <a:stretch/>
        </p:blipFill>
        <p:spPr>
          <a:xfrm>
            <a:off x="2340000" y="54936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59760"/>
            <a:ext cx="331308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обот на замену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й подход к дистанционному образованию предложила канадская компан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Теперь, если ребёнок заболел (или не сможет самостоятельно передвигаться), в школу за него отправится «половина» робота по имен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BBLE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Целиком он состоит из двух машин, каждая из которых оснащена 15-дюймовым сенсорным экраном, мощным процессором, видеокамерой, двумя микрофонами, стереодинамиками и принтером со сканером, чтобы выполнять письменные задания. Робот – клиент остаётся с ребёнком, а робот – сервер отправляется на занятия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203640" y="62064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24000" y="333360"/>
            <a:ext cx="3743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гда начинается урок, системы соединяются по скоростной линии, и ребёнок слышит и видит всё, что происходит в классе. С помощью джойстика он может управлять роботом – получать задания, распечатывать контрольные работы и даже отвечать на вопросы учителя. Сотрудник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утверждают, что добились высокого уровня присутствия. Теперь роботам осталось научиться самостоятельно передвигаться и устанавливать беспроводное соединение: тогда они будут практически самостоятельны, и ученик с их помощью сможет на расстоянии как бы ходить по школе и общаться с друзьям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356000" y="119700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187280" y="260280"/>
            <a:ext cx="410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о б и л ь н а 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в я з 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2409840" cy="4104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7667640" y="5300640"/>
            <a:ext cx="1100160" cy="1100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348000" y="1989000"/>
            <a:ext cx="45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настоящее время сеть мобильной телефонной связи охватила практически весь мир, а количество пользователей мобильных телефонов около 1 млрд. человек. Сеть мобильной связи позволяет передавать не только голосовые сообщения, но и текстовые сообщения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S)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ультимедийные сообщения (мелодии, графика). Высокоскоростной доступ к Интернету можно осуществить по технолог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PR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170 Кби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к). Это в 3 раза быстрее, чем доступ по коммутируемым телефонным линиям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50920" y="1773360"/>
            <a:ext cx="583236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 информационном общест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главным ресурсом является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именно на основе владения информацией о самых различных процессах и явлениях можно эффективно и оптимально строить любую деятельность. В информационном обществе повышается не только качество потребления, но и качество производства, человек, использующий информационные технологии, имеет лучшие условия труда, а труд становится творческим и интеллектуальным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настоящее время развитые страны мира (США, Япония, страны Западной Европы) фактически уже вступили в информационное общество, другие же, в том числе и Россия, находятся на ближайших подступах к нему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95280" y="260280"/>
            <a:ext cx="576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он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95280" y="3449880"/>
            <a:ext cx="83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поха компьютеризации началась!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нашей стране к концу 2006 года количество компьютеров, подключённых к Интернету, составило свыше 350 млн., а во всех странах мира примерно 1 миллиард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тепень информатизации общества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ША – 1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Япония – 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ссия – 2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59040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95280" y="476280"/>
            <a:ext cx="640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2" name="PASCAL-P" descr="PASCAL-P.JPG (10527 bytes)"/>
          <p:cNvPicPr/>
          <p:nvPr/>
        </p:nvPicPr>
        <p:blipFill>
          <a:blip r:embed="rId2"/>
          <a:srcRect l="11385" t="0" r="0" b="0"/>
          <a:stretch/>
        </p:blipFill>
        <p:spPr>
          <a:xfrm>
            <a:off x="395280" y="1700280"/>
            <a:ext cx="3090960" cy="3673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851280" y="1989000"/>
            <a:ext cx="331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ая счётная машина была сконструирована в 17 веке фр. математиком, физиком, философом и писателем. Это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68360" y="5589720"/>
            <a:ext cx="47498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Блез Паскаль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3132000" y="2781360"/>
            <a:ext cx="2038320" cy="22255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5796000" y="3500280"/>
            <a:ext cx="2876400" cy="19926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395280" y="1844640"/>
            <a:ext cx="2305080" cy="22924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4221000"/>
            <a:ext cx="230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44 Мбай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ли книга объёмом около 600 ст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24360" y="56610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лая библиотека, включающая десятки тыс. книг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00360" y="5084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 25 Гбайт, высокая плотность запис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020000" y="476280"/>
            <a:ext cx="1554120" cy="8953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11280" y="184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Гиб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32000" y="213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Лазерны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96000" y="292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Жёст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2627280" y="1989000"/>
            <a:ext cx="518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 наиболее информационно ёмкими являются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ы ДН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которые имеют очень малый размер и плотно упакованы. Это позволяет хранить огромное количество информации (до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бит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, что даёт организму развиваться из одной единственной клетки, содержащей всю необходимую генетическую информацию. Современные микросхемы памяти позволяют хранить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до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ит информации, однако это в 100 млрд. раз меньше, чем в ДНК. Можно сказать, что современные технологии пока проигрывают биологической эволюции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"/>
          <p:cNvSpPr/>
          <p:nvPr/>
        </p:nvSpPr>
        <p:spPr>
          <a:xfrm>
            <a:off x="2916360" y="2421000"/>
            <a:ext cx="432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лекула ДНК является наиболее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лговременны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сителем информации, которая в течение десятков тысяч лет (человек) и миллионов лет (некоторые живые организмы), сохраняет генетическую информацию данного вид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121440" cy="45846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140360" y="335772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нно он и придумал, и назвал устройство "мышью". Патент на мышь, срок действия которого сейчас уже исчерпан, оказался крайне неудачно составленным: он распространялся не собственно на идею манипулятора, а всего лишь на механизм считывания координат с помощью двух ортогонально расположенных колес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6" name="mouse2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609720" cy="2498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Изобретатель мыши – Дага Энгельбар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00000" y="4581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Современные мыши имеют иные механизмы считывания, и поэтому компании, их выпускающие, свободны от каких-либо обязательств перед изобретателем.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826920" y="692280"/>
            <a:ext cx="2413080" cy="26654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3780000" y="1989000"/>
            <a:ext cx="2808000" cy="21877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16000" y="587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Возраст мыши уже более 30 лет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755640" y="220500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Средний компьютерный монитор содержит до двух килограммов  металла в качестве защиты от излучения. Что это за металл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211640" y="443700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инец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3024000" cy="18590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539640" y="1916280"/>
            <a:ext cx="61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ять лет разрабатывали программу для суперкомпьютера Токийского университета. По ней он за 400 часов вычислил почти полтора триллиона цифр этого числа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сле запят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Что это за число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700360" y="5157720"/>
            <a:ext cx="345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 - 3,14......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68360" y="213372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ноябре 1962 года из-за дефиса, пропущенного в компьютерной программе, пришлось взорвать ракету, стартовавшую с мыса Канаверал к Венере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348000" y="4437000"/>
            <a:ext cx="14382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95280" y="177336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Италии за отправку электронных писем без согласия получателя можно «схлопотать»  3 года тюрьмы 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1655640" cy="13240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5003640" y="4437000"/>
            <a:ext cx="253692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5614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Счетная машина Блеза Паскал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5040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Машина Паскаля умела только складывать и вычитать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Суммирующая машина Паскаля"/>
          <p:cNvPicPr/>
          <p:nvPr/>
        </p:nvPicPr>
        <p:blipFill>
          <a:blip r:embed="rId2"/>
          <a:stretch/>
        </p:blipFill>
        <p:spPr>
          <a:xfrm>
            <a:off x="1042920" y="3213000"/>
            <a:ext cx="66978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1557360"/>
            <a:ext cx="55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Что победа над гроссмейстером Гарри Каспаровым стала сенсацией 1994 года. Это была победа компьютер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1984320" cy="21607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348000" y="2708280"/>
            <a:ext cx="3584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"/>
          <p:cNvSpPr/>
          <p:nvPr/>
        </p:nvSpPr>
        <p:spPr>
          <a:xfrm>
            <a:off x="755640" y="1557360"/>
            <a:ext cx="59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Токио за 250 долларов можно заказать свой объёмный фотопортрет внутри стеклянного кристалла. Портрет из 20 тысяч точек смоделирует компьютер, а «нарисует» он. «Кто»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356000" y="4149720"/>
            <a:ext cx="38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аз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4"/>
          <a:stretch/>
        </p:blipFill>
        <p:spPr>
          <a:xfrm>
            <a:off x="611280" y="3716280"/>
            <a:ext cx="2652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"/>
          <p:cNvSpPr/>
          <p:nvPr/>
        </p:nvSpPr>
        <p:spPr>
          <a:xfrm>
            <a:off x="324000" y="2205000"/>
            <a:ext cx="71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трет кисти Боровиковского, похищенный из музея города Грозного, удалось найти благодаря объявлению о продаже портрета, размещённого именно там. Где было размещено объявление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211640" y="4724280"/>
            <a:ext cx="446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 Интерне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"/>
          <p:cNvSpPr/>
          <p:nvPr/>
        </p:nvSpPr>
        <p:spPr>
          <a:xfrm>
            <a:off x="395280" y="1484280"/>
            <a:ext cx="59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еоборудованные телефоны автоматы Москвы дают вам возможность не только переговорить, но и отправить такое сообщение. Какое именн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68360" y="2708280"/>
            <a:ext cx="82818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общение по электронной поч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1" name=""/>
          <p:cNvSpPr/>
          <p:nvPr/>
        </p:nvSpPr>
        <p:spPr>
          <a:xfrm>
            <a:off x="539640" y="3933720"/>
            <a:ext cx="79218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чему алфавит русского языка называют кириллицей?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честь одного из братьев – болгарских просветителе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ирилла и Мефодия.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Более тысячи лет назад они изобрели славянскую письменност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1557360"/>
            <a:ext cx="55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зготовление этого микроустройства весом в 2 гр. необходимо затратить 1,6 кг горючих ископаемых, 72 г. различных химикатов, 32 л воды. Что это за устройств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627280" y="2997360"/>
            <a:ext cx="4240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кропроцессо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"/>
          <p:cNvSpPr/>
          <p:nvPr/>
        </p:nvSpPr>
        <p:spPr>
          <a:xfrm>
            <a:off x="755640" y="400536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й компании пришлось прикрыть свои представительства в Токио, Париже и Орландо. Причина в бурном развитии компьютерной анимации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556000" y="5300640"/>
            <a:ext cx="540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удия Уолта Диснея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1628640"/>
            <a:ext cx="561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м он взял Вену, затем Каскад, после этого – Иерусалим. Ещё несколько побед – и его узнала вся страна. Каждой его новой победы ждали с нетерпением, ведь он утверждал, что создал лекарство против «чум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ка». Кто же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68360" y="3645000"/>
            <a:ext cx="53989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митрий Лозинский,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вестный разработчи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вирусных программ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0" name="LOZINSKY-P" descr="LOZINSKY-P.JPG (9338 bytes)"/>
          <p:cNvPicPr/>
          <p:nvPr/>
        </p:nvPicPr>
        <p:blipFill>
          <a:blip r:embed="rId8"/>
          <a:stretch/>
        </p:blipFill>
        <p:spPr>
          <a:xfrm>
            <a:off x="6227640" y="3284640"/>
            <a:ext cx="24386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341964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bebidj" descr="Ч. Беббидж"/>
          <p:cNvPicPr/>
          <p:nvPr/>
        </p:nvPicPr>
        <p:blipFill>
          <a:blip r:embed="rId2"/>
          <a:stretch/>
        </p:blipFill>
        <p:spPr>
          <a:xfrm>
            <a:off x="684360" y="2781360"/>
            <a:ext cx="2762280" cy="31687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84360" y="1341360"/>
            <a:ext cx="6333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Чарльз Беббид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51280" y="2349360"/>
            <a:ext cx="36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ель аналитической счётной машины, он потратил на её разработку 10 лет, но не увидел своё детище в действии. В конце 20 века её воссоздали – и она заработал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5092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Аналитическая машина Беббидж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331308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а выполнения вычислений записывалась на перфокартах (пробивками). Время сложения двух 50-разрядных десятичных чисел составляло, по расчетам ученого, 1 с., умножения – 1 мин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564000" y="2276640"/>
            <a:ext cx="468936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6" name="LEBEDEV-P" descr="LEBEDEV-P.JPG (7600 bytes)"/>
          <p:cNvPicPr/>
          <p:nvPr/>
        </p:nvPicPr>
        <p:blipFill>
          <a:blip r:embed="rId2"/>
          <a:srcRect l="10481" t="0" r="0" b="0"/>
          <a:stretch/>
        </p:blipFill>
        <p:spPr>
          <a:xfrm>
            <a:off x="684360" y="2492280"/>
            <a:ext cx="2455560" cy="38401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63640" y="1341360"/>
            <a:ext cx="460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С. А. Лебедев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51280" y="2781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ый создатель компьютера в нашей стран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08360" y="4005360"/>
            <a:ext cx="49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 его руководством в 50-х годах были построены серийные ламповые ЭВМ БЭСМ-1, БЭСМ-2, М-20. В то время эти машины были одними из лучших в мир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003280" y="3357720"/>
            <a:ext cx="39373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адемик Лебеде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.А. – основатель отечественных вычислительных маши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"/>
          <p:cNvSpPr/>
          <p:nvPr/>
        </p:nvSpPr>
        <p:spPr>
          <a:xfrm>
            <a:off x="348624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3" name="k6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613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Ада Августа Лавлейс"/>
          <p:cNvPicPr/>
          <p:nvPr/>
        </p:nvPicPr>
        <p:blipFill>
          <a:blip r:embed="rId2"/>
          <a:stretch/>
        </p:blipFill>
        <p:spPr>
          <a:xfrm>
            <a:off x="611280" y="2708280"/>
            <a:ext cx="2408040" cy="3600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"/>
          <p:cNvSpPr/>
          <p:nvPr/>
        </p:nvSpPr>
        <p:spPr>
          <a:xfrm>
            <a:off x="3203640" y="278136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чь лорда Джорджа Гордона Байрона, великого английского поэта. Ада считается первой в мире программистом. В честь неё был назван язык программирования Ада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71640" y="170028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да Лавлей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I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6877080" y="3860640"/>
            <a:ext cx="208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Обычно считается, что период с 1975 по 1985 гг. принадлежит компьютерам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четвертого поколения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468360" y="1700280"/>
            <a:ext cx="6332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2:39Z</dcterms:modified>
  <cp:revision>176</cp:revision>
  <dc:subject/>
  <dc:title>Слайд 1</dc:title>
</cp:coreProperties>
</file>