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5.jpeg" ContentType="image/jpeg"/>
  <Override PartName="/ppt/media/image38.wmf" ContentType="image/x-wmf"/>
  <Override PartName="/ppt/media/image4.jpeg" ContentType="image/jpeg"/>
  <Override PartName="/ppt/media/image61.jpeg" ContentType="image/jpeg"/>
  <Override PartName="/ppt/media/image29.gif" ContentType="image/gif"/>
  <Override PartName="/ppt/media/image15.jpeg" ContentType="image/jpeg"/>
  <Override PartName="/ppt/media/image10.jpeg" ContentType="image/jpeg"/>
  <Override PartName="/ppt/media/image21.gif" ContentType="image/gif"/>
  <Override PartName="/ppt/media/image1.png" ContentType="image/png"/>
  <Override PartName="/ppt/media/image39.gif" ContentType="image/gif"/>
  <Override PartName="/ppt/media/image16.jpeg" ContentType="image/jpeg"/>
  <Override PartName="/ppt/media/image41.jpeg" ContentType="image/jpeg"/>
  <Override PartName="/ppt/media/image54.png" ContentType="image/png"/>
  <Override PartName="/ppt/media/image14.jpeg" ContentType="image/jpeg"/>
  <Override PartName="/ppt/media/image60.jpeg" ContentType="image/jpeg"/>
  <Override PartName="/ppt/media/image37.jpeg" ContentType="image/jpeg"/>
  <Override PartName="/ppt/media/image32.png" ContentType="image/png"/>
  <Override PartName="/ppt/media/image2.png" ContentType="image/png"/>
  <Override PartName="/ppt/media/image27.gif" ContentType="image/gif"/>
  <Override PartName="/ppt/media/image51.jpeg" ContentType="image/jpeg"/>
  <Override PartName="/ppt/media/image24.gif" ContentType="image/gif"/>
  <Override PartName="/ppt/media/image20.gif" ContentType="image/gif"/>
  <Override PartName="/ppt/media/image18.jpeg" ContentType="image/jpeg"/>
  <Override PartName="/ppt/media/image22.gif" ContentType="image/gif"/>
  <Override PartName="/ppt/media/image19.jpeg" ContentType="image/jpeg"/>
  <Override PartName="/ppt/media/image8.jpeg" ContentType="image/jpeg"/>
  <Override PartName="/ppt/media/image23.gif" ContentType="image/gif"/>
  <Override PartName="/ppt/media/image17.jpeg" ContentType="image/jpeg"/>
  <Override PartName="/ppt/media/image49.gif" ContentType="image/gif"/>
  <Override PartName="/ppt/media/image28.gif" ContentType="image/gif"/>
  <Override PartName="/ppt/media/image26.gif" ContentType="image/gif"/>
  <Override PartName="/ppt/media/image42.jpeg" ContentType="image/jpeg"/>
  <Override PartName="/ppt/media/image6.png" ContentType="image/png"/>
  <Override PartName="/ppt/media/image13.gif" ContentType="image/gif"/>
  <Override PartName="/ppt/media/image7.jpeg" ContentType="image/jpeg"/>
  <Override PartName="/ppt/media/image12.jpeg" ContentType="image/jpeg"/>
  <Override PartName="/ppt/media/image9.png" ContentType="image/png"/>
  <Override PartName="/ppt/media/image11.jpeg" ContentType="image/jpeg"/>
  <Override PartName="/ppt/media/image30.jpeg" ContentType="image/jpeg"/>
  <Override PartName="/ppt/media/image31.jpeg" ContentType="image/jpeg"/>
  <Override PartName="/ppt/media/image33.gif" ContentType="image/gif"/>
  <Override PartName="/ppt/media/image34.gif" ContentType="image/gif"/>
  <Override PartName="/ppt/media/image36.jpeg" ContentType="image/jpeg"/>
  <Override PartName="/ppt/media/image57.png" ContentType="image/png"/>
  <Override PartName="/ppt/media/image25.gif" ContentType="image/gif"/>
  <Override PartName="/ppt/media/image43.jpeg" ContentType="image/jpeg"/>
  <Override PartName="/ppt/media/image35.gif" ContentType="image/gif"/>
  <Override PartName="/ppt/media/image44.jpeg" ContentType="image/jpeg"/>
  <Override PartName="/ppt/media/image45.png" ContentType="image/png"/>
  <Override PartName="/ppt/media/image46.png" ContentType="image/png"/>
  <Override PartName="/ppt/media/image47.gif" ContentType="image/gif"/>
  <Override PartName="/ppt/media/image48.gif" ContentType="image/gif"/>
  <Override PartName="/ppt/media/image50.gif" ContentType="image/gif"/>
  <Override PartName="/ppt/media/image52.png" ContentType="image/png"/>
  <Override PartName="/ppt/media/image40.gif" ContentType="image/gif"/>
  <Override PartName="/ppt/media/image55.jpeg" ContentType="image/jpeg"/>
  <Override PartName="/ppt/media/image53.gif" ContentType="image/gif"/>
  <Override PartName="/ppt/media/image56.png" ContentType="image/png"/>
  <Override PartName="/ppt/media/image58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9AE9-AC0D-44B6-A029-7280EBE6C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41AB-8769-4EFD-9654-8886B71F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19E7-794C-4B62-8687-4341A5DD2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EB6F-D2AB-4552-8C80-F4C8E9132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2DEA-7618-492D-9247-3D2FB9511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B5A0-EB5F-4616-B317-F9410F12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FF91-06EE-4751-BD33-BB8D925A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1FBF-66B8-4643-9579-C541A997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0588-0CCC-4463-B573-6BB7B6FB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BBC0-9D49-43B4-9C71-8A7D33A9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B7C9-DEFA-41FE-A8EB-EAFF1DE5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89AB-1EB0-41EC-AFE4-3713C2FB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DCA6-1554-48D3-BD82-81C18D4C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24E0-5CDE-434B-8848-429B2A85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B91A-EE51-4B2D-B87C-EE9FA31B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AFDA-F991-4283-BF31-8690A3FAA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49C6-056A-4A67-9245-0201AB0A7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85F2-30FF-4901-A8A9-BA438ABD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9F55-4CC2-4BC2-B8FB-7EF214C7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B7A3-4A68-4645-9C1B-9C242F24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F875-4BDF-411C-AA6E-CFA5A6AB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0417-58B8-4358-97EA-2F46F840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E368-B7B3-4BD5-A700-A077BE26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FC8A-A144-4F98-B975-8F33068C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F1CA-9981-437E-920F-35EDE647383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907E-4EAF-4E60-A0DB-A3EBB4FD703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gif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image" Target="../media/image25.gi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image" Target="../media/image28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top500.org/" TargetMode="External"/><Relationship Id="rId3" Type="http://schemas.openxmlformats.org/officeDocument/2006/relationships/hyperlink" Target="http://www.top500.org/" TargetMode="External"/><Relationship Id="rId4" Type="http://schemas.openxmlformats.org/officeDocument/2006/relationships/hyperlink" Target="http://www.top500.org/" TargetMode="External"/><Relationship Id="rId5" Type="http://schemas.openxmlformats.org/officeDocument/2006/relationships/hyperlink" Target="http://www.top500.org/" TargetMode="External"/><Relationship Id="rId6" Type="http://schemas.openxmlformats.org/officeDocument/2006/relationships/hyperlink" Target="http://www.top500.org/" TargetMode="External"/><Relationship Id="rId7" Type="http://schemas.openxmlformats.org/officeDocument/2006/relationships/image" Target="../media/image29.gi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image" Target="../media/image31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image" Target="../media/image31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png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wmf"/><Relationship Id="rId5" Type="http://schemas.openxmlformats.org/officeDocument/2006/relationships/image" Target="../media/image39.gi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8.gif"/><Relationship Id="rId3" Type="http://schemas.openxmlformats.org/officeDocument/2006/relationships/image" Target="../media/image49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0.gif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2.png"/><Relationship Id="rId3" Type="http://schemas.openxmlformats.org/officeDocument/2006/relationships/image" Target="../media/image52.png"/><Relationship Id="rId4" Type="http://schemas.openxmlformats.org/officeDocument/2006/relationships/image" Target="../media/image53.gi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6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7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png"/><Relationship Id="rId3" Type="http://schemas.openxmlformats.org/officeDocument/2006/relationships/image" Target="../media/image59.png"/><Relationship Id="rId4" Type="http://schemas.openxmlformats.org/officeDocument/2006/relationships/image" Target="../media/image59.png"/><Relationship Id="rId5" Type="http://schemas.openxmlformats.org/officeDocument/2006/relationships/image" Target="../media/image59.png"/><Relationship Id="rId6" Type="http://schemas.openxmlformats.org/officeDocument/2006/relationships/image" Target="../media/image59.png"/><Relationship Id="rId7" Type="http://schemas.openxmlformats.org/officeDocument/2006/relationships/image" Target="../media/image59.png"/><Relationship Id="rId8" Type="http://schemas.openxmlformats.org/officeDocument/2006/relationships/image" Target="../media/image60.jpe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1835280" y="836640"/>
            <a:ext cx="3528720" cy="21686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900000" y="2708280"/>
            <a:ext cx="7488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 н а е т е     л и    в ы ,    ч т о . . 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6372360" y="4724280"/>
            <a:ext cx="1469880" cy="151308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 flipH="1">
            <a:off x="3419640" y="5445000"/>
            <a:ext cx="3024000" cy="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3995640" y="3644640"/>
            <a:ext cx="2376720" cy="136836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 flipV="1">
            <a:off x="2123640" y="691920"/>
            <a:ext cx="4824360" cy="410508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7524720" y="4149360"/>
            <a:ext cx="71640" cy="64764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5508720" y="2205000"/>
            <a:ext cx="1800000" cy="266400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3780000" y="189000"/>
            <a:ext cx="2792160" cy="18590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5867280" y="2205000"/>
            <a:ext cx="3024360" cy="18781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250920" y="189000"/>
            <a:ext cx="1706400" cy="20178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6"/>
          <a:stretch/>
        </p:blipFill>
        <p:spPr>
          <a:xfrm>
            <a:off x="1258920" y="2276640"/>
            <a:ext cx="2663640" cy="209052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7"/>
          <a:stretch/>
        </p:blipFill>
        <p:spPr>
          <a:xfrm>
            <a:off x="250920" y="4508640"/>
            <a:ext cx="311472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1042920" y="333360"/>
            <a:ext cx="6554880" cy="59785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611280" y="587700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68360" y="59421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Учёному и врачу, инженеру и учителю, писателю и композитору, художнику и агроному – всем может помочь компьютер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95280" y="410400"/>
            <a:ext cx="6985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звестно, что ЭВМ могут сочинять стихи. Вот одно из стихотворений, написанное машиной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очь кажется чернее кошки это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рая луны расплывчатыми стал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еведомая радость рвётся к свету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 берег бьется крыльями усталы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змученный бредёт один кочевник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 пропасть снежная его зовёт и ждёт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Забыв об осторожности, плачевн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д пропастью мятущийся бредё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Забытый страх ползёт под потолк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ак чайка, ветер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ремлет дождь. Ненасть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 свечи догорают… Мотыль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округ огня все кружатся в честь Бастер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2556000" y="2349360"/>
            <a:ext cx="1439640" cy="6937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5580000" y="3068640"/>
            <a:ext cx="72072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3059280" y="3645000"/>
            <a:ext cx="5400360" cy="9856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4"/>
          <a:stretch/>
        </p:blipFill>
        <p:spPr>
          <a:xfrm>
            <a:off x="5580000" y="4508640"/>
            <a:ext cx="1171800" cy="11714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5"/>
          <a:stretch/>
        </p:blipFill>
        <p:spPr>
          <a:xfrm>
            <a:off x="6372360" y="5516640"/>
            <a:ext cx="1224000" cy="97956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6"/>
          <a:stretch/>
        </p:blipFill>
        <p:spPr>
          <a:xfrm>
            <a:off x="8101080" y="544500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7"/>
          <a:stretch/>
        </p:blipFill>
        <p:spPr>
          <a:xfrm>
            <a:off x="4932360" y="5373720"/>
            <a:ext cx="6667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685800" y="30168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99"/>
                </a:solidFill>
                <a:uFillTx/>
                <a:latin typeface="Arial Black"/>
                <a:hlinkClick r:id="rId2" action="ppaction://hlinksldjump"/>
              </a:rPr>
              <a:t>V </a:t>
            </a:r>
            <a:r>
              <a:rPr b="0" lang="ru-RU" sz="4400" spc="-1" strike="noStrike" u="sng">
                <a:solidFill>
                  <a:srgbClr val="ff3399"/>
                </a:solidFill>
                <a:uFillTx/>
                <a:latin typeface="Arial Black"/>
                <a:hlinkClick r:id="rId3" action="ppaction://hlinksldjump"/>
              </a:rPr>
              <a:t>поколение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684360" y="2781360"/>
            <a:ext cx="1868400" cy="258588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5"/>
          <a:stretch/>
        </p:blipFill>
        <p:spPr>
          <a:xfrm>
            <a:off x="3419640" y="1700280"/>
            <a:ext cx="1206360" cy="25653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6"/>
          <a:stretch/>
        </p:blipFill>
        <p:spPr>
          <a:xfrm>
            <a:off x="5724360" y="2492280"/>
            <a:ext cx="2294280" cy="28083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116000" y="558972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Эти ПК смогут различать человеческую речь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468360" y="3227040"/>
            <a:ext cx="820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уперкомпьютер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гласно рейтингу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2"/>
              </a:rPr>
              <a:t>WWW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4"/>
              </a:rPr>
              <a:t>top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Times New Roman"/>
                <a:hlinkClick r:id="rId5"/>
              </a:rPr>
              <a:t>500.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6"/>
              </a:rPr>
              <a:t>org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самым мощным на сегодня суперкомпьютером является японски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rth Simaulato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Как можно догадаться по названию, он предназначен для исследований в области метеорологии, океанологии и других наук о Земле. Его 5120 процессоров могут выполнять до 36 триллионов операций в секунду – это почти втрое больше производительности ближайшего конкурента из Америки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7"/>
          <a:stretch/>
        </p:blipFill>
        <p:spPr>
          <a:xfrm>
            <a:off x="2340000" y="549360"/>
            <a:ext cx="331308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79280" y="59760"/>
            <a:ext cx="3313080" cy="67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Робот на замену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овый подход к дистанционному образованию предложила канадская компани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lbotic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Теперь, если ребёнок заболел (или не сможет самостоятельно передвигаться), в школу за него отправится «половина» робота по имен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BBLE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Целиком он состоит из двух машин, каждая из которых оснащена 15-дюймовым сенсорным экраном, мощным процессором, видеокамерой, двумя микрофонами, стереодинамиками и принтером со сканером, чтобы выполнять письменные задания. Робот – клиент остаётся с ребёнком, а робот – сервер отправляется на занятия.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rcRect l="1776" t="3565" r="0" b="1417"/>
          <a:stretch/>
        </p:blipFill>
        <p:spPr>
          <a:xfrm>
            <a:off x="3780000" y="1700280"/>
            <a:ext cx="5113080" cy="49276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203640" y="620640"/>
            <a:ext cx="395928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Дистанционно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образ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24000" y="333360"/>
            <a:ext cx="3743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гда начинается урок, системы соединяются по скоростной линии, и ребёнок слышит и видит всё, что происходит в классе. С помощью джойстика он может управлять роботом – получать задания, распечатывать контрольные работы и даже отвечать на вопросы учителя. Сотрудник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lbotic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утверждают, что добились высокого уровня присутствия. Теперь роботам осталось научиться самостоятельно передвигаться и устанавливать беспроводное соединение: тогда они будут практически самостоятельны, и ученик с их помощью сможет на расстоянии как бы ходить по школе и общаться с друзьями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rcRect l="1776" t="3565" r="0" b="1417"/>
          <a:stretch/>
        </p:blipFill>
        <p:spPr>
          <a:xfrm>
            <a:off x="3780000" y="1700280"/>
            <a:ext cx="5113080" cy="49276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356000" y="1197000"/>
            <a:ext cx="395928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Дистанционно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образ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1187280" y="260280"/>
            <a:ext cx="410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о б и л ь н а 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в я з 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2409840" cy="41040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7667640" y="5300640"/>
            <a:ext cx="1100160" cy="1100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3348000" y="1989000"/>
            <a:ext cx="4537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настоящее время сеть мобильной телефонной связи охватила практически весь мир, а количество пользователей мобильных телефонов около 1 млрд. человек. Сеть мобильной связи позволяет передавать не только голосовые сообщения, но и текстовые сообщения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MS),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мультимедийные сообщения (мелодии, графика). Высокоскоростной доступ к Интернету можно осуществить по технологи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PR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(170 Кбит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ек). Это в 3 раза быстрее, чем доступ по коммутируемым телефонным линиям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250920" y="1773360"/>
            <a:ext cx="583236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 информационном обществ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главным ресурсом является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нформац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именно на основе владения информацией о самых различных процессах и явлениях можно эффективно и оптимально строить любую деятельность. В информационном обществе повышается не только качество потребления, но и качество производства, человек, использующий информационные технологии, имеет лучшие условия труда, а труд становится творческим и интеллектуальным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настоящее время развитые страны мира (США, Япония, страны Западной Европы) фактически уже вступили в информационное общество, другие же, в том числе и Россия, находятся на ближайших подступах к нему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156360" y="378936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95280" y="260280"/>
            <a:ext cx="576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онно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е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395280" y="3449880"/>
            <a:ext cx="835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Эпоха компьютеризации началась!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нашей стране к концу 2006 года количество компьютеров, подключённых к Интернету, составило свыше 350 млн., а во всех странах мира примерно 1 миллиард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тепень информатизации общества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США – 1 место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Япония – 2 место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оссия – 22 место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590400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95280" y="476280"/>
            <a:ext cx="6408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2" name="PASCAL-P" descr="PASCAL-P.JPG (10527 bytes)"/>
          <p:cNvPicPr/>
          <p:nvPr/>
        </p:nvPicPr>
        <p:blipFill>
          <a:blip r:embed="rId2"/>
          <a:srcRect l="11385" t="0" r="0" b="0"/>
          <a:stretch/>
        </p:blipFill>
        <p:spPr>
          <a:xfrm>
            <a:off x="395280" y="1700280"/>
            <a:ext cx="3090960" cy="36734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851280" y="1989000"/>
            <a:ext cx="331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вая счётная машина была сконструирована в 17 веке фр. математиком, физиком, философом и писателем. Это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268360" y="5589720"/>
            <a:ext cx="474984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Блез Паскаль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95280" y="260280"/>
            <a:ext cx="583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сител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3132000" y="2781360"/>
            <a:ext cx="2038320" cy="22255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5796000" y="3500280"/>
            <a:ext cx="2876400" cy="19926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395280" y="1844640"/>
            <a:ext cx="2305080" cy="22924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179280" y="4221000"/>
            <a:ext cx="2305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=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,44 Мбайт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ли книга объёмом около 600 стр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24360" y="566100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Целая библиотека, включающая десятки тыс. книг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700360" y="508464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 25 Гбайт, высокая плотность записи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5"/>
          <a:stretch/>
        </p:blipFill>
        <p:spPr>
          <a:xfrm>
            <a:off x="7020000" y="476280"/>
            <a:ext cx="1554120" cy="8953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611280" y="1844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Гибкие диски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132000" y="213372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Лазерные диски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796000" y="29242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Жёсткие диски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95280" y="260280"/>
            <a:ext cx="583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сител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1568520" cy="39574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2627280" y="1989000"/>
            <a:ext cx="518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 наиболее информационно ёмкими являются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олекулы ДН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которые имеют очень малый размер и плотно упакованы. Это позволяет хранить огромное количество информации (до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бит в 1 см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, что даёт организму развиваться из одной единственной клетки, содержащей всю необходимую генетическую информацию. Современные микросхемы памяти позволяют хранить в 1 см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до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ит информации, однако это в 100 млрд. раз меньше, чем в ДНК. Можно сказать, что современные технологии пока проигрывают биологической эволюции.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1568520" cy="395748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395280" y="260280"/>
            <a:ext cx="583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сител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2" name=""/>
          <p:cNvSpPr/>
          <p:nvPr/>
        </p:nvSpPr>
        <p:spPr>
          <a:xfrm>
            <a:off x="2916360" y="2421000"/>
            <a:ext cx="4321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олекула ДНК является наиболее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долговременным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сителем информации, которая в течение десятков тысяч лет (человек) и миллионов лет (некоторые живые организмы), сохраняет генетическую информацию данного вида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1187280" y="1700280"/>
            <a:ext cx="6121440" cy="45846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4140360" y="335772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нно он и придумал, и назвал устройство "мышью". Патент на мышь, срок действия которого сейчас уже исчерпан, оказался крайне неудачно составленным: он распространялся не собственно на идею манипулятора, а всего лишь на механизм считывания координат с помощью двух ортогонально расположенных колес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46" name="mouse2" descr=""/>
          <p:cNvPicPr/>
          <p:nvPr/>
        </p:nvPicPr>
        <p:blipFill>
          <a:blip r:embed="rId2"/>
          <a:stretch/>
        </p:blipFill>
        <p:spPr>
          <a:xfrm>
            <a:off x="250920" y="2852640"/>
            <a:ext cx="3609720" cy="249876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Изобретатель мыши – Дага Энгельбарт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900000" y="458136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Современные мыши имеют иные механизмы считывания, и поэтому компании, их выпускающие, свободны от каких-либо обязательств перед изобретателем.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826920" y="692280"/>
            <a:ext cx="2413080" cy="266544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3780000" y="1989000"/>
            <a:ext cx="2808000" cy="218772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116000" y="587700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Возраст мыши уже более 30 лет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755640" y="2205000"/>
            <a:ext cx="66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Средний компьютерный монитор содержит до двух килограммов  металла в качестве защиты от излучения. Что это за металл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211640" y="4437000"/>
            <a:ext cx="331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инец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4"/>
          <a:stretch/>
        </p:blipFill>
        <p:spPr>
          <a:xfrm>
            <a:off x="684360" y="4221000"/>
            <a:ext cx="3024000" cy="185904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539640" y="1916280"/>
            <a:ext cx="61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ять лет разрабатывали программу для суперкомпьютера Токийского университета. По ней он за 400 часов вычислил почти полтора триллиона цифр этого числа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осле запято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Что это за число?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2700360" y="5157720"/>
            <a:ext cx="3456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 - 3,14......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468360" y="2133720"/>
            <a:ext cx="7129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ноябре 1962 года из-за дефиса, пропущенного в компьютерной программе, пришлось взорвать ракету, стартовавшую с мыса Канаверал к Венере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3348000" y="4437000"/>
            <a:ext cx="14382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395280" y="1773360"/>
            <a:ext cx="583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Италии за отправку электронных писем без согласия получателя можно «схлопотать»  3 года тюрьмы 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971640" y="4292640"/>
            <a:ext cx="1655640" cy="132408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5003640" y="4437000"/>
            <a:ext cx="2536920" cy="12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440" y="301320"/>
            <a:ext cx="5614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Счетная машина Блеза Паскал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5040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Машина Паскаля умела только складывать и вычитать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Суммирующая машина Паскаля"/>
          <p:cNvPicPr/>
          <p:nvPr/>
        </p:nvPicPr>
        <p:blipFill>
          <a:blip r:embed="rId2"/>
          <a:stretch/>
        </p:blipFill>
        <p:spPr>
          <a:xfrm>
            <a:off x="1042920" y="3213000"/>
            <a:ext cx="669780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7" name=""/>
          <p:cNvSpPr/>
          <p:nvPr/>
        </p:nvSpPr>
        <p:spPr>
          <a:xfrm>
            <a:off x="611280" y="1557360"/>
            <a:ext cx="554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Что победа над гроссмейстером Гарри Каспаровым стала сенсацией 1994 года. Это была победа компьютера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1984320" cy="216072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3348000" y="2708280"/>
            <a:ext cx="35845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1" name=""/>
          <p:cNvSpPr/>
          <p:nvPr/>
        </p:nvSpPr>
        <p:spPr>
          <a:xfrm>
            <a:off x="755640" y="1557360"/>
            <a:ext cx="59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Токио за 250 долларов можно заказать свой объёмный фотопортрет внутри стеклянного кристалла. Портрет из 20 тысяч точек смоделирует компьютер, а «нарисует» он. «Кто» он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356000" y="4149720"/>
            <a:ext cx="3816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азер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4"/>
          <a:stretch/>
        </p:blipFill>
        <p:spPr>
          <a:xfrm>
            <a:off x="611280" y="3716280"/>
            <a:ext cx="26524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5" name=""/>
          <p:cNvSpPr/>
          <p:nvPr/>
        </p:nvSpPr>
        <p:spPr>
          <a:xfrm>
            <a:off x="324000" y="2205000"/>
            <a:ext cx="712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ртрет кисти Боровиковского, похищенный из музея города Грозного, удалось найти благодаря объявлению о продаже портрета, размещённого именно там. Где было размещено объявление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211640" y="4724280"/>
            <a:ext cx="446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 Интернет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539640" y="414972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9" name=""/>
          <p:cNvSpPr/>
          <p:nvPr/>
        </p:nvSpPr>
        <p:spPr>
          <a:xfrm>
            <a:off x="395280" y="1484280"/>
            <a:ext cx="59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ереоборудованные телефоны автоматы Москвы дают вам возможность не только переговорить, но и отправить такое сообщение. Какое именно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68360" y="2708280"/>
            <a:ext cx="828180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общение по электронной почт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1" name=""/>
          <p:cNvSpPr/>
          <p:nvPr/>
        </p:nvSpPr>
        <p:spPr>
          <a:xfrm>
            <a:off x="539640" y="3933720"/>
            <a:ext cx="792180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чему алфавит русского языка называют кириллицей?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 честь одного из братьев – болгарских просветителей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ирилла и Мефодия.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Более тысячи лет назад они изобрели славянскую письменность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3" name=""/>
          <p:cNvSpPr/>
          <p:nvPr/>
        </p:nvSpPr>
        <p:spPr>
          <a:xfrm>
            <a:off x="539640" y="1557360"/>
            <a:ext cx="554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изготовление этого микроустройства весом в 2 гр. необходимо затратить 1,6 кг горючих ископаемых, 72 г. различных химикатов, 32 л воды. Что это за устройство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2627280" y="2997360"/>
            <a:ext cx="4240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икропроцессор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5" name=""/>
          <p:cNvSpPr/>
          <p:nvPr/>
        </p:nvSpPr>
        <p:spPr>
          <a:xfrm>
            <a:off x="755640" y="4005360"/>
            <a:ext cx="748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ой компании пришлось прикрыть свои представительства в Токио, Париже и Орландо. Причина в бурном развитии компьютерной анимации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2556000" y="5300640"/>
            <a:ext cx="540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удия Уолта Диснея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8" name=""/>
          <p:cNvSpPr/>
          <p:nvPr/>
        </p:nvSpPr>
        <p:spPr>
          <a:xfrm>
            <a:off x="539640" y="1628640"/>
            <a:ext cx="561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ым он взял Вену, затем Каскад, после этого – Иерусалим. Ещё несколько побед – и его узнала вся страна. Каждой его новой победы ждали с нетерпением, ведь он утверждал, что создал лекарство против «чумы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века». Кто же он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68360" y="3645000"/>
            <a:ext cx="53989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митрий Лозинский,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вестный разработчик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нтивирусных программ.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0" name="LOZINSKY-P" descr="LOZINSKY-P.JPG (9338 bytes)"/>
          <p:cNvPicPr/>
          <p:nvPr/>
        </p:nvPicPr>
        <p:blipFill>
          <a:blip r:embed="rId8"/>
          <a:stretch/>
        </p:blipFill>
        <p:spPr>
          <a:xfrm>
            <a:off x="6227640" y="3284640"/>
            <a:ext cx="24386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1619280" y="12682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Выполнила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Учитель информатики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Лицея №1589 г. Москвы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Назарова Галина Алексеевна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3419640" y="3357720"/>
            <a:ext cx="21049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bebidj" descr="Ч. Беббидж"/>
          <p:cNvPicPr/>
          <p:nvPr/>
        </p:nvPicPr>
        <p:blipFill>
          <a:blip r:embed="rId2"/>
          <a:stretch/>
        </p:blipFill>
        <p:spPr>
          <a:xfrm>
            <a:off x="684360" y="2781360"/>
            <a:ext cx="2762280" cy="31687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684360" y="1341360"/>
            <a:ext cx="6333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Чарльз Беббид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51280" y="2349360"/>
            <a:ext cx="360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здатель аналитической счётной машины, он потратил на её разработку 10 лет, но не увидел своё детище в действии. В конце 20 века её воссоздали – и она заработала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5092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Аналитическая машина Беббиджа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331308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грамма выполнения вычислений записывалась на перфокартах (пробивками). Время сложения двух 50-разрядных десятичных чисел составляло, по расчетам ученого, 1 с., умножения – 1 мин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3564000" y="2276640"/>
            <a:ext cx="468936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6" name="LEBEDEV-P" descr="LEBEDEV-P.JPG (7600 bytes)"/>
          <p:cNvPicPr/>
          <p:nvPr/>
        </p:nvPicPr>
        <p:blipFill>
          <a:blip r:embed="rId2"/>
          <a:srcRect l="10481" t="0" r="0" b="0"/>
          <a:stretch/>
        </p:blipFill>
        <p:spPr>
          <a:xfrm>
            <a:off x="684360" y="2492280"/>
            <a:ext cx="2455560" cy="38401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763640" y="1341360"/>
            <a:ext cx="4606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С. А. Лебедев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51280" y="278136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вый создатель компьютера в нашей стране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708360" y="4005360"/>
            <a:ext cx="49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д его руководством в 50-х годах были построены серийные ламповые ЭВМ БЭСМ-1, БЭСМ-2, М-20. В то время эти машины были одними из лучших в мире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5003280" y="3357720"/>
            <a:ext cx="393732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кадемик Лебеде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.А. – основатель отечественных вычислительных машин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"/>
          <p:cNvSpPr/>
          <p:nvPr/>
        </p:nvSpPr>
        <p:spPr>
          <a:xfrm>
            <a:off x="348624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66688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73" name="k6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46134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Ада Августа Лавлейс"/>
          <p:cNvPicPr/>
          <p:nvPr/>
        </p:nvPicPr>
        <p:blipFill>
          <a:blip r:embed="rId2"/>
          <a:stretch/>
        </p:blipFill>
        <p:spPr>
          <a:xfrm>
            <a:off x="611280" y="2708280"/>
            <a:ext cx="2408040" cy="36003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6" name=""/>
          <p:cNvSpPr/>
          <p:nvPr/>
        </p:nvSpPr>
        <p:spPr>
          <a:xfrm>
            <a:off x="3203640" y="2781360"/>
            <a:ext cx="46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чь лорда Джорджа Гордона Байрона, великого английского поэта. Ада считается первой в мире программистом. В честь неё был назван язык программирования Ада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71640" y="1700280"/>
            <a:ext cx="518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Ада Лавлейс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99"/>
                </a:solidFill>
                <a:uFillTx/>
                <a:latin typeface="Arial Black"/>
                <a:hlinkClick r:id="rId2" action="ppaction://hlinksldjump"/>
              </a:rPr>
              <a:t>IV </a:t>
            </a:r>
            <a:r>
              <a:rPr b="0" lang="ru-RU" sz="4400" spc="-1" strike="noStrike" u="sng">
                <a:solidFill>
                  <a:srgbClr val="ff3399"/>
                </a:solidFill>
                <a:uFillTx/>
                <a:latin typeface="Arial Black"/>
                <a:hlinkClick r:id="rId3" action="ppaction://hlinksldjump"/>
              </a:rPr>
              <a:t>поколение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"/>
          <p:cNvSpPr/>
          <p:nvPr/>
        </p:nvSpPr>
        <p:spPr>
          <a:xfrm>
            <a:off x="6877080" y="3860640"/>
            <a:ext cx="208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Обычно считается, что период с 1975 по 1985 гг. принадлежит компьютерам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четвертого поколения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468360" y="1700280"/>
            <a:ext cx="63324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7:44:19Z</dcterms:created>
  <dc:creator>1</dc:creator>
  <dc:description/>
  <dc:language>en-US</dc:language>
  <cp:lastModifiedBy>Мама</cp:lastModifiedBy>
  <dcterms:modified xsi:type="dcterms:W3CDTF">2010-10-08T11:42:39Z</dcterms:modified>
  <cp:revision>176</cp:revision>
  <dc:subject/>
  <dc:title>Слайд 1</dc:title>
</cp:coreProperties>
</file>