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gif" ContentType="image/gif"/>
  <Override PartName="/ppt/media/image9.gif" ContentType="image/gif"/>
  <Override PartName="/ppt/media/image10.jpeg" ContentType="image/jpeg"/>
  <Override PartName="/ppt/media/image12.gif" ContentType="image/gi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F4B7-FC2D-4CC0-A236-4C4901AF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5CEB-178F-4497-80FA-7C2288F6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FA6C-C0E9-40C8-889C-95752913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8D64-501A-4FCF-AC72-DAC90322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B85B-0413-4326-9FE2-99BAF809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B506-13E3-4F95-80B7-9F47CED0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6BB4-0E20-4D6C-8A3C-AA6B0A15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1EBE-A099-42F4-93CF-4F262A3F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55F2-CB2C-4AB4-8F5A-216B6BF5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F416-40B0-48FF-BDFC-84FF83AE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BC26-933E-41CD-AB7A-455B3384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926-DE2D-4721-9DC9-BA544E63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1253-335B-4A67-9F8C-3ED37DCB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2E3A-3AD7-42EE-9E8C-A7852C30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613C-F0C6-4303-B2C4-2B0E154D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DACA-8999-4B9A-87DA-FFCB1C6E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2F45-4C97-4249-8DD7-F5698558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3768-1B54-4A2E-9E38-E2D12FBA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5F8E-53A1-4866-9833-602D8BA2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7E33-95D8-4A96-A56A-A4D46FFF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83D9-6AB4-4E25-A982-8CC9F791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3C93-30E3-46B9-A87C-DE646B58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CCD-FDF3-434D-9887-67EF2790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1700-EDA0-41C4-80E0-A2FE9B2E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1BFA-0D67-49F9-BE58-699B4FEC501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85FE-0042-456A-8B2F-17FBE117B4D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26920" y="692280"/>
            <a:ext cx="5113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уточная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кторина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" name=""/>
          <p:cNvSpPr/>
          <p:nvPr/>
        </p:nvSpPr>
        <p:spPr>
          <a:xfrm>
            <a:off x="539640" y="2997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1)  Кто жужжит в дисководе?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843280" y="3789360"/>
            <a:ext cx="4152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Овод - диско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2)  Какое зерно интересует программиста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24360" y="5589720"/>
            <a:ext cx="41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ерно диспле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1116000" y="3357720"/>
            <a:ext cx="1295280" cy="14968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1403280" y="5157720"/>
            <a:ext cx="1440000" cy="14209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860436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95280" y="333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67280" y="836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700360" y="1413000"/>
            <a:ext cx="2735280" cy="115236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ылкие сердечные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увства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40360" y="2565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43280" y="3141720"/>
            <a:ext cx="2592360" cy="180000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бранник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ол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рения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908000" y="4076640"/>
            <a:ext cx="9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1979640" y="1125360"/>
            <a:ext cx="0" cy="295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979640" y="11253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140360" y="4941720"/>
            <a:ext cx="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43280" y="5516640"/>
            <a:ext cx="2376360" cy="7189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ное забвени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140360" y="623736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68360" y="371628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1640" y="50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0" y="4149720"/>
            <a:ext cx="864072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 глаз долой - из сердца во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619280" y="1268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Учитель информатики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Лицея №1589 г. Москвы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Назарова Галина Алексеевна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21049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9640" y="40464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3) Почему кошки очень любят лизать руки программистам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116000" y="2852640"/>
            <a:ext cx="56865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отому что их ру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пахнут мыш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1280" y="422100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4)  Почему у программистов хронический насморк и кашель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258920" y="5300640"/>
            <a:ext cx="6504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Потому что подолгу сидя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перед распахнутыми окн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1"/>
          <a:stretch/>
        </p:blipFill>
        <p:spPr>
          <a:xfrm>
            <a:off x="1763640" y="1197000"/>
            <a:ext cx="16574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11280" y="404640"/>
            <a:ext cx="59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5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акие банки создают только программисты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050920" y="1341360"/>
            <a:ext cx="388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Банки дан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11280" y="2349360"/>
            <a:ext cx="66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6)  «Открой окошко – разорю тебя немножко». О чём это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124000" y="3357720"/>
            <a:ext cx="5329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О всплывающ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Интернет - реклам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465300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7)  Лучшее средство от компьютерных вирусов – это …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1280" y="5661000"/>
            <a:ext cx="813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Одноразовый компьют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539640" y="549360"/>
            <a:ext cx="8064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/>
          <p:nvPr/>
        </p:nvSpPr>
        <p:spPr>
          <a:xfrm>
            <a:off x="3276720" y="2060640"/>
            <a:ext cx="53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вид пышной круглой булочки, а получилось устройство, облегчающее ввод информации в компьютер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7164360" y="386064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3924360" y="407664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ы ш к а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7308720" y="5157720"/>
            <a:ext cx="1095480" cy="12096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3419640" y="5373720"/>
            <a:ext cx="325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М ы ш к 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883908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916360" y="1628640"/>
            <a:ext cx="59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название красиво завязанной ленты, а получилась единица измерения количества информаци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067280" y="3500280"/>
            <a:ext cx="2233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а н т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924360" y="5300640"/>
            <a:ext cx="2746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Б а й 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6372360" y="2924280"/>
            <a:ext cx="20872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276720" y="1773360"/>
            <a:ext cx="539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высшее учёное звание преподавателя вуза, а получилось центральное устройство ПК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564000" y="3573360"/>
            <a:ext cx="4390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р о ф е с с о р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348000" y="5157720"/>
            <a:ext cx="532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процесс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203640" y="1844640"/>
            <a:ext cx="53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ел написать вид лёгкой атлетики, а получился разметочный указатель языка НТ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3419640" y="3573360"/>
            <a:ext cx="5473440" cy="10144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211640" y="4724280"/>
            <a:ext cx="244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е г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140360" y="5589720"/>
            <a:ext cx="2303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т е г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68360" y="333360"/>
            <a:ext cx="806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лок-схемы послови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5280" y="1125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84720" y="162864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59280" y="2133720"/>
            <a:ext cx="2665080" cy="1008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пятствие в вид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вышенности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56000" y="3141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03640" y="3645000"/>
            <a:ext cx="2305080" cy="151272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ный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508720" y="436572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050920" y="436572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050920" y="436572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732720" y="436572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4360" y="5157720"/>
            <a:ext cx="2808000" cy="504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схождени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80000" y="5157720"/>
            <a:ext cx="2232000" cy="432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ход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050920" y="5661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04000" y="558972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50920" y="6165720"/>
            <a:ext cx="475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340000" y="4005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3068640"/>
            <a:ext cx="842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мный в гору не пойдё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умный гору обойдё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8459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4" dur="1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95280" y="333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211640" y="9079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59280" y="2060640"/>
            <a:ext cx="2232000" cy="187164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92720" y="299736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443640" y="299736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508720" y="3860640"/>
            <a:ext cx="1873080" cy="50508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140360" y="393372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2000" y="4797360"/>
            <a:ext cx="2016360" cy="64764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вка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050560" y="508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050920" y="1267920"/>
            <a:ext cx="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50920" y="1268280"/>
            <a:ext cx="216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80000" y="263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2116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539640" y="5589720"/>
            <a:ext cx="792180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Куй железо, пока горяч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7:44:19Z</dcterms:created>
  <dc:creator>1</dc:creator>
  <dc:description/>
  <dc:language>en-US</dc:language>
  <cp:lastModifiedBy>Мама</cp:lastModifiedBy>
  <dcterms:modified xsi:type="dcterms:W3CDTF">2010-10-08T11:40:13Z</dcterms:modified>
  <cp:revision>175</cp:revision>
  <dc:subject/>
  <dc:title>Слайд 1</dc:title>
</cp:coreProperties>
</file>