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gif" ContentType="image/gif"/>
  <Override PartName="/ppt/media/image9.gif" ContentType="image/gif"/>
  <Override PartName="/ppt/media/image10.jpeg" ContentType="image/jpeg"/>
  <Override PartName="/ppt/media/image12.gif" ContentType="image/gi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D69-3C27-4637-B154-E93ABFD9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280F-FCDA-469C-A33E-0D644D59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793B-DC66-4B4A-B439-82C68EA1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B0C-716A-495F-A2DC-57F2EED2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BBD8-A7B9-4AAC-8AA6-D70AFF27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CC4B-D451-4FF4-AA76-D05065A6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8810-A052-4FA0-8470-A6DCA58A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6C9B-3195-429F-A1D7-C93A80D7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52BF-27D5-4DB8-B58C-E6DD836C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CB82-C20D-497B-99BF-FF5116D6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A6B9-57D4-4FC3-8709-B8AB707B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510-543A-4589-8217-E637CF56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9E97-F3AB-4EA3-A042-41252612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173C-56E4-405E-B1AF-FE4CFD6E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2662-5882-4A21-A8EE-62A03057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7BE7-DA24-4FA8-88C2-C580355C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5ACF-C54F-4610-B3B2-76F391F3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4A54-B188-4516-A1C0-0050798E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1C3-41EE-4E51-A0CA-53A12FF6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FEF-0AA5-4681-850D-B4294888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A75E-F7BD-463E-9AE5-5B159956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A861-C323-4C6A-86F5-C0ED59A0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953-B893-41D0-9713-7861F0ED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5C1-A0F7-499D-BFAC-6B1C5697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3E80-C14A-4662-B307-73C25876D82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4144-1F6A-4D44-921E-06CB938333F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26920" y="692280"/>
            <a:ext cx="5113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уточная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кторина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2997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1)  Кто жужжит в дисководе?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843280" y="3789360"/>
            <a:ext cx="4152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Овод - диско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2)  Какое зерно интересует программиста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5589720"/>
            <a:ext cx="41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ерно диспле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1116000" y="3357720"/>
            <a:ext cx="1295280" cy="14968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1403280" y="5157720"/>
            <a:ext cx="1440000" cy="1420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860436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67280" y="836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00360" y="1413000"/>
            <a:ext cx="2735280" cy="115236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ылкие сердечные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увств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40360" y="2565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43280" y="3141720"/>
            <a:ext cx="2592360" cy="180000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бранник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ол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рения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908000" y="4076640"/>
            <a:ext cx="9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979640" y="1125360"/>
            <a:ext cx="0" cy="295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79640" y="11253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140360" y="494172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43280" y="5516640"/>
            <a:ext cx="2376360" cy="7189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ное забвени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40360" y="623736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68360" y="371628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164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0" y="4149720"/>
            <a:ext cx="864072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 глаз долой - из сердца во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619280" y="126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Учитель информати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цея №1589 г. Москв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зарова Галина Алексее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210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9640" y="40464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3) Почему кошки очень любят лизать руки программистам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116000" y="2852640"/>
            <a:ext cx="56865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отому что их ру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пахнут мыш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422100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4)  Почему у программистов хронический насморк и кашель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258920" y="5300640"/>
            <a:ext cx="6504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Потому что подолгу сидя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перед распахнутыми ок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1763640" y="1197000"/>
            <a:ext cx="16574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11280" y="404640"/>
            <a:ext cx="59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5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акие банки создают только программисты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050920" y="1341360"/>
            <a:ext cx="388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Банки дан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1280" y="2349360"/>
            <a:ext cx="66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6)  «Открой окошко – разорю тебя немножко». О чём это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124000" y="3357720"/>
            <a:ext cx="5329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О всплывающ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Интернет - реклам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465300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7)  Лучшее средство от компьютерных вирусов – это 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1280" y="5661000"/>
            <a:ext cx="81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Одноразовый компьют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539640" y="549360"/>
            <a:ext cx="806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206064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вид пышной круглой булочки, а получилось устройство, облегчающее ввод информации в компьютер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7164360" y="386064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924360" y="407664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ы ш к а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7308720" y="5157720"/>
            <a:ext cx="1095480" cy="12096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3419640" y="5373720"/>
            <a:ext cx="325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М ы ш к 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883908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916360" y="1628640"/>
            <a:ext cx="59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название красиво завязанной ленты, а получилась единица измерения количества информаци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067280" y="3500280"/>
            <a:ext cx="2233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а н т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924360" y="5300640"/>
            <a:ext cx="2746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Б а й 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6372360" y="2924280"/>
            <a:ext cx="2087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276720" y="1773360"/>
            <a:ext cx="539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высшее учёное звание преподавателя вуза, а получилось центральное устройство ПК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564000" y="3573360"/>
            <a:ext cx="4390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р о ф е с с о р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348000" y="5157720"/>
            <a:ext cx="532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процесс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203640" y="1844640"/>
            <a:ext cx="53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ел написать вид лёгкой атлетики, а получился разметочный указатель языка НТ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3419640" y="3573360"/>
            <a:ext cx="5473440" cy="10144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211640" y="4724280"/>
            <a:ext cx="244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е г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140360" y="5589720"/>
            <a:ext cx="2303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т е г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68360" y="333360"/>
            <a:ext cx="806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лок-схемы послови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5280" y="1125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84720" y="162864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59280" y="2133720"/>
            <a:ext cx="2665080" cy="1008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пятствие в вид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вышенности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56000" y="3141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03640" y="3645000"/>
            <a:ext cx="2305080" cy="151272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ный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508720" y="43657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050920" y="436572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5092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3272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4360" y="5157720"/>
            <a:ext cx="2808000" cy="504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хождени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5157720"/>
            <a:ext cx="2232000" cy="432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ход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050920" y="5661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04000" y="558972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50920" y="6165720"/>
            <a:ext cx="475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40000" y="4005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3068640"/>
            <a:ext cx="842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мный в гору не пойдё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умный гору обойдё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8459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4" dur="1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11640" y="9079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59280" y="2060640"/>
            <a:ext cx="2232000" cy="187164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92720" y="299736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443640" y="299736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08720" y="3860640"/>
            <a:ext cx="1873080" cy="50508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140360" y="393372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2000" y="4797360"/>
            <a:ext cx="2016360" cy="64764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вк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050560" y="50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050920" y="1267920"/>
            <a:ext cx="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50920" y="126828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80000" y="26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116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539640" y="5589720"/>
            <a:ext cx="792180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уй железо, пока горяч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4:19Z</dcterms:created>
  <dc:creator>1</dc:creator>
  <dc:description/>
  <dc:language>en-US</dc:language>
  <cp:lastModifiedBy>Мама</cp:lastModifiedBy>
  <dcterms:modified xsi:type="dcterms:W3CDTF">2010-10-08T11:40:13Z</dcterms:modified>
  <cp:revision>175</cp:revision>
  <dc:subject/>
  <dc:title>Слайд 1</dc:title>
</cp:coreProperties>
</file>