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gif" ContentType="image/gif"/>
  <Override PartName="/ppt/media/image9.gif" ContentType="image/gif"/>
  <Override PartName="/ppt/media/image10.jpeg" ContentType="image/jpeg"/>
  <Override PartName="/ppt/media/image12.gif" ContentType="image/gi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E2E4-99A9-43AB-9CFB-B087E4A8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B038-FB8F-4FD7-8673-B06EABA8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A52-50FB-428F-97BC-B6E36513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3E03-F291-48C4-9817-2957DBAB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5CB7-2483-48FF-8A24-B3197A90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4E79-F335-49D4-9C01-09DB5755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083C-5182-45B5-B1E9-06E3283D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CD3C-B174-45CB-8D07-BDA3C42B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D9CE-2F56-4E49-843F-7697970E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D7BE-6D3C-4C7A-A70F-38F0838A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D905-1F11-4A7A-B8FE-D816A840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0AF0-D4EF-4BBA-9777-6251222D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358F-20F4-40EC-A37C-5C8F07E7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BF26-DB32-45F3-ADE2-E73DE99C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E136-0CC8-411E-A010-758CEB3C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A968-57F9-4544-9136-A084E61E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05FC-ECA9-4207-A4DE-ABBF2A73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FFA-D586-4AF0-8C43-CC0010CB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5321-F8FC-4004-A536-B95AB3E1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D51-D5B0-432A-A43A-67F255EC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C9D3-D2BB-4ECB-B63B-A559B52C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49F-A5BE-47C4-A5BD-7FE3B085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472-7642-4963-8CEF-9C6F3D5C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BFE-3BAD-45EA-85FD-95D345A5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D9F1-3870-48B3-88DD-FA89CDEFCF9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ACB4-00E8-4AC1-BF77-9E3B0FB797B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26920" y="692280"/>
            <a:ext cx="5113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уточная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кторина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2997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1)  Кто жужжит в дисководе?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843280" y="3789360"/>
            <a:ext cx="4152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Овод - диско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2)  Какое зерно интересует программиста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5589720"/>
            <a:ext cx="41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ерно диспле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1116000" y="3357720"/>
            <a:ext cx="1295280" cy="14968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1403280" y="5157720"/>
            <a:ext cx="1440000" cy="1420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860436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67280" y="836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00360" y="1413000"/>
            <a:ext cx="2735280" cy="1152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ылкие сердечные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увств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40360" y="2565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43280" y="3141720"/>
            <a:ext cx="2592360" cy="180000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бранник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л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рения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908000" y="4076640"/>
            <a:ext cx="9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979640" y="1125360"/>
            <a:ext cx="0" cy="295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79640" y="11253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140360" y="494172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43280" y="5516640"/>
            <a:ext cx="2376360" cy="7189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ное забвени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40360" y="623736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68360" y="371628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164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4149720"/>
            <a:ext cx="864072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 глаз долой - из сердца во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9640" y="40464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3) Почему кошки очень любят лизать руки программистам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116000" y="2852640"/>
            <a:ext cx="56865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отому что их ру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пахнут мыш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422100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4)  Почему у программистов хронический насморк и кашель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258920" y="5300640"/>
            <a:ext cx="6504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Потому что подолгу сидя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перед распахнутыми ок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1763640" y="1197000"/>
            <a:ext cx="16574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11280" y="404640"/>
            <a:ext cx="59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5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акие банки создают только программисты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050920" y="1341360"/>
            <a:ext cx="388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Банки дан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1280" y="2349360"/>
            <a:ext cx="66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6)  «Открой окошко – разорю тебя немножко». О чём это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124000" y="3357720"/>
            <a:ext cx="5329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О всплывающ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Интернет - реклам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465300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7)  Лучшее средство от компьютерных вирусов – это 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1280" y="5661000"/>
            <a:ext cx="81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Одноразовый компьют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539640" y="549360"/>
            <a:ext cx="806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206064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вид пышной круглой булочки, а получилось устройство, облегчающее ввод информации в компьютер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7164360" y="386064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924360" y="407664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ы ш к а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7308720" y="5157720"/>
            <a:ext cx="1095480" cy="12096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3419640" y="5373720"/>
            <a:ext cx="325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М ы ш к 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883908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916360" y="1628640"/>
            <a:ext cx="59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название красиво завязанной ленты, а получилась единица измерения количества информаци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067280" y="3500280"/>
            <a:ext cx="2233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а н т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924360" y="5300640"/>
            <a:ext cx="2746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Б а й 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6372360" y="2924280"/>
            <a:ext cx="2087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276720" y="1773360"/>
            <a:ext cx="539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высшее учёное звание преподавателя вуза, а получилось центральное устройство ПК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564000" y="3573360"/>
            <a:ext cx="4390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р о ф е с с о р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348000" y="5157720"/>
            <a:ext cx="532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процесс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203640" y="184464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ел написать вид лёгкой атлетики, а получился разметочный указатель языка НТ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3419640" y="3573360"/>
            <a:ext cx="5473440" cy="10144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211640" y="4724280"/>
            <a:ext cx="244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е г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140360" y="5589720"/>
            <a:ext cx="230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т е г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68360" y="333360"/>
            <a:ext cx="806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лок-схемы послови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5280" y="1125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84720" y="162864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59280" y="2133720"/>
            <a:ext cx="2665080" cy="1008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пятствие в вид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вышенности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56000" y="31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03640" y="3645000"/>
            <a:ext cx="2305080" cy="151272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ный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08720" y="43657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050920" y="436572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509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327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4360" y="5157720"/>
            <a:ext cx="2808000" cy="504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хождени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5157720"/>
            <a:ext cx="2232000" cy="432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ход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50920" y="5661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04000" y="558972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50920" y="6165720"/>
            <a:ext cx="475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40000" y="4005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3068640"/>
            <a:ext cx="842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мный в гору не пойдё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умный гору обойдё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8459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11640" y="9079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9280" y="2060640"/>
            <a:ext cx="2232000" cy="187164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92720" y="299736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443640" y="299736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08720" y="3860640"/>
            <a:ext cx="1873080" cy="50508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140360" y="393372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2000" y="4797360"/>
            <a:ext cx="2016360" cy="64764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вк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050560" y="50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050920" y="1267920"/>
            <a:ext cx="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50920" y="126828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8000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11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539640" y="5589720"/>
            <a:ext cx="792180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уй железо, пока горяч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0:13Z</dcterms:modified>
  <cp:revision>175</cp:revision>
  <dc:subject/>
  <dc:title>Слайд 1</dc:title>
</cp:coreProperties>
</file>