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gif" ContentType="image/gif"/>
  <Override PartName="/ppt/media/image9.gif" ContentType="image/gif"/>
  <Override PartName="/ppt/media/image10.jpeg" ContentType="image/jpeg"/>
  <Override PartName="/ppt/media/image12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539-A717-4C36-AA9B-D6C22A89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579-4568-4283-A87D-C9209BF3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6D9-4E4E-43C5-ABD5-F6EE10F0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20B-D6DD-44DC-8EC3-3E4C5D83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8577-746C-4432-B309-537CD4D0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05E2-0F76-4960-B666-33FDBD10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6CE3-F1B5-4F08-8565-FEA7E3DD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9B85-196A-487C-B844-88E9EFF1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98A3-C471-41B2-8FF1-73686C36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A1C3-50C0-4356-8391-804CF088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608B-9745-4ED4-8955-5439C4C9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E3A-B357-4DA0-B928-C9894373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E15F-12D2-4419-B038-E5D362B1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9D7D-F807-402A-B763-99313042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7E9D-ACBE-40B2-8AE7-B6FDC04B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2A33-3450-47D7-89D2-EAACD51A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2BF8-815A-41FC-A631-12686405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5C6-D108-4D75-87A9-602F1F23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462-3429-4ACB-9709-95E0F30B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238-875A-403B-A48A-0E66A0AE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8DC-5302-49AE-8992-D7A0BA2A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FF0-7E97-498A-9A40-AE41C09E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3D0-D565-4C00-AD39-6B61EDDE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FC1-268C-4924-BA86-E6937ACD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3C48-830E-4A4F-9B19-7F97984994B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9F10-60DD-4191-94E4-5315D16A8DA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920" y="692280"/>
            <a:ext cx="5113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уточная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2997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1)  Кто жужжит в дисководе?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43280" y="3789360"/>
            <a:ext cx="415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Овод - диско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2)  Какое зерно интересует программиста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558972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ерно диспл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1116000" y="3357720"/>
            <a:ext cx="1295280" cy="14968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1403280" y="5157720"/>
            <a:ext cx="1440000" cy="1420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860436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67280" y="836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00360" y="1413000"/>
            <a:ext cx="2735280" cy="1152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ылкие сердечные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увств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4036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43280" y="3141720"/>
            <a:ext cx="2592360" cy="180000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бранник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л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рения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908000" y="407664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979640" y="1125360"/>
            <a:ext cx="0" cy="29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79640" y="11253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494172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43280" y="5516640"/>
            <a:ext cx="2376360" cy="7189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ное забв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40360" y="623736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37162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164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4149720"/>
            <a:ext cx="864072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 глаз долой - из сердца во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9640" y="40464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3) Почему кошки очень любят лизать руки программистам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16000" y="2852640"/>
            <a:ext cx="5686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отому что их ру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ахнут мыш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422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4)  Почему у программистов хронический насморк и кашель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58920" y="5300640"/>
            <a:ext cx="6504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отому что подолгу сидя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перед распахнутыми ок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1763640" y="1197000"/>
            <a:ext cx="16574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11280" y="40464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5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акие банки создают только программисты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50920" y="1341360"/>
            <a:ext cx="388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Банки дан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234936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6)  «Открой окошко – разорю тебя немножко». О чём это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124000" y="3357720"/>
            <a:ext cx="5329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О всплывающ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Интернет - реклам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46530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7)  Лучшее средство от компьютерных вирусов – это 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1280" y="5661000"/>
            <a:ext cx="81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Одноразовый компью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39640" y="549360"/>
            <a:ext cx="806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206064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ид пышной круглой булочки, а получилось устройство, облегчающее ввод информации в компьютер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7164360" y="386064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924360" y="407664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ы ш к а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7308720" y="5157720"/>
            <a:ext cx="1095480" cy="1209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419640" y="5373720"/>
            <a:ext cx="325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М ы ш к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88390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916360" y="162864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название красиво завязанной ленты, а получилась единица измерения количества информаци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67280" y="3500280"/>
            <a:ext cx="2233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н т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24360" y="5300640"/>
            <a:ext cx="2746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Б а й 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372360" y="292428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276720" y="1773360"/>
            <a:ext cx="539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ысшее учёное звание преподавателя вуза, а получилось центральное устройство ПК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564000" y="3573360"/>
            <a:ext cx="439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р о ф е с с о р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348000" y="5157720"/>
            <a:ext cx="53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процесс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203640" y="184464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ел написать вид лёгкой атлетики, а получился разметочный указатель языка НТ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419640" y="3573360"/>
            <a:ext cx="5473440" cy="10144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211640" y="4724280"/>
            <a:ext cx="244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е г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140360" y="5589720"/>
            <a:ext cx="230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т е г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68360" y="333360"/>
            <a:ext cx="80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ок-схемы послови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5280" y="1125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84720" y="1628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59280" y="2133720"/>
            <a:ext cx="2665080" cy="1008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ятствие в вид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вышенности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5600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03640" y="3645000"/>
            <a:ext cx="2305080" cy="151272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ный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08720" y="4365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050920" y="436572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09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327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4360" y="5157720"/>
            <a:ext cx="2808000" cy="504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хожд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5157720"/>
            <a:ext cx="2232000" cy="432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ход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50920" y="5661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04000" y="558972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50920" y="616572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40000" y="400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3068640"/>
            <a:ext cx="84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мный в гору не пой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умный гору обойд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11640" y="907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2060640"/>
            <a:ext cx="2232000" cy="187164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92720" y="299736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43640" y="299736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08720" y="3860640"/>
            <a:ext cx="1873080" cy="50508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40360" y="39337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2000" y="4797360"/>
            <a:ext cx="2016360" cy="64764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к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050560" y="50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050920" y="1267920"/>
            <a:ext cx="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50920" y="126828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11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39640" y="5589720"/>
            <a:ext cx="7921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уй железо, пока горяч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0:13Z</dcterms:modified>
  <cp:revision>175</cp:revision>
  <dc:subject/>
  <dc:title>Слайд 1</dc:title>
</cp:coreProperties>
</file>