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wmf" ContentType="image/x-wmf"/>
  <Override PartName="/ppt/media/image6.png" ContentType="image/png"/>
  <Override PartName="/ppt/media/image7.jpeg" ContentType="image/jpeg"/>
  <Override PartName="/ppt/media/image11.png" ContentType="image/png"/>
  <Override PartName="/ppt/media/image8.gif" ContentType="image/gif"/>
  <Override PartName="/ppt/media/image9.gif" ContentType="image/gif"/>
  <Override PartName="/ppt/media/image10.jpeg" ContentType="image/jpeg"/>
  <Override PartName="/ppt/media/image12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AC6-3E46-4E04-BAEB-FCE3F45E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F03-C5EC-4747-A301-2E4FE889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9904-D04D-403A-8F35-1FD9E096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CF9-EF25-46E9-B91F-72267F55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317F-4D87-4CEC-85F1-9DCB5860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8FA6-15BA-43CA-9500-1586DF9F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BCA8-1FF5-4414-BD3D-FD700A6C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B35F-6F1C-44E7-AD89-074F3FA9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FCB0-0C4A-4162-9B43-99715C07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997B-9DBD-4810-8F3C-8EE101DE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8663-7BA4-4D48-A5F8-CA353E4B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00C1-E5DA-41BD-A1B7-4104403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72AD-C20A-400D-B5A6-A3D909CA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3C64-230A-4019-8E45-16902EE1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6E60-8BE5-4F6D-80E5-8BE12275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CCFC-5E0D-4C42-B0C0-F289E24BD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85382-5AE6-481B-B88D-5C371E73A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85A-A136-4814-95CE-63D19F7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AB9-4BFA-4CDD-814E-D6861FA7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CD53-665C-4803-A3D9-CA62203A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435-629D-49E3-843F-03D931E5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C080-22A7-44DC-9B7D-58AAA961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304D-C63E-4252-9926-CB7CB02C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5433-01B9-49AC-AE1A-D4093D57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3DFB-77AE-4E9E-87AB-50C5DF51DBB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115-4723-4561-AB55-50283231943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26920" y="692280"/>
            <a:ext cx="51134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Шуточная 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икторина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97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1)  Кто жужжит в дисководе?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43280" y="3789360"/>
            <a:ext cx="4152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Овод - дисково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2)  Какое зерно интересует программиста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924360" y="558972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Зерно диспле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4"/>
          <a:stretch/>
        </p:blipFill>
        <p:spPr>
          <a:xfrm>
            <a:off x="1116000" y="3357720"/>
            <a:ext cx="1295280" cy="149688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5"/>
          <a:stretch/>
        </p:blipFill>
        <p:spPr>
          <a:xfrm>
            <a:off x="1403280" y="5157720"/>
            <a:ext cx="1440000" cy="1420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6"/>
          <a:stretch/>
        </p:blipFill>
        <p:spPr>
          <a:xfrm>
            <a:off x="860436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67280" y="83664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700360" y="1413000"/>
            <a:ext cx="2735280" cy="115236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ылкие сердечные 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чувств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140360" y="25653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43280" y="3141720"/>
            <a:ext cx="2592360" cy="180000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бранник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ол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рения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H="1">
            <a:off x="1908000" y="4076640"/>
            <a:ext cx="93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1979640" y="1125360"/>
            <a:ext cx="0" cy="295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79640" y="112536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140360" y="4941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43280" y="5516640"/>
            <a:ext cx="2376360" cy="7189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ное забв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140360" y="623736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371628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1640" y="5084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0" y="4149720"/>
            <a:ext cx="8640720" cy="14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 глаз долой - из сердца вон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619280" y="1268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Black"/>
              </a:rPr>
              <a:t>Выполнила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Учитель информатики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Лицея №1589 г. Москвы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Назарова Галина Алексеевна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21049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9640" y="404640"/>
            <a:ext cx="63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3) Почему кошки очень любят лизать руки программистам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116000" y="2852640"/>
            <a:ext cx="5686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Потому что их ру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пахнут мыш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422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4)  Почему у программистов хронический насморк и кашель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58920" y="5300640"/>
            <a:ext cx="65041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Потому что подолгу сидя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"/>
              </a:rPr>
              <a:t>перед распахнутыми окна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1"/>
          <a:stretch/>
        </p:blipFill>
        <p:spPr>
          <a:xfrm>
            <a:off x="1763640" y="1197000"/>
            <a:ext cx="165744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11280" y="404640"/>
            <a:ext cx="59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5)</a:t>
            </a:r>
            <a:r>
              <a:rPr b="1" lang="en-US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Какие банки создают только программисты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2050920" y="1341360"/>
            <a:ext cx="3888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Банки данны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34936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6)  «Открой окошко – разорю тебя немножко». О чём это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124000" y="3357720"/>
            <a:ext cx="5329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О всплывающ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Интернет - рекламе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4360" y="4653000"/>
            <a:ext cx="82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7)  Лучшее средство от компьютерных вирусов – это …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1280" y="5661000"/>
            <a:ext cx="8137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Одноразовый компью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539640" y="549360"/>
            <a:ext cx="8064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70" name=""/>
          <p:cNvSpPr/>
          <p:nvPr/>
        </p:nvSpPr>
        <p:spPr>
          <a:xfrm>
            <a:off x="3276720" y="2060640"/>
            <a:ext cx="53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ид пышной круглой булочки, а получилось устройство, облегчающее ввод информации в компьютер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3"/>
          <a:stretch/>
        </p:blipFill>
        <p:spPr>
          <a:xfrm>
            <a:off x="7164360" y="386064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924360" y="407664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ы ш к а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4"/>
          <a:stretch/>
        </p:blipFill>
        <p:spPr>
          <a:xfrm>
            <a:off x="7308720" y="5157720"/>
            <a:ext cx="1095480" cy="12096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3419640" y="5373720"/>
            <a:ext cx="32590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М ы ш к 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5"/>
          <a:stretch/>
        </p:blipFill>
        <p:spPr>
          <a:xfrm>
            <a:off x="88390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916360" y="162864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название красиво завязанной ленты, а получилась единица измерения количества информации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067280" y="3500280"/>
            <a:ext cx="223344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а н т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924360" y="5300640"/>
            <a:ext cx="27464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Б а й 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6372360" y="2924280"/>
            <a:ext cx="20872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276720" y="1773360"/>
            <a:ext cx="5398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отел написать высшее учёное звание преподавателя вуза, а получилось центральное устройство ПК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564000" y="3573360"/>
            <a:ext cx="43909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 р о ф е с с о р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348000" y="5157720"/>
            <a:ext cx="53276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процессо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68360" y="333360"/>
            <a:ext cx="8064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 а с е я н н ы й     п р о г р а м м и с 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011400" cy="37749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203640" y="1844640"/>
            <a:ext cx="53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тел написать вид лёгкой атлетики, а получился разметочный указатель языка НТ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5473440" cy="10144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211640" y="4724280"/>
            <a:ext cx="2449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 е г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140360" y="5589720"/>
            <a:ext cx="23032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- т е г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68360" y="33336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лок-схемы пословиц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5280" y="1125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284720" y="162864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59280" y="2133720"/>
            <a:ext cx="266508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пятствие в вид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звышенности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56000" y="314172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03640" y="3645000"/>
            <a:ext cx="2305080" cy="151272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ный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508720" y="43657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050920" y="4365720"/>
            <a:ext cx="11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32720" y="4365720"/>
            <a:ext cx="0" cy="79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4360" y="5157720"/>
            <a:ext cx="2808000" cy="50472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осхождение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580000" y="5157720"/>
            <a:ext cx="2232000" cy="43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Обход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050920" y="566100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04000" y="5589720"/>
            <a:ext cx="0" cy="57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50920" y="6165720"/>
            <a:ext cx="475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867280" y="393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40000" y="4005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0" y="3068640"/>
            <a:ext cx="842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Умный в гору не пой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умный гору обойд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6"/>
          <a:stretch/>
        </p:blipFill>
        <p:spPr>
          <a:xfrm>
            <a:off x="845964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1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95280" y="33336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пробуйте сформулировать известную русскую пословицу по её блок-схеме.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11640" y="90792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59280" y="2060640"/>
            <a:ext cx="2232000" cy="1871640"/>
          </a:xfrm>
          <a:prstGeom prst="diamond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92720" y="299736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443640" y="2997360"/>
            <a:ext cx="0" cy="86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08720" y="3860640"/>
            <a:ext cx="1873080" cy="50508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40360" y="3933720"/>
            <a:ext cx="0" cy="863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32000" y="4797360"/>
            <a:ext cx="2016360" cy="64764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вка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050560" y="5084640"/>
            <a:ext cx="10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2050920" y="126792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50920" y="1268280"/>
            <a:ext cx="216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58000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11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539640" y="5589720"/>
            <a:ext cx="792180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Куй железо, пока горячо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7:44:19Z</dcterms:created>
  <dc:creator>1</dc:creator>
  <dc:description/>
  <dc:language>en-US</dc:language>
  <cp:lastModifiedBy>Мама</cp:lastModifiedBy>
  <dcterms:modified xsi:type="dcterms:W3CDTF">2010-10-08T11:40:13Z</dcterms:modified>
  <cp:revision>175</cp:revision>
  <dc:subject/>
  <dc:title>Слайд 1</dc:title>
</cp:coreProperties>
</file>