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gif" ContentType="image/gif"/>
  <Override PartName="/ppt/media/image9.gif" ContentType="image/gif"/>
  <Override PartName="/ppt/media/image10.jpeg" ContentType="image/jpeg"/>
  <Override PartName="/ppt/media/image12.gif" ContentType="image/gi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4C0-B5A3-4FCF-A665-C3903821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0723-CAF9-4704-8E7D-E317DFB8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6DE0-5D83-47F4-99F6-301A062F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B5E-EA86-48C2-9F33-62ECAF38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60FE-3A7D-48BA-AA2E-2FAC071A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0ED9-1D89-47ED-B3C2-7DF90AF3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A6AA-EF9B-48EB-9F0C-445054FE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75CF-8281-40F8-81E3-814DC504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9E42-02A6-4D9C-855F-9D66AE9F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90B7-39B5-4544-ACD0-C00734D6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6EC9-7A97-4FA1-B58A-6E296ABA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D4E-FD62-4330-8BC1-54A6061E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AD6C-A046-4C14-B218-685419C0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DCB9-A6E9-4E9E-A208-1E5C7582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60F3-C2F3-4801-974F-92A4480B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4663-0FD4-40E9-BFE2-058DFFF5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E51A-ACEF-4FF1-8BC7-17B072E1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F6F-07C1-4A9B-B6AB-1A6E8C91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C1A-E878-4CB6-9BD9-588AFFDA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0AE3-93E7-4CA7-8E3B-34122B7E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67A-0A72-4E88-91D6-FB8AC5AE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5F9-3F6B-44F5-BC53-1738CBD6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A67-A3A5-4964-AA7A-0DE03DA8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4A30-A911-48D2-9ABC-8E6A5B1F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94BE-C3FE-4491-8C83-AF87B589E35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6D38-4967-4D54-9267-BD642679DFF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26920" y="692280"/>
            <a:ext cx="5113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уточная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кторина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2997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1)  Кто жужжит в дисководе?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843280" y="3789360"/>
            <a:ext cx="4152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Овод - диско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2)  Какое зерно интересует программиста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5589720"/>
            <a:ext cx="41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ерно диспле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1116000" y="3357720"/>
            <a:ext cx="1295280" cy="14968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1403280" y="5157720"/>
            <a:ext cx="1440000" cy="1420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860436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67280" y="836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00360" y="1413000"/>
            <a:ext cx="2735280" cy="1152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ылкие сердечные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увств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40360" y="2565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43280" y="3141720"/>
            <a:ext cx="2592360" cy="180000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бранник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л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рения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908000" y="4076640"/>
            <a:ext cx="9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979640" y="1125360"/>
            <a:ext cx="0" cy="295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79640" y="11253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140360" y="494172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43280" y="5516640"/>
            <a:ext cx="2376360" cy="7189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ное забвени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40360" y="623736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68360" y="371628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164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4149720"/>
            <a:ext cx="864072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 глаз долой - из сердца во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9640" y="40464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3) Почему кошки очень любят лизать руки программистам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116000" y="2852640"/>
            <a:ext cx="56865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отому что их ру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пахнут мыш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422100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4)  Почему у программистов хронический насморк и кашель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258920" y="5300640"/>
            <a:ext cx="6504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Потому что подолгу сидя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перед распахнутыми ок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1763640" y="1197000"/>
            <a:ext cx="16574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11280" y="404640"/>
            <a:ext cx="59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5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акие банки создают только программисты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050920" y="1341360"/>
            <a:ext cx="388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Банки дан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1280" y="2349360"/>
            <a:ext cx="66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6)  «Открой окошко – разорю тебя немножко». О чём это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124000" y="3357720"/>
            <a:ext cx="5329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О всплывающ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Интернет - реклам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465300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7)  Лучшее средство от компьютерных вирусов – это 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1280" y="5661000"/>
            <a:ext cx="81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Одноразовый компьют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539640" y="549360"/>
            <a:ext cx="806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206064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вид пышной круглой булочки, а получилось устройство, облегчающее ввод информации в компьютер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7164360" y="386064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924360" y="407664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ы ш к а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7308720" y="5157720"/>
            <a:ext cx="1095480" cy="12096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3419640" y="5373720"/>
            <a:ext cx="325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М ы ш к 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883908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916360" y="1628640"/>
            <a:ext cx="59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название красиво завязанной ленты, а получилась единица измерения количества информаци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067280" y="3500280"/>
            <a:ext cx="2233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а н т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924360" y="5300640"/>
            <a:ext cx="2746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Б а й 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6372360" y="2924280"/>
            <a:ext cx="2087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276720" y="1773360"/>
            <a:ext cx="539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высшее учёное звание преподавателя вуза, а получилось центральное устройство ПК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564000" y="3573360"/>
            <a:ext cx="4390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р о ф е с с о р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348000" y="5157720"/>
            <a:ext cx="532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процесс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203640" y="184464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ел написать вид лёгкой атлетики, а получился разметочный указатель языка НТ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3419640" y="3573360"/>
            <a:ext cx="5473440" cy="10144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211640" y="4724280"/>
            <a:ext cx="244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е г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140360" y="5589720"/>
            <a:ext cx="230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т е г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68360" y="333360"/>
            <a:ext cx="806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лок-схемы послови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5280" y="1125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84720" y="162864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59280" y="2133720"/>
            <a:ext cx="2665080" cy="1008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пятствие в вид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вышенности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56000" y="31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03640" y="3645000"/>
            <a:ext cx="2305080" cy="151272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ный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08720" y="43657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050920" y="436572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509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327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4360" y="5157720"/>
            <a:ext cx="2808000" cy="504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хождени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5157720"/>
            <a:ext cx="2232000" cy="432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ход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50920" y="5661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04000" y="558972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50920" y="6165720"/>
            <a:ext cx="475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40000" y="4005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3068640"/>
            <a:ext cx="842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мный в гору не пойдё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умный гору обойдё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8459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11640" y="9079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9280" y="2060640"/>
            <a:ext cx="2232000" cy="187164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92720" y="299736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443640" y="299736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08720" y="3860640"/>
            <a:ext cx="1873080" cy="50508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140360" y="393372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2000" y="4797360"/>
            <a:ext cx="2016360" cy="64764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вк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050560" y="50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050920" y="1267920"/>
            <a:ext cx="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50920" y="126828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8000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11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539640" y="5589720"/>
            <a:ext cx="792180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уй железо, пока горяч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0:13Z</dcterms:modified>
  <cp:revision>175</cp:revision>
  <dc:subject/>
  <dc:title>Слайд 1</dc:title>
</cp:coreProperties>
</file>