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B8B3-1791-4C8C-94BC-9471FC78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E85-F543-4D71-AADB-885F2F80F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9986-FD4A-4FF6-BA1B-E9B30184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C469-CB20-4DE2-8A32-F7AD0FB1C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37E-7D7F-4D32-9DB4-C73F3639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5D14-44D3-4C68-8A97-D93E98F9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161-D679-4E3C-AF3D-79DA13A3D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1148-F0BA-4DB5-8D20-881C69BF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8916-3A57-4169-9D5D-B198376E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7B98-DFB0-416A-9BB3-5EEA0C54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F57-EA8D-4D20-B6A6-605AE52AB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5BF-47AC-48CE-8D3E-E78D9480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E7833-FE69-4A06-A28D-313FDF0AB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djack.ru/assets_c/2010/03/hosting-thumb-520x324-35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39.radikal.ru/i083/1002/13/ed0f267a6aa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prinet.ru/yandex-srch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oft.oszone.net/images/screenshot/?soft=989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tprofessional.ru/uploads/posts/1200855780_sc3-2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dinn.ru/userfiles/burevestnik(1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lavpoker.ru/spaw2/temp/images/uploaded_87dacf6a70d0714836c313a100dcf96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5832360" cy="438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Электронна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коммерци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в Интерне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СОШ №1 г. Спасска Пенз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Электронная коммерция в Интернете — это коммерческая деятельность в сфере рекламы и распространения товаров и услуг посредством использования сети Интер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В настоящее время электронная коммерция быстро развивается и, по статистике, уже более 200 миллионов человек во всем мире регулярно совершают покупки в Интернет-магазин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024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Хостинг – это услуга по размещению информации во Всемирной паутин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Хостинг включает в себя предоставление дискового пространства для размещения Web-сайтов на Web-серверах, предоставления к ним доступа по каналу связи с определенной пропускной способностью, а также прав администрирования сай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76 из 2003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133720"/>
            <a:ext cx="619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Реклама в Интернете – это особый вид рекламы, который использует различные интернет-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56000" y="2205000"/>
            <a:ext cx="50328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205000"/>
            <a:ext cx="50472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3141720"/>
            <a:ext cx="3384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медийная - в форме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баннерной ссылки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3280" y="3213000"/>
            <a:ext cx="3384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контекстная - рядом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с результами поиска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55" name="" descr="Картинка 14 из 175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192560"/>
            <a:ext cx="324000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0 из 101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4005360"/>
            <a:ext cx="3600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Доска объявлений – это сайт аналогичный обычным рекламным газетам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Простейшим вариантом электронной торговли являются виртуальные доски объявлений, где продавцы и покупатели просто обмениваются информацией о предлагаемом товаре (аналог газеты «Из рук в руки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106 из 240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989000"/>
            <a:ext cx="3853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Интернет-аукцион – это аукцион, проводящийся посредством Интернета дистанционно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Интересной формой электронной торговли являются Интернет-аукционы. На такие аукционы выставляются самые разные товары: произведения искусства, компьютерная техника, автомобили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3 из 5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2176560"/>
            <a:ext cx="37303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535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Интернет-магазин – это веб-сайт, рекламирующий товар или услугу, принимающий заказы на покупку, предлагающий выбор варианта расчёта, способа получения заказа и выписывающий счёт на оплату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413000"/>
            <a:ext cx="335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Цифровые деньги – это специальное платёжное средство в электронном виде, которое находится на электронном носителе в распоряжении пользователя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4149720"/>
            <a:ext cx="3095640" cy="19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фровые (электронные)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ньги выпускают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ециальные организа-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и для развит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финансирован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ей деятельност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7" name="" descr="Картинка 104 из 21503">
            <a:hlinkClick r:id="rId2"/>
          </p:cNvPr>
          <p:cNvPicPr/>
          <p:nvPr/>
        </p:nvPicPr>
        <p:blipFill>
          <a:blip r:embed="rId3"/>
          <a:srcRect l="0" t="20792" r="0" b="0"/>
          <a:stretch/>
        </p:blipFill>
        <p:spPr>
          <a:xfrm>
            <a:off x="3995640" y="3527280"/>
            <a:ext cx="44290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848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26T15:05:3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