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8AA-B000-4C01-8961-565C909A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F1FE-063D-486E-AA53-74254849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15D-65C6-4DEA-AE2B-4506DAB2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4C57-6A97-4CFB-977F-28B69E52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8C2B-05EF-4265-B2C8-C8183448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85FC-F55E-4024-A999-28AEF34E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F3F9-C28E-480E-88C8-3584D74C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45A4-0CAA-4967-8845-E88CFBEF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6170-A757-44B8-92D9-36F23A2B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153B-2A48-47E4-A538-191A6EA2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307B-26EE-4C57-978D-834A2330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DE05-0ACA-4E88-A243-1C3BF42D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B03B-36AA-4676-9BB3-E8B2E172F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upeni-lyceum.ru/editor/uploads/files/libr_big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-crimea.info/pictures/h_lh0BdVaTwW36DkNYSIZcp5e9gjn8QFPz_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ooklya.com.ua/files/books/7774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Библиотеки, энциклопедии </a:t>
            </a:r>
            <a:br>
              <a:rPr sz="6600"/>
            </a:b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и словари </a:t>
            </a:r>
            <a:br>
              <a:rPr sz="6600"/>
            </a:b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в Интернет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08428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ранцева О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У СОШ №1 г. Спас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Библиотек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реч. bibliothēkē, от biblíon — книга и thēkē — хранилище) </a:t>
            </a:r>
            <a:r>
              <a:rPr b="0" lang="ru-RU" sz="2000" spc="-1" strike="noStrike">
                <a:solidFill>
                  <a:srgbClr val="bbe0e3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это культурно-просветительное и научно вспомогательное учреждение, организующее общественное пользование произведениями печат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Картинка 20 из 11634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645000"/>
            <a:ext cx="403236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Электронная библиотека – это распределенная информационная система, позволяющая надежно сохранять и эффективно использовать разнородные коллекции электронных документов через глобальные сети передачи д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в удобном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конеч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пользователя виде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Картинка 21 из 4498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3645000"/>
            <a:ext cx="41608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Российская государственная 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rs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Библиотека Мош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lib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Научная электронная 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elibrary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Энциклопедия</a:t>
            </a:r>
            <a:r>
              <a:rPr b="1" i="1" lang="ru-RU" sz="26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от греч . enkyklios paideia - обучение по всему кругу знаний) </a:t>
            </a: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Informal Roman"/>
              </a:rPr>
              <a:t> </a:t>
            </a: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научное или научно-популярное справочное издание, содержащее систематизированный свод знаний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3610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Электронная энциклопедия может быть копией печатной энциклопедии или оригинальным электронным изд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10 из 36727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2637000"/>
            <a:ext cx="31035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Электронные энциклопе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dic.academic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ru.wikipedia.org</a:t>
            </a: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Круго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 krugosve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Словарь — книга, содержащая собрание слов, расположенных по определённому принципу, и дающая сведения об их значениях, употреблении, происхождении, переводе на другой язык и т. п. или информацию о понятиях и предметах, ими обозначаемых, о деятелях в каких-либо областях науки, культуры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627280" y="4221000"/>
            <a:ext cx="432000" cy="432000"/>
          </a:xfrm>
          <a:prstGeom prst="line">
            <a:avLst/>
          </a:prstGeom>
          <a:ln w="442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4149720"/>
            <a:ext cx="576360" cy="431640"/>
          </a:xfrm>
          <a:prstGeom prst="line">
            <a:avLst/>
          </a:prstGeom>
          <a:ln w="442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00000" y="4797360"/>
            <a:ext cx="32292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энциклопедический</a:t>
            </a:r>
            <a:endParaRPr b="0" i="1" lang="en-US" sz="28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48360" y="4797360"/>
            <a:ext cx="3228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лингвистический</a:t>
            </a:r>
            <a:endParaRPr b="0" i="1" lang="en-US" sz="28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Онлайновый переводчик – это программа, позволяющая переводить тексты, с сохранением исходного форматирования, и электронные пись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4869000"/>
            <a:ext cx="821844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Онлайновый словарь – это программа, которая обеспечивает перевод слов с русского языка на другой и наоб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25 из 622"/>
          <p:cNvPicPr/>
          <p:nvPr/>
        </p:nvPicPr>
        <p:blipFill>
          <a:blip r:embed="rId2"/>
          <a:srcRect l="3315" t="4973" r="4807" b="3978"/>
          <a:stretch/>
        </p:blipFill>
        <p:spPr>
          <a:xfrm rot="120000">
            <a:off x="3349800" y="2135160"/>
            <a:ext cx="4030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Онлайновый переводчик ПРОМ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translate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lingvo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1:29:46Z</dcterms:created>
  <dc:creator>Учитель</dc:creator>
  <dc:description/>
  <dc:language>en-US</dc:language>
  <cp:lastModifiedBy>учитель</cp:lastModifiedBy>
  <dcterms:modified xsi:type="dcterms:W3CDTF">2010-10-30T08:08:46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1049</vt:lpwstr>
  </property>
</Properties>
</file>