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51D-5A37-42B8-949B-A8E61AB2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E8AC-3DC6-4599-ACCF-FAA5BE62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4C7-3D04-4417-98DB-7ABF6F61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722C-F690-41BB-A9C5-E371E74F7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49B6-7C7B-4ADC-A93F-2C6E8A4A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7E0D-BF9E-421B-B8AB-CEC14CD2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82047-78F1-4A30-BF63-B6D84BC6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110A-C3CE-4391-9867-D1926E41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4D3F-91A9-4042-A7E0-559D2A96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CEC-7674-454B-8BB8-DAD914C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4EBF-17AE-4AA6-9604-C7D253DD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76D-1415-4D90-9FA1-0E1C3029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1B2D3-07A7-447F-A5DB-A5855933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8181-E1FB-4326-AEDC-A80BA396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3445-B56A-4220-A2CB-A47C7BBD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C69-4F0B-488B-B8D4-5634862A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B7F6-E5CB-48FA-A8C3-277EA938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C9D17F-8BA6-469F-AE84-B30FAB0CE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B3D882-5007-498A-8465-CBE00F4F6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01D5F7-BEFA-4259-8DD2-D9DB8EEE1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95B1E-5F63-400D-8F2D-F94B770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9CB47A-3B5D-4DA6-B9B0-53A7910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7125-7043-41AD-9294-DD1E060F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AA01B-E73C-47C0-93CD-AF1438E5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7C51FB-3002-412F-A175-C021BECA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6CB56D-650B-4069-8E86-33EDB94C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2F743-D92B-4E8B-B2FF-AA24CD99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C80E8-043A-4B9F-A256-833D937C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CDE83-541C-4EA3-A9EC-983332A6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31B09-757E-4DC8-B285-89257A98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51189-96BC-4E74-896B-DF53B0315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3CCC2-AAA1-45E0-8EF3-BAC031EC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8178D-C55A-4A20-81AC-BE59ED1E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6F7E-9DA6-4DC8-8AD3-A86C8668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6664-A226-4C61-B0D1-73132DB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2FECA-B19A-4F14-B99A-BF6412A5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D742-9FB1-442C-9E95-42E3B855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46450-8703-4052-88FC-76A1B281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3465-B62C-4F68-A460-314D4B6E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D2848-8A7B-447D-B160-51B4FA5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42943-C07C-4804-B45B-59342FA9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DF76-0C03-4320-8668-01B01618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D9EB9-68B0-42C8-B2C0-65A8D9DB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F46C0-AF99-4CE6-9ADB-301D77AB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21B-88A1-4CB4-A305-39C422BF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5C5A1-350C-4B17-8284-AFF8EBA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F2F5D-156B-48E6-A2E4-B89B3010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FBE89-E167-4CFD-849F-425F4518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2B4E5-126E-460F-8EA0-30A85BFF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C3E1CB-FA37-42BE-8264-BC57F47C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E05EA-C90E-4BCD-945E-83794073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A71AC-5DF4-4CD0-8146-67D883B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92AA2-90DE-4BB2-902D-27CD72F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6A661A-85C2-4FBC-8B70-334F48F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7A758-0048-4408-9A88-A51E1D94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CDE-5A1F-47F1-9BA2-5DB0E63F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246FD7-DCD9-4AFB-BF67-CECF9983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25A90-1082-4C0B-B805-28303F24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BB9AFF-0FBE-4CBC-A866-9AACC3FE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5249F-B72C-4130-A881-C9CD9547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2E6753-E193-47CA-BFF0-A3763940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5F3B3-68AA-4191-B4F2-690E25E2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6AFEE-D3DD-4674-BD24-B3068471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A0A65-0E1A-4556-B97F-DBDB086B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6D9A16-53F5-480D-AF4C-F8D6B43F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49BC8C-2B3C-4D71-8C60-024128A4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DC3-CCD3-4897-9F0C-2C6953B3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2C6C87-4391-43F2-9AC4-A5A549B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D9BAD-2B64-4BC6-A735-CF757B362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E2701C-CBBA-4BAD-822A-566DAA6F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82D483-14E9-499F-A6C3-773C40EB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6C99C3-1B6D-404E-B1B6-8A73E1DE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2802A2-AA91-4C10-9B21-4F3B672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DEC4B3-7917-4554-B571-C3CD042A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B901AE-AE3F-46B0-95D6-C40B917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BE88D-FC24-4576-BAB9-09E6F9BD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942C0-EDB9-4361-BEE8-54F0D67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B25-2B6E-4EC9-828A-B4D324EE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B4E8FF-063D-44DF-A3D4-CB55EC0B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47B5A-452C-42F6-84BC-7CEFE29C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AB9166-6263-4DE8-B840-F6444EAB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0DEAC9-1B22-4A2C-BD33-3B70FD83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2E4746-A100-4242-BD24-C5BE3789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674-0144-45C0-B700-ADE1D6B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1630-9587-47CD-BC24-57E47AF867B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5E0C-7CA8-48D5-AA9C-F99C39BFA5D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AE3D-FBF1-4EF4-8884-6658632562B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2CA0-8100-430B-B291-3A79594F5203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B8E-A744-4E34-B6FA-562C510F3F4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5F04-A9AF-4BB1-BDC3-B49BDFC3BFE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1820-7902-452F-BC5A-FD7E038E9CF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500" spc="-1" strike="noStrike">
                <a:solidFill>
                  <a:srgbClr val="002060"/>
                </a:solidFill>
                <a:latin typeface="Century Schoolbook"/>
              </a:rPr>
              <a:t>Моделирование</a:t>
            </a:r>
            <a:endParaRPr b="0" lang="en-US" sz="7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Заголовок 1"/>
          <p:cNvSpPr/>
          <p:nvPr/>
        </p:nvSpPr>
        <p:spPr>
          <a:xfrm>
            <a:off x="6072120" y="5500800"/>
            <a:ext cx="2786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1500"/>
            </a:br>
            <a:r>
              <a:rPr b="1" i="1" lang="ru-RU" sz="15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9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370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371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5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07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408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443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Прямая соединительная линия 112"/>
          <p:cNvSpPr/>
          <p:nvPr/>
        </p:nvSpPr>
        <p:spPr>
          <a:xfrm>
            <a:off x="2143080" y="2286000"/>
            <a:ext cx="2000160" cy="1116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ая соединительная линия 116"/>
          <p:cNvSpPr/>
          <p:nvPr/>
        </p:nvSpPr>
        <p:spPr>
          <a:xfrm flipH="1">
            <a:off x="1509840" y="2790720"/>
            <a:ext cx="428400" cy="1352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ая соединительная линия 118"/>
          <p:cNvSpPr/>
          <p:nvPr/>
        </p:nvSpPr>
        <p:spPr>
          <a:xfrm flipV="1">
            <a:off x="1643040" y="2643120"/>
            <a:ext cx="2544840" cy="18684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ая соединительная линия 120"/>
          <p:cNvSpPr/>
          <p:nvPr/>
        </p:nvSpPr>
        <p:spPr>
          <a:xfrm>
            <a:off x="4830120" y="2385360"/>
            <a:ext cx="2027160" cy="3286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ая соединительная линия 122"/>
          <p:cNvSpPr/>
          <p:nvPr/>
        </p:nvSpPr>
        <p:spPr>
          <a:xfrm flipH="1">
            <a:off x="5715000" y="3000240"/>
            <a:ext cx="1101600" cy="14875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ая соединительная линия 124"/>
          <p:cNvSpPr/>
          <p:nvPr/>
        </p:nvSpPr>
        <p:spPr>
          <a:xfrm flipH="1" flipV="1">
            <a:off x="4565520" y="2519280"/>
            <a:ext cx="865440" cy="17668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ая соединительная линия 126"/>
          <p:cNvSpPr/>
          <p:nvPr/>
        </p:nvSpPr>
        <p:spPr>
          <a:xfrm flipH="1">
            <a:off x="3571560" y="4785480"/>
            <a:ext cx="1531800" cy="7160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4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5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86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7" name="Соединительная линия уступом 133"/>
          <p:cNvCxnSpPr/>
          <p:nvPr/>
        </p:nvCxnSpPr>
        <p:spPr>
          <a:xfrm flipV="1" rot="16200000">
            <a:off x="3357360" y="4642560"/>
            <a:ext cx="1000800" cy="286560"/>
          </a:xfrm>
          <a:prstGeom prst="bentConnector3">
            <a:avLst>
              <a:gd name="adj1" fmla="val 49982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8" name="Соединительная линия уступом 135"/>
          <p:cNvCxnSpPr/>
          <p:nvPr/>
        </p:nvCxnSpPr>
        <p:spPr>
          <a:xfrm>
            <a:off x="2500200" y="3929040"/>
            <a:ext cx="1215360" cy="357840"/>
          </a:xfrm>
          <a:prstGeom prst="bentConnector3">
            <a:avLst>
              <a:gd name="adj1" fmla="val 49985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489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490" name="TextBox 138"/>
          <p:cNvSpPr/>
          <p:nvPr/>
        </p:nvSpPr>
        <p:spPr>
          <a:xfrm>
            <a:off x="3229200" y="38577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Рёб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25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Не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ГРАФЫ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93" name="Picture 11" descr="comp2"/>
          <p:cNvPicPr/>
          <p:nvPr/>
        </p:nvPicPr>
        <p:blipFill>
          <a:blip r:embed="rId1"/>
          <a:stretch/>
        </p:blipFill>
        <p:spPr>
          <a:xfrm>
            <a:off x="1428840" y="1857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665"/>
          <p:cNvGrpSpPr/>
          <p:nvPr/>
        </p:nvGrpSpPr>
        <p:grpSpPr>
          <a:xfrm>
            <a:off x="2928600" y="5072040"/>
            <a:ext cx="785880" cy="804960"/>
            <a:chOff x="2928600" y="5072040"/>
            <a:chExt cx="785880" cy="804960"/>
          </a:xfrm>
        </p:grpSpPr>
        <p:sp>
          <p:nvSpPr>
            <p:cNvPr id="495" name="AutoShape 666"/>
            <p:cNvSpPr/>
            <p:nvPr/>
          </p:nvSpPr>
          <p:spPr>
            <a:xfrm flipH="1">
              <a:off x="2982960" y="5073840"/>
              <a:ext cx="73152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AutoShape 667"/>
            <p:cNvSpPr/>
            <p:nvPr/>
          </p:nvSpPr>
          <p:spPr>
            <a:xfrm flipH="1">
              <a:off x="2928600" y="5072040"/>
              <a:ext cx="574560" cy="72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668"/>
            <p:cNvSpPr/>
            <p:nvPr/>
          </p:nvSpPr>
          <p:spPr>
            <a:xfrm flipH="1">
              <a:off x="3147480" y="5405040"/>
              <a:ext cx="467640" cy="25128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669"/>
            <p:cNvSpPr/>
            <p:nvPr/>
          </p:nvSpPr>
          <p:spPr>
            <a:xfrm flipH="1">
              <a:off x="3008880" y="5132880"/>
              <a:ext cx="171360" cy="2757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670"/>
            <p:cNvSpPr/>
            <p:nvPr/>
          </p:nvSpPr>
          <p:spPr>
            <a:xfrm flipH="1">
              <a:off x="2928600" y="5073120"/>
              <a:ext cx="249480" cy="25092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671"/>
            <p:cNvSpPr/>
            <p:nvPr/>
          </p:nvSpPr>
          <p:spPr>
            <a:xfrm flipH="1">
              <a:off x="3034080" y="5648400"/>
              <a:ext cx="342720" cy="14472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672"/>
            <p:cNvSpPr/>
            <p:nvPr/>
          </p:nvSpPr>
          <p:spPr>
            <a:xfrm flipH="1">
              <a:off x="2953800" y="5354280"/>
              <a:ext cx="349560" cy="42840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673"/>
            <p:cNvSpPr/>
            <p:nvPr/>
          </p:nvSpPr>
          <p:spPr>
            <a:xfrm flipH="1">
              <a:off x="3195720" y="5098320"/>
              <a:ext cx="274680" cy="41796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674"/>
            <p:cNvSpPr/>
            <p:nvPr/>
          </p:nvSpPr>
          <p:spPr>
            <a:xfrm flipH="1">
              <a:off x="3186720" y="5459760"/>
              <a:ext cx="241560" cy="1191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675"/>
            <p:cNvSpPr/>
            <p:nvPr/>
          </p:nvSpPr>
          <p:spPr>
            <a:xfrm flipH="1">
              <a:off x="3186720" y="5468040"/>
              <a:ext cx="46440" cy="784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676"/>
            <p:cNvSpPr/>
            <p:nvPr/>
          </p:nvSpPr>
          <p:spPr>
            <a:xfrm flipH="1">
              <a:off x="3245760" y="5485680"/>
              <a:ext cx="73080" cy="10080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677"/>
            <p:cNvSpPr/>
            <p:nvPr/>
          </p:nvSpPr>
          <p:spPr>
            <a:xfrm flipH="1">
              <a:off x="2935800" y="5501880"/>
              <a:ext cx="200160" cy="23940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678"/>
            <p:cNvSpPr/>
            <p:nvPr/>
          </p:nvSpPr>
          <p:spPr>
            <a:xfrm flipH="1">
              <a:off x="2966400" y="5562360"/>
              <a:ext cx="84960" cy="230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679"/>
            <p:cNvSpPr/>
            <p:nvPr/>
          </p:nvSpPr>
          <p:spPr>
            <a:xfrm flipH="1">
              <a:off x="2964600" y="5319000"/>
              <a:ext cx="5025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680"/>
            <p:cNvSpPr/>
            <p:nvPr/>
          </p:nvSpPr>
          <p:spPr>
            <a:xfrm flipH="1">
              <a:off x="3011040" y="5081400"/>
              <a:ext cx="129960" cy="4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81"/>
            <p:cNvSpPr/>
            <p:nvPr/>
          </p:nvSpPr>
          <p:spPr>
            <a:xfrm flipH="1">
              <a:off x="3202200" y="5108040"/>
              <a:ext cx="252360" cy="31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682"/>
            <p:cNvSpPr/>
            <p:nvPr/>
          </p:nvSpPr>
          <p:spPr>
            <a:xfrm flipH="1">
              <a:off x="3011760" y="5110200"/>
              <a:ext cx="171720" cy="26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683"/>
            <p:cNvSpPr/>
            <p:nvPr/>
          </p:nvSpPr>
          <p:spPr>
            <a:xfrm flipH="1">
              <a:off x="2936880" y="5127480"/>
              <a:ext cx="65880" cy="157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684"/>
            <p:cNvSpPr/>
            <p:nvPr/>
          </p:nvSpPr>
          <p:spPr>
            <a:xfrm flipH="1">
              <a:off x="3228480" y="5145480"/>
              <a:ext cx="163080" cy="2206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685"/>
            <p:cNvSpPr/>
            <p:nvPr/>
          </p:nvSpPr>
          <p:spPr>
            <a:xfrm flipH="1">
              <a:off x="2971440" y="5143320"/>
              <a:ext cx="59400" cy="137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686"/>
            <p:cNvSpPr/>
            <p:nvPr/>
          </p:nvSpPr>
          <p:spPr>
            <a:xfrm flipH="1">
              <a:off x="3236040" y="5151960"/>
              <a:ext cx="146520" cy="20664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687"/>
            <p:cNvSpPr/>
            <p:nvPr/>
          </p:nvSpPr>
          <p:spPr>
            <a:xfrm flipH="1">
              <a:off x="3211920" y="5382720"/>
              <a:ext cx="191880" cy="70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688"/>
            <p:cNvSpPr/>
            <p:nvPr/>
          </p:nvSpPr>
          <p:spPr>
            <a:xfrm flipH="1">
              <a:off x="3215160" y="5419440"/>
              <a:ext cx="252000" cy="70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689"/>
            <p:cNvSpPr/>
            <p:nvPr/>
          </p:nvSpPr>
          <p:spPr>
            <a:xfrm flipH="1">
              <a:off x="3272760" y="5490000"/>
              <a:ext cx="12600" cy="39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690"/>
            <p:cNvSpPr/>
            <p:nvPr/>
          </p:nvSpPr>
          <p:spPr>
            <a:xfrm flipH="1">
              <a:off x="3282480" y="5490360"/>
              <a:ext cx="1404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691"/>
            <p:cNvSpPr/>
            <p:nvPr/>
          </p:nvSpPr>
          <p:spPr>
            <a:xfrm flipH="1">
              <a:off x="3292200" y="5493600"/>
              <a:ext cx="16560" cy="34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692"/>
            <p:cNvSpPr/>
            <p:nvPr/>
          </p:nvSpPr>
          <p:spPr>
            <a:xfrm flipH="1">
              <a:off x="3292920" y="5501160"/>
              <a:ext cx="128520" cy="7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693"/>
            <p:cNvSpPr/>
            <p:nvPr/>
          </p:nvSpPr>
          <p:spPr>
            <a:xfrm flipH="1">
              <a:off x="3057120" y="5507640"/>
              <a:ext cx="442440" cy="264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694"/>
            <p:cNvSpPr/>
            <p:nvPr/>
          </p:nvSpPr>
          <p:spPr>
            <a:xfrm flipH="1">
              <a:off x="2943720" y="5508720"/>
              <a:ext cx="183240" cy="284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695"/>
            <p:cNvSpPr/>
            <p:nvPr/>
          </p:nvSpPr>
          <p:spPr>
            <a:xfrm flipH="1">
              <a:off x="2990160" y="5529600"/>
              <a:ext cx="108360" cy="165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696"/>
            <p:cNvSpPr/>
            <p:nvPr/>
          </p:nvSpPr>
          <p:spPr>
            <a:xfrm flipH="1">
              <a:off x="2999880" y="5584320"/>
              <a:ext cx="32400" cy="208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697"/>
            <p:cNvSpPr/>
            <p:nvPr/>
          </p:nvSpPr>
          <p:spPr>
            <a:xfrm flipH="1">
              <a:off x="3337200" y="5223960"/>
              <a:ext cx="22320" cy="1245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698"/>
            <p:cNvSpPr/>
            <p:nvPr/>
          </p:nvSpPr>
          <p:spPr>
            <a:xfrm flipH="1">
              <a:off x="3308040" y="5175360"/>
              <a:ext cx="22680" cy="1720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99"/>
            <p:cNvSpPr/>
            <p:nvPr/>
          </p:nvSpPr>
          <p:spPr>
            <a:xfrm flipH="1">
              <a:off x="3279960" y="5203800"/>
              <a:ext cx="22680" cy="14184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9" name="Picture 11" descr="comp2"/>
          <p:cNvPicPr/>
          <p:nvPr/>
        </p:nvPicPr>
        <p:blipFill>
          <a:blip r:embed="rId3"/>
          <a:stretch/>
        </p:blipFill>
        <p:spPr>
          <a:xfrm>
            <a:off x="6786720" y="2286000"/>
            <a:ext cx="1019160" cy="9334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1" descr="comp2"/>
          <p:cNvPicPr/>
          <p:nvPr/>
        </p:nvPicPr>
        <p:blipFill>
          <a:blip r:embed="rId4"/>
          <a:stretch/>
        </p:blipFill>
        <p:spPr>
          <a:xfrm>
            <a:off x="1000080" y="4143240"/>
            <a:ext cx="1019160" cy="93348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665"/>
          <p:cNvGrpSpPr/>
          <p:nvPr/>
        </p:nvGrpSpPr>
        <p:grpSpPr>
          <a:xfrm>
            <a:off x="5144040" y="4286160"/>
            <a:ext cx="783720" cy="742680"/>
            <a:chOff x="5144040" y="4286160"/>
            <a:chExt cx="783720" cy="742680"/>
          </a:xfrm>
        </p:grpSpPr>
        <p:sp>
          <p:nvSpPr>
            <p:cNvPr id="532" name="AutoShape 666"/>
            <p:cNvSpPr/>
            <p:nvPr/>
          </p:nvSpPr>
          <p:spPr>
            <a:xfrm flipH="1">
              <a:off x="5197680" y="4287600"/>
              <a:ext cx="72972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667"/>
            <p:cNvSpPr/>
            <p:nvPr/>
          </p:nvSpPr>
          <p:spPr>
            <a:xfrm flipH="1">
              <a:off x="5144040" y="4286160"/>
              <a:ext cx="57312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668"/>
            <p:cNvSpPr/>
            <p:nvPr/>
          </p:nvSpPr>
          <p:spPr>
            <a:xfrm flipH="1">
              <a:off x="5362560" y="4593240"/>
              <a:ext cx="466560" cy="231840"/>
            </a:xfrm>
            <a:prstGeom prst="pi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669"/>
            <p:cNvSpPr/>
            <p:nvPr/>
          </p:nvSpPr>
          <p:spPr>
            <a:xfrm flipH="1">
              <a:off x="5223240" y="4342320"/>
              <a:ext cx="171000" cy="254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670"/>
            <p:cNvSpPr/>
            <p:nvPr/>
          </p:nvSpPr>
          <p:spPr>
            <a:xfrm flipH="1">
              <a:off x="5144040" y="4287240"/>
              <a:ext cx="248760" cy="2314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71"/>
            <p:cNvSpPr/>
            <p:nvPr/>
          </p:nvSpPr>
          <p:spPr>
            <a:xfrm flipH="1">
              <a:off x="5248800" y="4817880"/>
              <a:ext cx="342000" cy="1335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72"/>
            <p:cNvSpPr/>
            <p:nvPr/>
          </p:nvSpPr>
          <p:spPr>
            <a:xfrm flipH="1">
              <a:off x="5169240" y="4546800"/>
              <a:ext cx="348480" cy="39564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73"/>
            <p:cNvSpPr/>
            <p:nvPr/>
          </p:nvSpPr>
          <p:spPr>
            <a:xfrm flipH="1">
              <a:off x="5410080" y="4310280"/>
              <a:ext cx="273960" cy="385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74"/>
            <p:cNvSpPr/>
            <p:nvPr/>
          </p:nvSpPr>
          <p:spPr>
            <a:xfrm flipH="1">
              <a:off x="5401440" y="4644000"/>
              <a:ext cx="241200" cy="10980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75"/>
            <p:cNvSpPr/>
            <p:nvPr/>
          </p:nvSpPr>
          <p:spPr>
            <a:xfrm flipH="1">
              <a:off x="5401080" y="4651560"/>
              <a:ext cx="46440" cy="7272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6"/>
            <p:cNvSpPr/>
            <p:nvPr/>
          </p:nvSpPr>
          <p:spPr>
            <a:xfrm flipH="1">
              <a:off x="5460840" y="4667760"/>
              <a:ext cx="72720" cy="92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77"/>
            <p:cNvSpPr/>
            <p:nvPr/>
          </p:nvSpPr>
          <p:spPr>
            <a:xfrm flipH="1">
              <a:off x="5150880" y="4682880"/>
              <a:ext cx="199440" cy="22104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678"/>
            <p:cNvSpPr/>
            <p:nvPr/>
          </p:nvSpPr>
          <p:spPr>
            <a:xfrm flipH="1">
              <a:off x="5181480" y="4738680"/>
              <a:ext cx="84960" cy="2127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679"/>
            <p:cNvSpPr/>
            <p:nvPr/>
          </p:nvSpPr>
          <p:spPr>
            <a:xfrm flipH="1">
              <a:off x="5179320" y="4514040"/>
              <a:ext cx="50148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680"/>
            <p:cNvSpPr/>
            <p:nvPr/>
          </p:nvSpPr>
          <p:spPr>
            <a:xfrm flipH="1">
              <a:off x="5226480" y="4294800"/>
              <a:ext cx="129600" cy="44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681"/>
            <p:cNvSpPr/>
            <p:nvPr/>
          </p:nvSpPr>
          <p:spPr>
            <a:xfrm flipH="1">
              <a:off x="5416920" y="4319280"/>
              <a:ext cx="252000" cy="290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682"/>
            <p:cNvSpPr/>
            <p:nvPr/>
          </p:nvSpPr>
          <p:spPr>
            <a:xfrm flipH="1">
              <a:off x="5226840" y="4321440"/>
              <a:ext cx="171360" cy="241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683"/>
            <p:cNvSpPr/>
            <p:nvPr/>
          </p:nvSpPr>
          <p:spPr>
            <a:xfrm flipH="1">
              <a:off x="5152680" y="4337280"/>
              <a:ext cx="65520" cy="145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684"/>
            <p:cNvSpPr/>
            <p:nvPr/>
          </p:nvSpPr>
          <p:spPr>
            <a:xfrm flipH="1">
              <a:off x="5443200" y="4354200"/>
              <a:ext cx="162720" cy="203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685"/>
            <p:cNvSpPr/>
            <p:nvPr/>
          </p:nvSpPr>
          <p:spPr>
            <a:xfrm flipH="1">
              <a:off x="5186880" y="4351680"/>
              <a:ext cx="59040" cy="12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686"/>
            <p:cNvSpPr/>
            <p:nvPr/>
          </p:nvSpPr>
          <p:spPr>
            <a:xfrm flipH="1">
              <a:off x="5450760" y="4359960"/>
              <a:ext cx="146160" cy="190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687"/>
            <p:cNvSpPr/>
            <p:nvPr/>
          </p:nvSpPr>
          <p:spPr>
            <a:xfrm flipH="1">
              <a:off x="5426640" y="4573080"/>
              <a:ext cx="191520" cy="65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688"/>
            <p:cNvSpPr/>
            <p:nvPr/>
          </p:nvSpPr>
          <p:spPr>
            <a:xfrm flipH="1">
              <a:off x="5429880" y="4606560"/>
              <a:ext cx="251280" cy="6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89"/>
            <p:cNvSpPr/>
            <p:nvPr/>
          </p:nvSpPr>
          <p:spPr>
            <a:xfrm flipH="1">
              <a:off x="5487120" y="4672080"/>
              <a:ext cx="12600" cy="36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90"/>
            <p:cNvSpPr/>
            <p:nvPr/>
          </p:nvSpPr>
          <p:spPr>
            <a:xfrm flipH="1">
              <a:off x="5496840" y="4672440"/>
              <a:ext cx="1404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91"/>
            <p:cNvSpPr/>
            <p:nvPr/>
          </p:nvSpPr>
          <p:spPr>
            <a:xfrm flipH="1">
              <a:off x="5506200" y="4675320"/>
              <a:ext cx="16560" cy="3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92"/>
            <p:cNvSpPr/>
            <p:nvPr/>
          </p:nvSpPr>
          <p:spPr>
            <a:xfrm flipH="1">
              <a:off x="5507640" y="4682520"/>
              <a:ext cx="128160" cy="69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93"/>
            <p:cNvSpPr/>
            <p:nvPr/>
          </p:nvSpPr>
          <p:spPr>
            <a:xfrm flipH="1">
              <a:off x="5272200" y="4688280"/>
              <a:ext cx="441360" cy="244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94"/>
            <p:cNvSpPr/>
            <p:nvPr/>
          </p:nvSpPr>
          <p:spPr>
            <a:xfrm flipH="1">
              <a:off x="5158800" y="4689360"/>
              <a:ext cx="182880" cy="26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95"/>
            <p:cNvSpPr/>
            <p:nvPr/>
          </p:nvSpPr>
          <p:spPr>
            <a:xfrm flipH="1">
              <a:off x="5204880" y="4708800"/>
              <a:ext cx="108360" cy="1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96"/>
            <p:cNvSpPr/>
            <p:nvPr/>
          </p:nvSpPr>
          <p:spPr>
            <a:xfrm flipH="1">
              <a:off x="5214600" y="4759200"/>
              <a:ext cx="32400" cy="192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97"/>
            <p:cNvSpPr/>
            <p:nvPr/>
          </p:nvSpPr>
          <p:spPr>
            <a:xfrm flipH="1">
              <a:off x="5551200" y="4426200"/>
              <a:ext cx="21960" cy="1152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8"/>
            <p:cNvSpPr/>
            <p:nvPr/>
          </p:nvSpPr>
          <p:spPr>
            <a:xfrm flipH="1">
              <a:off x="5522040" y="4381560"/>
              <a:ext cx="22680" cy="15876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699"/>
            <p:cNvSpPr/>
            <p:nvPr/>
          </p:nvSpPr>
          <p:spPr>
            <a:xfrm flipH="1">
              <a:off x="5494320" y="4407840"/>
              <a:ext cx="22680" cy="13068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665"/>
          <p:cNvGrpSpPr/>
          <p:nvPr/>
        </p:nvGrpSpPr>
        <p:grpSpPr>
          <a:xfrm>
            <a:off x="4142880" y="1928880"/>
            <a:ext cx="785880" cy="812880"/>
            <a:chOff x="4142880" y="1928880"/>
            <a:chExt cx="785880" cy="812880"/>
          </a:xfrm>
        </p:grpSpPr>
        <p:sp>
          <p:nvSpPr>
            <p:cNvPr id="567" name="AutoShape 666"/>
            <p:cNvSpPr/>
            <p:nvPr/>
          </p:nvSpPr>
          <p:spPr>
            <a:xfrm flipH="1">
              <a:off x="4197240" y="1930680"/>
              <a:ext cx="73152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667"/>
            <p:cNvSpPr/>
            <p:nvPr/>
          </p:nvSpPr>
          <p:spPr>
            <a:xfrm flipH="1">
              <a:off x="4142880" y="1928880"/>
              <a:ext cx="574560" cy="7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68"/>
            <p:cNvSpPr/>
            <p:nvPr/>
          </p:nvSpPr>
          <p:spPr>
            <a:xfrm flipH="1">
              <a:off x="4361760" y="2265120"/>
              <a:ext cx="467640" cy="253800"/>
            </a:xfrm>
            <a:prstGeom prst="pi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69"/>
            <p:cNvSpPr/>
            <p:nvPr/>
          </p:nvSpPr>
          <p:spPr>
            <a:xfrm flipH="1">
              <a:off x="4223160" y="1990440"/>
              <a:ext cx="171360" cy="27864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70"/>
            <p:cNvSpPr/>
            <p:nvPr/>
          </p:nvSpPr>
          <p:spPr>
            <a:xfrm flipH="1">
              <a:off x="4142880" y="1929960"/>
              <a:ext cx="249480" cy="253080"/>
            </a:xfrm>
            <a:prstGeom prst="pie">
              <a:avLst/>
            </a:pr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71"/>
            <p:cNvSpPr/>
            <p:nvPr/>
          </p:nvSpPr>
          <p:spPr>
            <a:xfrm flipH="1">
              <a:off x="4248360" y="2510640"/>
              <a:ext cx="342720" cy="146160"/>
            </a:xfrm>
            <a:prstGeom prst="pie">
              <a:avLst/>
            </a:prstGeom>
            <a:solidFill>
              <a:srgbClr val="003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72"/>
            <p:cNvSpPr/>
            <p:nvPr/>
          </p:nvSpPr>
          <p:spPr>
            <a:xfrm flipH="1">
              <a:off x="4168080" y="2214000"/>
              <a:ext cx="349560" cy="43272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3"/>
            <p:cNvSpPr/>
            <p:nvPr/>
          </p:nvSpPr>
          <p:spPr>
            <a:xfrm flipH="1">
              <a:off x="4410000" y="1955520"/>
              <a:ext cx="274680" cy="421920"/>
            </a:xfrm>
            <a:prstGeom prst="pi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74"/>
            <p:cNvSpPr/>
            <p:nvPr/>
          </p:nvSpPr>
          <p:spPr>
            <a:xfrm flipH="1">
              <a:off x="4401000" y="2320200"/>
              <a:ext cx="241560" cy="1202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75"/>
            <p:cNvSpPr/>
            <p:nvPr/>
          </p:nvSpPr>
          <p:spPr>
            <a:xfrm flipH="1">
              <a:off x="4401000" y="2328840"/>
              <a:ext cx="46440" cy="7956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76"/>
            <p:cNvSpPr/>
            <p:nvPr/>
          </p:nvSpPr>
          <p:spPr>
            <a:xfrm flipH="1">
              <a:off x="4460040" y="2346480"/>
              <a:ext cx="73080" cy="101880"/>
            </a:xfrm>
            <a:prstGeom prst="pie">
              <a:avLst/>
            </a:prstGeom>
            <a:solidFill>
              <a:srgbClr val="f2c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677"/>
            <p:cNvSpPr/>
            <p:nvPr/>
          </p:nvSpPr>
          <p:spPr>
            <a:xfrm flipH="1">
              <a:off x="4150080" y="2363040"/>
              <a:ext cx="200160" cy="241560"/>
            </a:xfrm>
            <a:prstGeom prst="pie">
              <a:avLst/>
            </a:prstGeom>
            <a:solidFill>
              <a:srgbClr val="59a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678"/>
            <p:cNvSpPr/>
            <p:nvPr/>
          </p:nvSpPr>
          <p:spPr>
            <a:xfrm flipH="1">
              <a:off x="4180680" y="2424240"/>
              <a:ext cx="84960" cy="232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679"/>
            <p:cNvSpPr/>
            <p:nvPr/>
          </p:nvSpPr>
          <p:spPr>
            <a:xfrm flipH="1">
              <a:off x="4178880" y="2178360"/>
              <a:ext cx="5025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80"/>
            <p:cNvSpPr/>
            <p:nvPr/>
          </p:nvSpPr>
          <p:spPr>
            <a:xfrm flipH="1">
              <a:off x="4225320" y="1938240"/>
              <a:ext cx="129960" cy="48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81"/>
            <p:cNvSpPr/>
            <p:nvPr/>
          </p:nvSpPr>
          <p:spPr>
            <a:xfrm flipH="1">
              <a:off x="4416480" y="1965240"/>
              <a:ext cx="252360" cy="317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82"/>
            <p:cNvSpPr/>
            <p:nvPr/>
          </p:nvSpPr>
          <p:spPr>
            <a:xfrm flipH="1">
              <a:off x="4226040" y="1967400"/>
              <a:ext cx="171720" cy="26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3"/>
            <p:cNvSpPr/>
            <p:nvPr/>
          </p:nvSpPr>
          <p:spPr>
            <a:xfrm flipH="1">
              <a:off x="4151160" y="1984680"/>
              <a:ext cx="65880" cy="159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84"/>
            <p:cNvSpPr/>
            <p:nvPr/>
          </p:nvSpPr>
          <p:spPr>
            <a:xfrm flipH="1">
              <a:off x="4442760" y="2003040"/>
              <a:ext cx="163080" cy="2228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85"/>
            <p:cNvSpPr/>
            <p:nvPr/>
          </p:nvSpPr>
          <p:spPr>
            <a:xfrm flipH="1">
              <a:off x="4185720" y="2000880"/>
              <a:ext cx="59400" cy="138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86"/>
            <p:cNvSpPr/>
            <p:nvPr/>
          </p:nvSpPr>
          <p:spPr>
            <a:xfrm flipH="1">
              <a:off x="4450320" y="2009520"/>
              <a:ext cx="146520" cy="208800"/>
            </a:xfrm>
            <a:prstGeom prst="pie">
              <a:avLst/>
            </a:prstGeom>
            <a:solidFill>
              <a:srgbClr val="26a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87"/>
            <p:cNvSpPr/>
            <p:nvPr/>
          </p:nvSpPr>
          <p:spPr>
            <a:xfrm flipH="1">
              <a:off x="4426200" y="2242440"/>
              <a:ext cx="191880" cy="71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88"/>
            <p:cNvSpPr/>
            <p:nvPr/>
          </p:nvSpPr>
          <p:spPr>
            <a:xfrm flipH="1">
              <a:off x="4429440" y="2279520"/>
              <a:ext cx="252000" cy="71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9"/>
            <p:cNvSpPr/>
            <p:nvPr/>
          </p:nvSpPr>
          <p:spPr>
            <a:xfrm flipH="1">
              <a:off x="4487040" y="2350800"/>
              <a:ext cx="12600" cy="39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0"/>
            <p:cNvSpPr/>
            <p:nvPr/>
          </p:nvSpPr>
          <p:spPr>
            <a:xfrm flipH="1">
              <a:off x="4496760" y="2351520"/>
              <a:ext cx="1404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691"/>
            <p:cNvSpPr/>
            <p:nvPr/>
          </p:nvSpPr>
          <p:spPr>
            <a:xfrm flipH="1">
              <a:off x="4506480" y="2354760"/>
              <a:ext cx="16560" cy="34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692"/>
            <p:cNvSpPr/>
            <p:nvPr/>
          </p:nvSpPr>
          <p:spPr>
            <a:xfrm flipH="1">
              <a:off x="4507200" y="2362320"/>
              <a:ext cx="128520" cy="76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93"/>
            <p:cNvSpPr/>
            <p:nvPr/>
          </p:nvSpPr>
          <p:spPr>
            <a:xfrm flipH="1">
              <a:off x="4271400" y="2368800"/>
              <a:ext cx="44244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694"/>
            <p:cNvSpPr/>
            <p:nvPr/>
          </p:nvSpPr>
          <p:spPr>
            <a:xfrm flipH="1">
              <a:off x="4158000" y="2369880"/>
              <a:ext cx="183240" cy="287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695"/>
            <p:cNvSpPr/>
            <p:nvPr/>
          </p:nvSpPr>
          <p:spPr>
            <a:xfrm flipH="1">
              <a:off x="4204440" y="2391120"/>
              <a:ext cx="1083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96"/>
            <p:cNvSpPr/>
            <p:nvPr/>
          </p:nvSpPr>
          <p:spPr>
            <a:xfrm flipH="1">
              <a:off x="4214160" y="2446200"/>
              <a:ext cx="32400" cy="210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97"/>
            <p:cNvSpPr/>
            <p:nvPr/>
          </p:nvSpPr>
          <p:spPr>
            <a:xfrm flipH="1">
              <a:off x="4551480" y="2082240"/>
              <a:ext cx="22320" cy="12600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98"/>
            <p:cNvSpPr/>
            <p:nvPr/>
          </p:nvSpPr>
          <p:spPr>
            <a:xfrm flipH="1">
              <a:off x="4522320" y="2032920"/>
              <a:ext cx="22680" cy="1735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99"/>
            <p:cNvSpPr/>
            <p:nvPr/>
          </p:nvSpPr>
          <p:spPr>
            <a:xfrm flipH="1">
              <a:off x="4494240" y="2061720"/>
              <a:ext cx="22680" cy="142920"/>
            </a:xfrm>
            <a:prstGeom prst="pie">
              <a:avLst/>
            </a:prstGeom>
            <a:solidFill>
              <a:srgbClr val="9e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01" name="Соединительная линия уступом 123"/>
          <p:cNvCxnSpPr/>
          <p:nvPr/>
        </p:nvCxnSpPr>
        <p:spPr>
          <a:xfrm>
            <a:off x="5714640" y="5000760"/>
            <a:ext cx="1500840" cy="78624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2" name="Соединительная линия уступом 127"/>
          <p:cNvCxnSpPr/>
          <p:nvPr/>
        </p:nvCxnSpPr>
        <p:spPr>
          <a:xfrm rot="5400000">
            <a:off x="5928480" y="4357440"/>
            <a:ext cx="2715120" cy="143640"/>
          </a:xfrm>
          <a:prstGeom prst="bentConnector3">
            <a:avLst>
              <a:gd name="adj1" fmla="val 49993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3" name="TextBox 128"/>
          <p:cNvSpPr/>
          <p:nvPr/>
        </p:nvSpPr>
        <p:spPr>
          <a:xfrm>
            <a:off x="7238880" y="5572080"/>
            <a:ext cx="15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4" name="Соединительная линия уступом 133"/>
          <p:cNvCxnSpPr/>
          <p:nvPr/>
        </p:nvCxnSpPr>
        <p:spPr>
          <a:xfrm flipV="1" rot="16200000">
            <a:off x="3321360" y="4678200"/>
            <a:ext cx="107244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5" name="Соединительная линия уступом 135"/>
          <p:cNvCxnSpPr/>
          <p:nvPr/>
        </p:nvCxnSpPr>
        <p:spPr>
          <a:xfrm>
            <a:off x="2428920" y="3857760"/>
            <a:ext cx="1286640" cy="4291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606" name="Соединительная линия уступом 137"/>
          <p:cNvCxnSpPr/>
          <p:nvPr/>
        </p:nvCxnSpPr>
        <p:spPr>
          <a:xfrm flipV="1" rot="10800000">
            <a:off x="3714120" y="3643200"/>
            <a:ext cx="1357920" cy="643320"/>
          </a:xfrm>
          <a:prstGeom prst="bentConnector3">
            <a:avLst>
              <a:gd name="adj1" fmla="val 49986"/>
            </a:avLst>
          </a:prstGeom>
          <a:ln w="1260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607" name="TextBox 138"/>
          <p:cNvSpPr/>
          <p:nvPr/>
        </p:nvSpPr>
        <p:spPr>
          <a:xfrm>
            <a:off x="3251160" y="38242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8" name="Прямая со стрелкой 146"/>
          <p:cNvCxnSpPr>
            <a:endCxn id="569" idx="6"/>
          </p:cNvCxnSpPr>
          <p:nvPr/>
        </p:nvCxnSpPr>
        <p:spPr>
          <a:xfrm flipH="1" flipV="1">
            <a:off x="4830120" y="2385720"/>
            <a:ext cx="1956600" cy="3672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09" name="Прямая со стрелкой 155"/>
          <p:cNvCxnSpPr/>
          <p:nvPr/>
        </p:nvCxnSpPr>
        <p:spPr>
          <a:xfrm>
            <a:off x="4643280" y="2643120"/>
            <a:ext cx="643320" cy="15724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0" name="Прямая со стрелкой 157"/>
          <p:cNvCxnSpPr/>
          <p:nvPr/>
        </p:nvCxnSpPr>
        <p:spPr>
          <a:xfrm flipV="1">
            <a:off x="5713920" y="3071520"/>
            <a:ext cx="1143720" cy="1357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1" name="Прямая со стрелкой 159"/>
          <p:cNvCxnSpPr/>
          <p:nvPr/>
        </p:nvCxnSpPr>
        <p:spPr>
          <a:xfrm>
            <a:off x="2214360" y="2214720"/>
            <a:ext cx="1857960" cy="21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2" name="Прямая со стрелкой 161"/>
          <p:cNvCxnSpPr/>
          <p:nvPr/>
        </p:nvCxnSpPr>
        <p:spPr>
          <a:xfrm flipH="1">
            <a:off x="1785600" y="2570760"/>
            <a:ext cx="2286720" cy="17866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3" name="Прямая со стрелкой 163"/>
          <p:cNvCxnSpPr/>
          <p:nvPr/>
        </p:nvCxnSpPr>
        <p:spPr>
          <a:xfrm flipV="1">
            <a:off x="1641960" y="2785680"/>
            <a:ext cx="72360" cy="121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14" name="Прямая со стрелкой 125"/>
          <p:cNvCxnSpPr>
            <a:endCxn id="497" idx="6"/>
          </p:cNvCxnSpPr>
          <p:nvPr/>
        </p:nvCxnSpPr>
        <p:spPr>
          <a:xfrm flipH="1">
            <a:off x="3615480" y="4857840"/>
            <a:ext cx="1599480" cy="6674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15" name="TextBox 132"/>
          <p:cNvSpPr/>
          <p:nvPr/>
        </p:nvSpPr>
        <p:spPr>
          <a:xfrm>
            <a:off x="928800" y="5929200"/>
            <a:ext cx="66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Century Schoolbook"/>
              </a:rPr>
              <a:t>Ориентированный г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70c0"/>
                </a:solidFill>
                <a:latin typeface="Century Schoolbook"/>
              </a:rPr>
              <a:t>ДЕРЕВЬЯ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7120" y="1600200"/>
            <a:ext cx="81439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раф иерархическая системы называется деревом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Иерархия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– это расположение частей или элементов целого в порядке от высшего к низшему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Содержимое 40" descr="5.PNG"/>
          <p:cNvPicPr/>
          <p:nvPr/>
        </p:nvPicPr>
        <p:blipFill>
          <a:blip r:embed="rId1"/>
          <a:stretch/>
        </p:blipFill>
        <p:spPr>
          <a:xfrm>
            <a:off x="785880" y="1000080"/>
            <a:ext cx="7467480" cy="4572000"/>
          </a:xfrm>
          <a:prstGeom prst="rect">
            <a:avLst/>
          </a:prstGeom>
          <a:ln w="0">
            <a:noFill/>
          </a:ln>
        </p:spPr>
      </p:pic>
      <p:cxnSp>
        <p:nvCxnSpPr>
          <p:cNvPr id="619" name="Соединительная линия уступом 5"/>
          <p:cNvCxnSpPr/>
          <p:nvPr/>
        </p:nvCxnSpPr>
        <p:spPr>
          <a:xfrm flipV="1" rot="10800000">
            <a:off x="5142960" y="428400"/>
            <a:ext cx="1572120" cy="7149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0" name="TextBox 6"/>
          <p:cNvSpPr/>
          <p:nvPr/>
        </p:nvSpPr>
        <p:spPr>
          <a:xfrm>
            <a:off x="6673680" y="21420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Кор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1" name="Соединительная линия уступом 8"/>
          <p:cNvCxnSpPr/>
          <p:nvPr/>
        </p:nvCxnSpPr>
        <p:spPr>
          <a:xfrm flipH="1" rot="16200000">
            <a:off x="1035720" y="5750280"/>
            <a:ext cx="643320" cy="28656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2" name="TextBox 11"/>
          <p:cNvSpPr/>
          <p:nvPr/>
        </p:nvSpPr>
        <p:spPr>
          <a:xfrm>
            <a:off x="1393560" y="614376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3" name="Соединительная линия уступом 13"/>
          <p:cNvCxnSpPr/>
          <p:nvPr/>
        </p:nvCxnSpPr>
        <p:spPr>
          <a:xfrm rot="5400000">
            <a:off x="2464200" y="5607720"/>
            <a:ext cx="643320" cy="5724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4" name="Соединительная линия уступом 15"/>
          <p:cNvCxnSpPr/>
          <p:nvPr/>
        </p:nvCxnSpPr>
        <p:spPr>
          <a:xfrm flipV="1" rot="16200000">
            <a:off x="1285920" y="1285560"/>
            <a:ext cx="1072080" cy="643320"/>
          </a:xfrm>
          <a:prstGeom prst="bentConnector3">
            <a:avLst>
              <a:gd name="adj1" fmla="val 49983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625" name="Соединительная линия уступом 17"/>
          <p:cNvCxnSpPr/>
          <p:nvPr/>
        </p:nvCxnSpPr>
        <p:spPr>
          <a:xfrm flipV="1" rot="16200000">
            <a:off x="-360" y="1999440"/>
            <a:ext cx="2215080" cy="35784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626" name="TextBox 19"/>
          <p:cNvSpPr/>
          <p:nvPr/>
        </p:nvSpPr>
        <p:spPr>
          <a:xfrm>
            <a:off x="452880" y="64296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ерш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70c0"/>
                </a:solidFill>
                <a:latin typeface="Century Schoolbook"/>
              </a:rPr>
              <a:t>БЛОК-СХЕМА</a:t>
            </a:r>
            <a:endParaRPr b="0" lang="en-US" sz="6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628" name="Содержимое 3" descr="7.gif"/>
          <p:cNvPicPr/>
          <p:nvPr/>
        </p:nvPicPr>
        <p:blipFill>
          <a:blip r:embed="rId1"/>
          <a:stretch/>
        </p:blipFill>
        <p:spPr>
          <a:xfrm>
            <a:off x="785880" y="1643040"/>
            <a:ext cx="70722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600" spc="-1" strike="noStrike">
                <a:solidFill>
                  <a:srgbClr val="002060"/>
                </a:solidFill>
                <a:latin typeface="Century Schoolbook"/>
              </a:rPr>
              <a:t>Табличные модели</a:t>
            </a:r>
            <a:endParaRPr b="0" lang="en-US" sz="8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Еще одной распространенной формой информационной модели является 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прямоугольная таблица</a:t>
            </a:r>
            <a:r>
              <a:rPr b="0" i="1" lang="ru-RU" sz="3200" spc="-1" strike="noStrike">
                <a:solidFill>
                  <a:srgbClr val="000000"/>
                </a:solidFill>
                <a:latin typeface="Century Schoolbook"/>
              </a:rPr>
              <a:t>, состоящая из строк и столбцов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entury Schoolbook"/>
              </a:rPr>
              <a:t>Типы табли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«Объект-Свойство»                          «Объект-Объект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Двоичные матриц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631" name="Прямая со стрелкой 4"/>
          <p:cNvCxnSpPr/>
          <p:nvPr/>
        </p:nvCxnSpPr>
        <p:spPr>
          <a:xfrm flipH="1">
            <a:off x="4500360" y="3714480"/>
            <a:ext cx="2160" cy="1429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2" name="Прямая со стрелкой 6"/>
          <p:cNvCxnSpPr/>
          <p:nvPr/>
        </p:nvCxnSpPr>
        <p:spPr>
          <a:xfrm>
            <a:off x="4788000" y="3714480"/>
            <a:ext cx="207072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3" name="Прямая со стрелкой 8"/>
          <p:cNvCxnSpPr/>
          <p:nvPr/>
        </p:nvCxnSpPr>
        <p:spPr>
          <a:xfrm flipH="1">
            <a:off x="1928160" y="3713760"/>
            <a:ext cx="2143800" cy="572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СВОЙСТВО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428760" y="1357200"/>
          <a:ext cx="8258040" cy="428328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0960"/>
                <a:gridCol w="1652760"/>
                <a:gridCol w="16509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сад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емпе-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вле-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лаж-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5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Сне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-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6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7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Ту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52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8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ожд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9.03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ез осад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7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«ОБЪЕКТ – ОБЪЕКТ»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28760" y="1571760"/>
          <a:ext cx="8329320" cy="3216240"/>
        </p:xfrm>
        <a:graphic>
          <a:graphicData uri="http://schemas.openxmlformats.org/drawingml/2006/table">
            <a:tbl>
              <a:tblPr/>
              <a:tblGrid>
                <a:gridCol w="1388880"/>
                <a:gridCol w="1387440"/>
                <a:gridCol w="1389240"/>
                <a:gridCol w="1387440"/>
                <a:gridCol w="1388880"/>
                <a:gridCol w="1387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Русск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гебр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Хим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Физика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Ис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Аликин Пет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тов Ив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Волков Ил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Галкина Н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Century Schoolbook"/>
              </a:rPr>
              <a:t>ДВОИЧНЫЕ МАТРИЦЫ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457200" y="1600200"/>
          <a:ext cx="8258040" cy="4156200"/>
        </p:xfrm>
        <a:graphic>
          <a:graphicData uri="http://schemas.openxmlformats.org/drawingml/2006/table">
            <a:tbl>
              <a:tblPr/>
              <a:tblGrid>
                <a:gridCol w="1542960"/>
                <a:gridCol w="1209600"/>
                <a:gridCol w="1376640"/>
                <a:gridCol w="1771560"/>
                <a:gridCol w="1214280"/>
                <a:gridCol w="1143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Озе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Подгор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Е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Боб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entury Schoolbook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56840" y="500040"/>
            <a:ext cx="825804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entury Schoolbook"/>
              </a:rPr>
              <a:t>Моделирование – </a:t>
            </a:r>
            <a:r>
              <a:rPr b="0" i="1" lang="ru-RU" sz="5400" spc="-1" strike="noStrike">
                <a:solidFill>
                  <a:srgbClr val="000000"/>
                </a:solidFill>
                <a:latin typeface="Century Schoolbook"/>
              </a:rPr>
              <a:t>это деятельность человека по созданию моделей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928680" y="4500720"/>
            <a:ext cx="4071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ВЫПОЛНИЛА: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УЧИТЕЛЬ ИНФОРМАТИКИ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ЛИЦЕЯ Г.САРАТОВА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УТОВА ЮЛИЯ ИГОРЕВНА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Модели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6840" y="500040"/>
            <a:ext cx="811548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Модель – это упрощенное подобие реального объекта, отражающее существенные свойства объекта с точки зрения цели моделирования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дель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Натурные                Информационны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56" name="Прямая со стрелкой 4"/>
          <p:cNvCxnSpPr/>
          <p:nvPr/>
        </p:nvCxnSpPr>
        <p:spPr>
          <a:xfrm flipH="1">
            <a:off x="2285640" y="4214880"/>
            <a:ext cx="200088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Прямая со стрелкой 5"/>
          <p:cNvCxnSpPr/>
          <p:nvPr/>
        </p:nvCxnSpPr>
        <p:spPr>
          <a:xfrm>
            <a:off x="4642920" y="4214880"/>
            <a:ext cx="1715400" cy="64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13840" y="428760"/>
            <a:ext cx="857268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Натурные модели воспроизводят некоторые свойства реального устройства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глобус, манекен, макет в мастерской архитектор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2700" spc="-1" strike="noStrike">
                <a:solidFill>
                  <a:srgbClr val="000000"/>
                </a:solidFill>
                <a:latin typeface="Century Schoolbook"/>
              </a:rPr>
              <a:t>Информационная модель представляет собой описание объекта моделирования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entury Schoolbook"/>
              </a:rPr>
              <a:t>Способы описания: вербальный (словесный), математическим, графическим и т.д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пример: чертежи, графики, схем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456840" y="428760"/>
            <a:ext cx="8258040" cy="60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Чертеж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 – должен быть очень точным, на нем указываются все необходимые размер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Для отображения различных процессов часто прибегают к построению </a:t>
            </a:r>
            <a:r>
              <a:rPr b="1" i="1" lang="ru-RU" sz="4000" spc="-1" strike="noStrike">
                <a:solidFill>
                  <a:srgbClr val="000000"/>
                </a:solidFill>
                <a:latin typeface="Century Schoolbook"/>
              </a:rPr>
              <a:t>графиков</a:t>
            </a:r>
            <a:r>
              <a:rPr b="0" i="1" lang="ru-RU" sz="4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28760" y="1928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2060"/>
                </a:solidFill>
                <a:latin typeface="Century Schoolbook"/>
              </a:rPr>
              <a:t>Схемы</a:t>
            </a:r>
            <a:endParaRPr b="0" lang="en-US" sz="9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Рисунок 9" descr="4.jpg"/>
          <p:cNvPicPr/>
          <p:nvPr/>
        </p:nvPicPr>
        <p:blipFill>
          <a:blip r:embed="rId1"/>
          <a:stretch/>
        </p:blipFill>
        <p:spPr>
          <a:xfrm>
            <a:off x="5429160" y="5214960"/>
            <a:ext cx="2571840" cy="1444680"/>
          </a:xfrm>
          <a:prstGeom prst="rect">
            <a:avLst/>
          </a:prstGeom>
          <a:ln w="0">
            <a:noFill/>
          </a:ln>
        </p:spPr>
      </p:pic>
      <p:pic>
        <p:nvPicPr>
          <p:cNvPr id="362" name="Рисунок 7" descr="2.jpg"/>
          <p:cNvPicPr/>
          <p:nvPr/>
        </p:nvPicPr>
        <p:blipFill>
          <a:blip r:embed="rId2"/>
          <a:stretch/>
        </p:blipFill>
        <p:spPr>
          <a:xfrm>
            <a:off x="785880" y="1714680"/>
            <a:ext cx="2928960" cy="16682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5" descr="3.jpg"/>
          <p:cNvPicPr/>
          <p:nvPr/>
        </p:nvPicPr>
        <p:blipFill>
          <a:blip r:embed="rId3"/>
          <a:stretch/>
        </p:blipFill>
        <p:spPr>
          <a:xfrm>
            <a:off x="3071880" y="3357720"/>
            <a:ext cx="3714840" cy="1871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Географическая"/>
          <p:cNvPicPr/>
          <p:nvPr/>
        </p:nvPicPr>
        <p:blipFill>
          <a:blip r:embed="rId4"/>
          <a:stretch/>
        </p:blipFill>
        <p:spPr>
          <a:xfrm>
            <a:off x="571680" y="4000680"/>
            <a:ext cx="3006720" cy="247320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6" descr="1.jpg"/>
          <p:cNvPicPr/>
          <p:nvPr/>
        </p:nvPicPr>
        <p:blipFill>
          <a:blip r:embed="rId5"/>
          <a:stretch/>
        </p:blipFill>
        <p:spPr>
          <a:xfrm>
            <a:off x="5429160" y="1285920"/>
            <a:ext cx="3355920" cy="24051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8"/>
          <p:cNvSpPr/>
          <p:nvPr/>
        </p:nvSpPr>
        <p:spPr>
          <a:xfrm>
            <a:off x="1143000" y="2858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70c0"/>
                </a:solidFill>
                <a:latin typeface="Century Schoolbook"/>
              </a:rPr>
              <a:t>Многообразие сх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356760"/>
            <a:ext cx="74674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entury Schoolbook"/>
              </a:rPr>
              <a:t>Схема — это представление некоторого </a:t>
            </a:r>
            <a:r>
              <a:rPr b="0" i="1" lang="en-US" sz="4000" spc="-1" strike="noStrike">
                <a:solidFill>
                  <a:srgbClr val="000000"/>
                </a:solidFill>
                <a:latin typeface="Century Schoolbook"/>
              </a:rPr>
              <a:t>объекта в общих, главных чертах с помощью условных обозначений.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entury Schoolbook"/>
              </a:rPr>
              <a:t>С помощью схем может быть представлен и внешний вид объекта, и его структура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8:12:57Z</dcterms:created>
  <dc:creator>вася и юля</dc:creator>
  <dc:description/>
  <dc:language>en-US</dc:language>
  <cp:lastModifiedBy>Мама</cp:lastModifiedBy>
  <dcterms:modified xsi:type="dcterms:W3CDTF">2010-11-03T23:06:51Z</dcterms:modified>
  <cp:revision>19</cp:revision>
  <dc:subject/>
  <dc:title>Схемы</dc:title>
</cp:coreProperties>
</file>