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4D5-0E89-45A1-A0FA-05163633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B00-9BBE-40E0-A18A-F7BBAF0C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E448-F0EA-4D5B-91A5-DA659BBF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580-2CE9-4DC4-9C2B-B864D14C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23D2-F3D9-4D51-BCD8-010E2CAA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9182-D0E5-4A36-9A61-B8447C1A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F565-3348-405D-8B85-F5691AAD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ED01-AE01-4C2B-BECA-109953ED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CD7C-42D5-45A6-B3BA-BB314681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8B94-6610-446E-91E4-51B93F05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7D7D-F834-4F2F-9BC3-3F002FAA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65A-372C-495D-B776-A4DBCFDB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736B-5174-4688-A78D-E192540C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18D6-16C6-4E41-99CD-67B78F6E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B659-7701-426B-BCED-47ACCCDF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C7F5-EA86-4D16-8F62-E816194F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FBDA-ADE7-4396-87DF-09365720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82F-8C15-4948-BAE3-E75DB07A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9FB4-F4B1-4658-B0ED-490E766D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C94-88AD-4FE2-8A7B-7AF19C71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D2E-8F97-4100-A75A-D8695A2E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910-6419-4174-AE77-98E1E375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89C-7917-4CAE-8558-B52D5445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CC4-9219-42B2-A753-BE68F289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D47F-37C5-432C-B64D-3C3474131B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7CAE-137B-4E9E-9676-3EBCBE7A4F3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ая картина мир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втор: Рыженко Елена Владимировн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МОУ « СОШ № 64»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г .Астраха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010 г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ю можно измерять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3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ит – это количество информации, которую можно закодировать с помощью «0» или «1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айт = 8 б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Кбайт =1024 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Мбайт = 1024 К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Гбайт =1024 М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Тбайт = 1024 Г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Diagram 6"/>
          <p:cNvGrpSpPr/>
          <p:nvPr/>
        </p:nvGrpSpPr>
        <p:grpSpPr>
          <a:xfrm>
            <a:off x="1468440" y="392040"/>
            <a:ext cx="4979880" cy="5536800"/>
            <a:chOff x="1468440" y="392040"/>
            <a:chExt cx="4979880" cy="5536800"/>
          </a:xfrm>
        </p:grpSpPr>
        <p:sp>
          <p:nvSpPr>
            <p:cNvPr id="213" name="_s1028"/>
            <p:cNvSpPr/>
            <p:nvPr/>
          </p:nvSpPr>
          <p:spPr>
            <a:xfrm flipH="1" flipV="1">
              <a:off x="2757240" y="246852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29"/>
            <p:cNvSpPr/>
            <p:nvPr/>
          </p:nvSpPr>
          <p:spPr>
            <a:xfrm>
              <a:off x="1468440" y="143172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Полнота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0"/>
            <p:cNvSpPr/>
            <p:nvPr/>
          </p:nvSpPr>
          <p:spPr>
            <a:xfrm flipH="1">
              <a:off x="2757240" y="350676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1"/>
            <p:cNvSpPr/>
            <p:nvPr/>
          </p:nvSpPr>
          <p:spPr>
            <a:xfrm>
              <a:off x="146844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ктуальность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2"/>
            <p:cNvSpPr/>
            <p:nvPr/>
          </p:nvSpPr>
          <p:spPr>
            <a:xfrm>
              <a:off x="3957480" y="3851280"/>
              <a:ext cx="0" cy="694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3"/>
            <p:cNvSpPr/>
            <p:nvPr/>
          </p:nvSpPr>
          <p:spPr>
            <a:xfrm>
              <a:off x="3265560" y="454500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Репрезентатив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56160" y="350676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5"/>
            <p:cNvSpPr/>
            <p:nvPr/>
          </p:nvSpPr>
          <p:spPr>
            <a:xfrm>
              <a:off x="506412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декват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6"/>
            <p:cNvSpPr/>
            <p:nvPr/>
          </p:nvSpPr>
          <p:spPr>
            <a:xfrm flipV="1">
              <a:off x="4556160" y="246852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1037"/>
            <p:cNvSpPr/>
            <p:nvPr/>
          </p:nvSpPr>
          <p:spPr>
            <a:xfrm>
              <a:off x="5064120" y="143028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овер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1038"/>
            <p:cNvSpPr/>
            <p:nvPr/>
          </p:nvSpPr>
          <p:spPr>
            <a:xfrm flipV="1">
              <a:off x="3957480" y="1776240"/>
              <a:ext cx="0" cy="6933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1039"/>
            <p:cNvSpPr/>
            <p:nvPr/>
          </p:nvSpPr>
          <p:spPr>
            <a:xfrm>
              <a:off x="3265560" y="39204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уп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(понятность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1040"/>
            <p:cNvSpPr/>
            <p:nvPr/>
          </p:nvSpPr>
          <p:spPr>
            <a:xfrm>
              <a:off x="3265560" y="24699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Свойства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ктуаль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колько важна информация для решения проблемы в конкретной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висит от интервала времени, прошедшего с момента появления этой информации и от скорости изменения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упность 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образование информации в понятную фор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овер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ражение состояния реально существующего объекта, процесса или яв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олнота (достаточность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держание минимального, но достаточного для принятия правильного решения набора данны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декват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ответствие образа, созданного с помощью полученной информации (информационной модели), реальному объекту, процессу или явлен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Репрезентатив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ьность отбора и формирования  информации для адекватного отражения свойств объек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обходимо поступление информации из различных источни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1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2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Представление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Тема 1: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Понятие об информации. 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является основой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бывают  формы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код и кодирование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единицы измерения используются для определения объёма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кодируется в компьютере текстовая, числовая, графическая и звуковая информац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Формы представления информации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ковая письменная, состоящая из различных знаков, среди которых выделяют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имвольную -  в виде текста, чисел, специальных символ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рафическую (карты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бличну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виде жестов или сигна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ная словесн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Представление информации с помощью какого-либо языка часто называют </a:t>
            </a: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кодированием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2565000"/>
            <a:ext cx="7386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д – набор символов (условных обозначений) для представления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числ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омпьютере числа представляются в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двоичной системе счислен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то есть посредством двух чисел – 0 и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позиционная система, то есть в ней «вес» цифры зависит от её места в числ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ждому символу клавиатуры поставлено в соответствие одно из значений кодовой таблицы в виде последовательности двоичных код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CI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8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ico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16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графическ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Растров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совокупность точек, используемых для отображения изображения на экране  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Векторн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 графический объект, состоящий из графических примитивов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Растровое изображение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характеризуется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цвета( количество битов на кодирование одного цвета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личеством возможных цве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решением экрана(количеством точек-пикселей по вертикали и горизонтали экран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растрового изображения вычис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V=X*Y*I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– разрешение экр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 –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бина кодир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=2^I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количество цве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дирование зву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вук представляет собой непрерывный сигнал – звуковую волну с меняющейся амплитудой и частот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кодировании непрерывный сигнал разбивается на равные по длительности интервалы времени –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искре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означает термин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информация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виды информации существую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воспринимает информаци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ми свойствами обладает информац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звука характеризуетс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астотой дискретизации                    ( количество измерений уровней сигнала за 1 секунду) – М(Гц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кодирования звука(количество битов, отводимое на одно измерение уровня звукового сигнала)-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(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ит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звукового файла опреде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V=M*I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 М – частота дискретизаци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глубина кодирован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длительность звуч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2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14,16,17,18 на стр. 27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26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3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ая деятельность челове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следует понимать информационный процесс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представляют собой информационные процессы в обществе, в живой природе, в техник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информационная технолог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ова роль персонального компьютера в информационной технолог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любую информацию можно разделить на входную и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преобразовывает входную информацию  в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действия можно совершать с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С информацией можно совершать следующие действи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бор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работк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дач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ранение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щита информа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j0302953"/>
          <p:cNvPicPr/>
          <p:nvPr/>
        </p:nvPicPr>
        <p:blipFill>
          <a:blip r:embed="rId1"/>
          <a:stretch/>
        </p:blipFill>
        <p:spPr>
          <a:xfrm>
            <a:off x="3059280" y="2349360"/>
            <a:ext cx="1973160" cy="2765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бработк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5797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ходная 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 котору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л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стройств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19280" y="1598760"/>
            <a:ext cx="2430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ход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тор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ся после обработки человеком или устройством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1908000" y="1844640"/>
            <a:ext cx="1440000" cy="504720"/>
          </a:xfrm>
          <a:prstGeom prst="line">
            <a:avLst/>
          </a:prstGeom>
          <a:ln w="9360">
            <a:solidFill>
              <a:srgbClr val="3d14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4427640" y="2060640"/>
            <a:ext cx="115236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1979640" y="1700280"/>
            <a:ext cx="1584360" cy="57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4643280" y="2133360"/>
            <a:ext cx="108108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ередач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395280" y="3141720"/>
            <a:ext cx="194472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сточ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3059280" y="3141720"/>
            <a:ext cx="187308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нал связ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883120" y="3331440"/>
            <a:ext cx="1463760" cy="9158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учател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1547640" y="4724280"/>
            <a:ext cx="2232360" cy="57636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4500720" y="4724280"/>
            <a:ext cx="2087280" cy="6494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AutoShape 14"/>
          <p:cNvSpPr/>
          <p:nvPr/>
        </p:nvSpPr>
        <p:spPr>
          <a:xfrm>
            <a:off x="1908000" y="42210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AutoShape 15"/>
          <p:cNvSpPr/>
          <p:nvPr/>
        </p:nvSpPr>
        <p:spPr>
          <a:xfrm>
            <a:off x="3203640" y="422100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AutoShape 16"/>
          <p:cNvSpPr/>
          <p:nvPr/>
        </p:nvSpPr>
        <p:spPr>
          <a:xfrm>
            <a:off x="4643280" y="422100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AutoShape 17"/>
          <p:cNvSpPr/>
          <p:nvPr/>
        </p:nvSpPr>
        <p:spPr>
          <a:xfrm>
            <a:off x="5651640" y="4221000"/>
            <a:ext cx="215640" cy="503280"/>
          </a:xfrm>
          <a:prstGeom prst="upArrow">
            <a:avLst>
              <a:gd name="adj1" fmla="val 50000"/>
              <a:gd name="adj2" fmla="val 58347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Хранение информации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ситель информации -  материальный объект, предназначенный для хранения и передачи информации в пространстве и време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вая окружающий мир, человек имеет дело с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нформаци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на помогает челове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авильно оценить происходящие события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нять обдуманное решени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йти наиболее удачный вариант своих действ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Для защиты информации используют разные способы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зопасность зданий, где храниться информац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троль доступа к секретной информации с помощью пароля, пропусков, биоидентифик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ублирование каналов связи и подключение резервных устройст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иптографические преобразования информации с помощью шиф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6,17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4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ые процессы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роцессы, связанные со сбором , хранением,  поиском, обработкой, кодированием и передачей информации, называют </a:t>
            </a:r>
            <a:r>
              <a:rPr b="1" i="1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информационными процессам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сновой информационных процессов в человеческом обществе является </a:t>
            </a:r>
            <a:r>
              <a:rPr b="0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коммуникация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 (общение друг с другом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ммуникационная среда -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овокупность условий обмена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онные процессы могут протекать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живой природе (сезонные изменения, восприятие звуков, запахов, прикосновений животными и растениям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технике (реакция технических устройств на действия человек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вокупность действий для достижения поставленной ц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информационный процесс, в результате которого создаётся информационный проду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истории человеческого общества выделяют несколько этапов развития информационной технолог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19240" y="227160"/>
          <a:ext cx="7476840" cy="6367320"/>
        </p:xfrm>
        <a:graphic>
          <a:graphicData uri="http://schemas.openxmlformats.org/drawingml/2006/table">
            <a:tbl>
              <a:tblPr/>
              <a:tblGrid>
                <a:gridCol w="465120"/>
                <a:gridCol w="1295280"/>
                <a:gridCol w="1728720"/>
                <a:gridCol w="1655640"/>
                <a:gridCol w="2332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Основные инструмен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лавная цель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 второй половины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ручная» (почта, книгопечатание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еро, чернильница, бумага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нужной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конца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механ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ишущая машинка, телефон, телеграф, телевидение, ради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удобной для передачи 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0-60 годы 20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, магнитофоны, копи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 удобной для передачи и хранен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начала 7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он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вершенствование форм представления информац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середины 8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компьютер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К и компьютерные се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, удобной для хранения, поиска, обработки, передачи; развитие систем искусственного интеллект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– это то, чем каждый из нас пополняет свой багаж знан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позволяет человеку снизить уровень неопределённости знания о сути какого-то объекта: предмета, явления или процес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сональный компьютер  - основное техническое средство информационных технолог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4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6760" y="2714760"/>
            <a:ext cx="6643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нформатика и ИКТ. Учебник . 8 – 9 класс/ Под ред. Проф. Н. В. Макаровой. - СПб.: Питер, 2009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я не существует сама по себе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егда имеется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который её производ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приёмник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оторый её воспринима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ёмником или источником информации может быть любой объект материального мир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елове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ройст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Животно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т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о есть информация всегда предназначена конкретному объект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Человек получает информацию из разных источников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чита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лушает ради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трагивается до предме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бует на вкус какую-нибудь ед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юхает цвет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я бывает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уч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удожествен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льтурологическ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так дале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5:06:22Z</dcterms:created>
  <dc:creator>Слава</dc:creator>
  <dc:description/>
  <dc:language>en-US</dc:language>
  <cp:lastModifiedBy>Admin</cp:lastModifiedBy>
  <dcterms:modified xsi:type="dcterms:W3CDTF">2010-06-17T08:11:59Z</dcterms:modified>
  <cp:revision>7</cp:revision>
  <dc:subject/>
  <dc:title>Тема 1: Информация и   данные. Свойства информации.</dc:title>
</cp:coreProperties>
</file>