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A2FA-5E21-42AF-A117-4D97D8F9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6AFB-432A-457F-A95B-BBB4FA00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9A55-9B6B-4D6B-8D5F-7FEFAB42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562E-35C9-425D-8CC4-95C27835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34D8-A175-4593-AEC0-94CC27EF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4F02-EC3A-4138-9930-21E97408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3DF3-ED01-4741-A8C2-020CCFED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8600-9259-4714-90E3-C23A37DC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2B7B-91A4-4A96-8281-99D1B459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6BCE-763C-4371-820D-A47E7503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EDE7-74CF-406F-B2DF-1196F5E9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44F3-7C04-4034-BC12-44382BA1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020D-269E-4039-B977-CB61A97C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7CB1-4A29-4EE7-A0C3-FC54E931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1807-967D-42DE-A03D-EF1766F4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8F20-26AB-4440-985A-D339EBAB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D57A-6D9C-4944-8509-1ADCFB76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A689-9D57-42F4-ADDF-4E81ECE1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020D-DFDA-4EC7-89FA-9B0E95D5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BB83-4584-4E2B-B0A5-A996BCA4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294F-B406-46E5-B59F-771BBE83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A1A1-C99B-4A3E-A52C-8E9D841E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1D61-A2FF-4D76-B90C-D8C1AF24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CA72-AAB8-4594-83F1-5D9F84CD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90D4-05A0-429D-9BBE-FD5585E8371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E7B5-A8C4-4971-8800-7BB583E27C0C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онная картина мир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втор: Рыженко Елена Владимировна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учитель информатики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МОУ « СОШ № 64»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г .Астрахан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010 год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ю можно измерять.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7386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бит – это количество информации, которую можно закодировать с помощью «0» или «1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байт = 8 би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Кбайт =1024 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Мбайт = 1024 К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Гбайт =1024 М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Тбайт = 1024 Г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Diagram 6"/>
          <p:cNvGrpSpPr/>
          <p:nvPr/>
        </p:nvGrpSpPr>
        <p:grpSpPr>
          <a:xfrm>
            <a:off x="1468440" y="392040"/>
            <a:ext cx="4979880" cy="5536800"/>
            <a:chOff x="1468440" y="392040"/>
            <a:chExt cx="4979880" cy="5536800"/>
          </a:xfrm>
        </p:grpSpPr>
        <p:sp>
          <p:nvSpPr>
            <p:cNvPr id="213" name="_s1028"/>
            <p:cNvSpPr/>
            <p:nvPr/>
          </p:nvSpPr>
          <p:spPr>
            <a:xfrm flipH="1" flipV="1">
              <a:off x="2757240" y="2468520"/>
              <a:ext cx="60300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4" name="_s1029"/>
            <p:cNvSpPr/>
            <p:nvPr/>
          </p:nvSpPr>
          <p:spPr>
            <a:xfrm>
              <a:off x="1468440" y="143172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Полнота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5" name="_s1030"/>
            <p:cNvSpPr/>
            <p:nvPr/>
          </p:nvSpPr>
          <p:spPr>
            <a:xfrm flipH="1">
              <a:off x="2757240" y="3506760"/>
              <a:ext cx="60300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_s1031"/>
            <p:cNvSpPr/>
            <p:nvPr/>
          </p:nvSpPr>
          <p:spPr>
            <a:xfrm>
              <a:off x="1468440" y="35067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Актуальность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_s1032"/>
            <p:cNvSpPr/>
            <p:nvPr/>
          </p:nvSpPr>
          <p:spPr>
            <a:xfrm>
              <a:off x="3957480" y="3851280"/>
              <a:ext cx="0" cy="69480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8" name="_s1033"/>
            <p:cNvSpPr/>
            <p:nvPr/>
          </p:nvSpPr>
          <p:spPr>
            <a:xfrm>
              <a:off x="3265560" y="454500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Arial"/>
                </a:rPr>
                <a:t>Репрезентатив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_s1034"/>
            <p:cNvSpPr/>
            <p:nvPr/>
          </p:nvSpPr>
          <p:spPr>
            <a:xfrm>
              <a:off x="4556160" y="3506760"/>
              <a:ext cx="60156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0" name="_s1035"/>
            <p:cNvSpPr/>
            <p:nvPr/>
          </p:nvSpPr>
          <p:spPr>
            <a:xfrm>
              <a:off x="5064120" y="35067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Адекват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_s1036"/>
            <p:cNvSpPr/>
            <p:nvPr/>
          </p:nvSpPr>
          <p:spPr>
            <a:xfrm flipV="1">
              <a:off x="4556160" y="2468520"/>
              <a:ext cx="60156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2" name="_s1037"/>
            <p:cNvSpPr/>
            <p:nvPr/>
          </p:nvSpPr>
          <p:spPr>
            <a:xfrm>
              <a:off x="5064120" y="143028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Достовер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3" name="_s1038"/>
            <p:cNvSpPr/>
            <p:nvPr/>
          </p:nvSpPr>
          <p:spPr>
            <a:xfrm flipV="1">
              <a:off x="3957480" y="1776240"/>
              <a:ext cx="0" cy="6933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" name="_s1039"/>
            <p:cNvSpPr/>
            <p:nvPr/>
          </p:nvSpPr>
          <p:spPr>
            <a:xfrm>
              <a:off x="3265560" y="39204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Доступ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(понятность)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5" name="_s1040"/>
            <p:cNvSpPr/>
            <p:nvPr/>
          </p:nvSpPr>
          <p:spPr>
            <a:xfrm>
              <a:off x="3265560" y="24699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Свойства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информации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Актуаль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сколько важна информация для решения проблемы в конкретной ситу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висит от интервала времени, прошедшего с момента появления этой информации и от скорости изменения ситу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ступность 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еобразование информации в понятную форм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стовер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тражение состояния реально существующего объекта, процесса или явле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олнота (достаточность)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держание минимального, но достаточного для принятия правильного решения набора данных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Адекват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ответствие образа, созданного с помощью полученной информации (информационной модели), реальному объекту, процессу или явлени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Репрезентатив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авильность отбора и формирования  информации для адекватного отражения свойств объект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еобходимо поступление информации из различных источник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1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15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2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Представление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Тема 1:</a:t>
            </a: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  Понятие об информации. 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8 клас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является основой представления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ие бывают  формы представления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такое код и кодирование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ие единицы измерения используются для определения объёма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 кодируется в компьютере текстовая, числовая, графическая и звуковая информац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Формы представления информации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наковая письменная, состоящая из различных знаков, среди которых выделяют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имвольную -  в виде текста, чисел, специальных символо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рафическую (карты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абличную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виде жестов или сигнал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стная словесна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Представление информации с помощью какого-либо языка часто называют </a:t>
            </a:r>
            <a:r>
              <a:rPr b="0" lang="ru-RU" sz="3600" spc="-1" strike="noStrike" u="sng">
                <a:solidFill>
                  <a:srgbClr val="853f35"/>
                </a:solidFill>
                <a:uFillTx/>
                <a:latin typeface="Arial"/>
              </a:rPr>
              <a:t>кодированием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2565000"/>
            <a:ext cx="738648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д – набор символов (условных обозначений) для представления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числ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компьютере числа представляются в </a:t>
            </a: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двоичной системе счисления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то есть посредством двух чисел – 0 и 1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позиционная система, то есть в ней «вес» цифры зависит от её места в числ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текст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ждому символу клавиатуры поставлено в соответствие одно из значений кодовой таблицы в виде последовательности двоичных код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текст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SCI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символ = 8 би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Unicod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символ = 16 би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графическ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Растровое изображени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- совокупность точек, используемых для отображения изображения на экране  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Векторное изображени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-  графический объект, состоящий из графических примитивов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53f35"/>
                </a:solidFill>
                <a:uFillTx/>
                <a:latin typeface="Arial"/>
              </a:rPr>
              <a:t>Растровое изображение</a:t>
            </a: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  характеризуется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лубиной цвета( количество битов на кодирование одного цвета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личеством возможных цветов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зрешением экрана(количеством точек-пикселей по вертикали и горизонтали экрана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Объём растрового изображения вычисляется по формуле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                                           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V=X*Y*I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– разрешение экра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 –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лубина кодиров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N=2^I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 количество цвет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Кодирование звук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вук представляет собой непрерывный сигнал – звуковую волну с меняющейся амплитудой и частото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 кодировании непрерывный сигнал разбивается на равные по длительности интервалы времени –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дискрет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означает термин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 информация»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е виды информации существую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человек воспринимает информаци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ми свойствами обладает информац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звука характеризуется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астотой дискретизации                    ( количество измерений уровней сигнала за 1 секунду) – М(Гц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лубиной кодирования звука(количество битов, отводимое на одно измерение уровня звукового сигнала)-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(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ит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Объём звукового файла определяется по формуле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 </a:t>
            </a: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V=M*I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  М – частота дискретизации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-  глубина кодировани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-  длительность звуч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2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ния №14,16,17,18 на стр. 27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26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3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Информационная деятельность человек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 следует понимать информационный процесс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представляют собой информационные процессы в обществе, в живой природе, в технике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такое информационная технолог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ова роль персонального компьютера в информационной технолог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любую информацию можно разделить на входную и выходну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человек преобразовывает входную информацию  в выходну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е действия можно совершать с информаци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С информацией можно совершать следующие действия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бор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бработка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едача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Хранение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иск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щита информаци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j0302953"/>
          <p:cNvPicPr/>
          <p:nvPr/>
        </p:nvPicPr>
        <p:blipFill>
          <a:blip r:embed="rId1"/>
          <a:stretch/>
        </p:blipFill>
        <p:spPr>
          <a:xfrm>
            <a:off x="3059280" y="2349360"/>
            <a:ext cx="1973160" cy="276552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Обработка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5797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ходная информац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информация, котору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луча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л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стройство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19280" y="1598760"/>
            <a:ext cx="2430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ыход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нформац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информаци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отор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лучается после обработки человеком или устройством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Line 9"/>
          <p:cNvSpPr/>
          <p:nvPr/>
        </p:nvSpPr>
        <p:spPr>
          <a:xfrm>
            <a:off x="1908000" y="1844640"/>
            <a:ext cx="1440000" cy="504720"/>
          </a:xfrm>
          <a:prstGeom prst="line">
            <a:avLst/>
          </a:prstGeom>
          <a:ln w="9360">
            <a:solidFill>
              <a:srgbClr val="3d14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Line 10"/>
          <p:cNvSpPr/>
          <p:nvPr/>
        </p:nvSpPr>
        <p:spPr>
          <a:xfrm flipV="1">
            <a:off x="4427640" y="2060640"/>
            <a:ext cx="1152360" cy="21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1979640" y="1700280"/>
            <a:ext cx="1584360" cy="576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 flipV="1">
            <a:off x="4643280" y="2133360"/>
            <a:ext cx="1081080" cy="215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ередача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7" name="Oval 4"/>
          <p:cNvSpPr/>
          <p:nvPr/>
        </p:nvSpPr>
        <p:spPr>
          <a:xfrm>
            <a:off x="395280" y="3141720"/>
            <a:ext cx="1944720" cy="1224000"/>
          </a:xfrm>
          <a:prstGeom prst="ellipse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сточни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3059280" y="3141720"/>
            <a:ext cx="1873080" cy="1224000"/>
          </a:xfrm>
          <a:prstGeom prst="ellipse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нал связ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883120" y="3331440"/>
            <a:ext cx="1463760" cy="91584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лучател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1547640" y="4724280"/>
            <a:ext cx="2232360" cy="57636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дирующе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4500720" y="4724280"/>
            <a:ext cx="2087280" cy="64944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екодирующе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AutoShape 14"/>
          <p:cNvSpPr/>
          <p:nvPr/>
        </p:nvSpPr>
        <p:spPr>
          <a:xfrm>
            <a:off x="1908000" y="422100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AutoShape 15"/>
          <p:cNvSpPr/>
          <p:nvPr/>
        </p:nvSpPr>
        <p:spPr>
          <a:xfrm>
            <a:off x="3203640" y="4221000"/>
            <a:ext cx="360360" cy="503280"/>
          </a:xfrm>
          <a:prstGeom prst="upArrow">
            <a:avLst>
              <a:gd name="adj1" fmla="val 50000"/>
              <a:gd name="adj2" fmla="val 34915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AutoShape 16"/>
          <p:cNvSpPr/>
          <p:nvPr/>
        </p:nvSpPr>
        <p:spPr>
          <a:xfrm>
            <a:off x="4643280" y="422100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AutoShape 17"/>
          <p:cNvSpPr/>
          <p:nvPr/>
        </p:nvSpPr>
        <p:spPr>
          <a:xfrm>
            <a:off x="5651640" y="4221000"/>
            <a:ext cx="215640" cy="503280"/>
          </a:xfrm>
          <a:prstGeom prst="upArrow">
            <a:avLst>
              <a:gd name="adj1" fmla="val 50000"/>
              <a:gd name="adj2" fmla="val 58347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Хранение информации.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оситель информации -  материальный объект, предназначенный для хранения и передачи информации в пространстве и времен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знавая окружающий мир, человек имеет дело с </a:t>
            </a: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информацией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на помогает человек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авильно оценить происходящие события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инять обдуманное решение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йти наиболее удачный вариант своих действи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Для защиты информации используют разные способы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езопасность зданий, где храниться информац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нтроль доступа к секретной информации с помощью пароля, пропусков, биоидентифик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ублирование каналов связи и подключение резервных устройств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риптографические преобразования информации с помощью шифр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3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ния №6,17 на стр. 3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3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4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Информационные процессы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8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роцессы, связанные со сбором , хранением,  поиском, обработкой, кодированием и передачей информации, называют </a:t>
            </a:r>
            <a:r>
              <a:rPr b="1" i="1" lang="ru-RU" sz="4000" spc="-1" strike="noStrike" u="sng">
                <a:solidFill>
                  <a:srgbClr val="853f35"/>
                </a:solidFill>
                <a:uFillTx/>
                <a:latin typeface="Arial"/>
              </a:rPr>
              <a:t>информационными процессам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Основой информационных процессов в человеческом обществе является </a:t>
            </a:r>
            <a:r>
              <a:rPr b="0" lang="ru-RU" sz="4000" spc="-1" strike="noStrike" u="sng">
                <a:solidFill>
                  <a:srgbClr val="853f35"/>
                </a:solidFill>
                <a:uFillTx/>
                <a:latin typeface="Arial"/>
              </a:rPr>
              <a:t>коммуникация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 (общение друг с другом)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Коммуникационная среда - 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совокупность условий обмена информаци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онные процессы могут протекать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живой природе (сезонные изменения, восприятие звуков, запахов, прикосновений животными и растениями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технике (реакция технических устройств на действия человека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вокупность действий для достижения поставленной цел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информационный процесс, в результате которого создаётся информационный продук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истории человеческого общества выделяют несколько этапов развития информационной технолог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219240" y="227160"/>
          <a:ext cx="7476840" cy="6367320"/>
        </p:xfrm>
        <a:graphic>
          <a:graphicData uri="http://schemas.openxmlformats.org/drawingml/2006/table">
            <a:tbl>
              <a:tblPr/>
              <a:tblGrid>
                <a:gridCol w="465120"/>
                <a:gridCol w="1295280"/>
                <a:gridCol w="1728720"/>
                <a:gridCol w="1655640"/>
                <a:gridCol w="23320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Основные инструмент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Главная цель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о второй половины 19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ручная» (почта, книгопечатание)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еро, чернильница, бумага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нужной форм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конца 19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механическ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ишущая машинка, телефон, телеграф, телевидение, радио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удобной для передачи  форм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0-60 годы 20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электрическ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ольшие компьютеры, магнитофоны, копи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форме удобной для передачи и хранени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84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начала 70-х годов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электронн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ольшие компьюте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овершенствование форм представления информации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середины 80-х годов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компьютерн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К и компьютерные сет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форме, удобной для хранения, поиска, обработки, передачи; развитие систем искусственного интеллекта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формация – это то, чем каждый из нас пополняет свой багаж знан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формация позволяет человеку снизить уровень неопределённости знания о сути какого-то объекта: предмета, явления или процесс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сональный компьютер  - основное техническое средство информационных технолог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4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4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6760" y="2714760"/>
            <a:ext cx="66438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нформатика и ИКТ. Учебник . 8 – 9 класс/ Под ред. Проф. Н. В. Макаровой. - СПб.: Питер, 2009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я не существует сама по себе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сегда имеется </a:t>
            </a:r>
            <a:r>
              <a:rPr b="0" i="1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источник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который её производи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</a:t>
            </a:r>
            <a:r>
              <a:rPr b="0" i="1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приёмник,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который её воспринимае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89000"/>
            <a:ext cx="73864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ёмником или источником информации может быть любой объект материального мир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еловек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стройств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Животно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стен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о есть информация всегда предназначена конкретному объект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Человек получает информацию из разных источников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гда читае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лушает ради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отрагивается до предмет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бует на вкус какую-нибудь еду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юхает цветок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я бывает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учн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Художественн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ультурологическ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так дале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5:06:22Z</dcterms:created>
  <dc:creator>Слава</dc:creator>
  <dc:description/>
  <dc:language>en-US</dc:language>
  <cp:lastModifiedBy>Admin</cp:lastModifiedBy>
  <dcterms:modified xsi:type="dcterms:W3CDTF">2010-06-17T08:11:59Z</dcterms:modified>
  <cp:revision>7</cp:revision>
  <dc:subject/>
  <dc:title>Тема 1: Информация и   данные. Свойства информации.</dc:title>
</cp:coreProperties>
</file>