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80F-B5EF-4CE3-9642-309A16A2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D84-200C-433E-9347-0047EE3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5F1-EDFF-40AB-8A85-BF974186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4A0-4CBC-4E37-BF42-6240AC08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C14E-1962-47E5-A28C-07F5E3A9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6E0B-4915-4B9B-92D2-D6964F99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4DCE-AC60-4AA1-8197-46E2ABCC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6D3E-7AA2-4E9B-A2DA-414881D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A377-1113-47A3-9081-D1C70C45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B9F7-162A-44F4-8B43-AF2FD367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5A27-C7D3-47EE-8FC0-57269034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046-99B9-4A1B-9AC8-87D429DE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077F-3D0C-4A89-BCD5-853FF779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8BFC-AE65-44B7-A00E-6D945B7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9A3D-95D1-44B6-B544-CFC3B2D1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2FB8-1A8C-4120-8E14-8394A715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9613-0362-4261-AF79-E4AC154F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1D3-1373-4242-95E7-14A3C646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336-C793-4678-AF94-1465D01B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E7E-A9D7-4C93-AF07-C9BD44C7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4DD9-B34F-444B-AE86-AF7596CB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0933-4789-486A-B407-296F6EA0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631-23AD-4C34-BE0D-01466AA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3FC-A80A-473F-AA56-973BAAC6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05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79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800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8134-3784-48C4-B14D-E3234545B5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60"/>
            <a:ext cx="9159840" cy="6869880"/>
            <a:chOff x="0" y="360"/>
            <a:chExt cx="9159840" cy="686988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8e7f5e"/>
                </a:gs>
                <a:gs pos="100000">
                  <a:srgbClr val="cfc7b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"/>
              <a:ext cx="1203120" cy="6856560"/>
            </a:xfrm>
            <a:prstGeom prst="rect">
              <a:avLst/>
            </a:prstGeom>
            <a:gradFill rotWithShape="0">
              <a:gsLst>
                <a:gs pos="0">
                  <a:srgbClr val="c7b28c"/>
                </a:gs>
                <a:gs pos="50000">
                  <a:srgbClr val="ebd2a5"/>
                </a:gs>
                <a:gs pos="100000">
                  <a:srgbClr val="c7b2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360"/>
              <a:ext cx="1295280" cy="6309360"/>
              <a:chOff x="7848720" y="360"/>
              <a:chExt cx="1295280" cy="63093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360"/>
                <a:ext cx="762120" cy="2271600"/>
                <a:chOff x="8381880" y="360"/>
                <a:chExt cx="762120" cy="22716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360"/>
                  <a:ext cx="279360" cy="275400"/>
                  <a:chOff x="8707320" y="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360"/>
                    <a:ext cx="279360" cy="275400"/>
                    <a:chOff x="8707320" y="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852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10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200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29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68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96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96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4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91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920"/>
                <a:ext cx="828720" cy="4708800"/>
                <a:chOff x="7848720" y="1600920"/>
                <a:chExt cx="828720" cy="47088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09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5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960"/>
              <a:ext cx="1190520" cy="19393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8200"/>
              <a:ext cx="1219320" cy="199944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8440"/>
              <a:ext cx="1231920" cy="4035960"/>
            </a:xfrm>
            <a:prstGeom prst="pie">
              <a:avLst/>
            </a:prstGeom>
            <a:gradFill rotWithShape="0">
              <a:gsLst>
                <a:gs pos="0">
                  <a:srgbClr val="4c5d4e"/>
                </a:gs>
                <a:gs pos="50000">
                  <a:srgbClr val="a5c9a8"/>
                </a:gs>
                <a:gs pos="100000">
                  <a:srgbClr val="4c5d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800"/>
              <a:ext cx="979560" cy="218376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8040"/>
              <a:ext cx="914400" cy="50472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3160"/>
              <a:ext cx="909720" cy="307080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"/>
              <a:ext cx="576360" cy="33519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2520"/>
              <a:ext cx="300240" cy="3352320"/>
            </a:xfrm>
            <a:prstGeom prst="pie">
              <a:avLst/>
            </a:prstGeom>
            <a:gradFill rotWithShape="0">
              <a:gsLst>
                <a:gs pos="0">
                  <a:srgbClr val="e5a871"/>
                </a:gs>
                <a:gs pos="50000">
                  <a:srgbClr val="c68510"/>
                </a:gs>
                <a:gs pos="100000">
                  <a:srgbClr val="e5a8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2520"/>
              <a:ext cx="8892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884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50000">
                  <a:srgbClr val="e5a871"/>
                </a:gs>
                <a:gs pos="100000">
                  <a:srgbClr val="cfc7b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4680" y="3316680"/>
              <a:ext cx="6856560" cy="225360"/>
            </a:xfrm>
            <a:prstGeom prst="pie">
              <a:avLst/>
            </a:prstGeom>
            <a:gradFill rotWithShape="0">
              <a:gsLst>
                <a:gs pos="0">
                  <a:srgbClr val="cfc7b5"/>
                </a:gs>
                <a:gs pos="100000">
                  <a:srgbClr val="8e7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E02-8FF6-4E11-8AD6-30191FBB5C6D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ая картина мир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втор: Рыженко Елена Владимировна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МОУ « СОШ № 64»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г .Астрахан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010 год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ю можно измерять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386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ит – это количество информации, которую можно закодировать с помощью «0» или «1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байт = 8 б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Кбайт =1024 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Мбайт = 1024 К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Гбайт =1024 М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 Тбайт = 1024 Гбай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Diagram 6"/>
          <p:cNvGrpSpPr/>
          <p:nvPr/>
        </p:nvGrpSpPr>
        <p:grpSpPr>
          <a:xfrm>
            <a:off x="1468440" y="392040"/>
            <a:ext cx="4979880" cy="5536800"/>
            <a:chOff x="1468440" y="392040"/>
            <a:chExt cx="4979880" cy="5536800"/>
          </a:xfrm>
        </p:grpSpPr>
        <p:sp>
          <p:nvSpPr>
            <p:cNvPr id="213" name="_s1028"/>
            <p:cNvSpPr/>
            <p:nvPr/>
          </p:nvSpPr>
          <p:spPr>
            <a:xfrm flipH="1" flipV="1">
              <a:off x="2757240" y="246852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1029"/>
            <p:cNvSpPr/>
            <p:nvPr/>
          </p:nvSpPr>
          <p:spPr>
            <a:xfrm>
              <a:off x="1468440" y="143172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лнота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5" name="_s1030"/>
            <p:cNvSpPr/>
            <p:nvPr/>
          </p:nvSpPr>
          <p:spPr>
            <a:xfrm flipH="1">
              <a:off x="2757240" y="3506760"/>
              <a:ext cx="60300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6" name="_s1031"/>
            <p:cNvSpPr/>
            <p:nvPr/>
          </p:nvSpPr>
          <p:spPr>
            <a:xfrm>
              <a:off x="146844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ктуальность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7" name="_s1032"/>
            <p:cNvSpPr/>
            <p:nvPr/>
          </p:nvSpPr>
          <p:spPr>
            <a:xfrm>
              <a:off x="3957480" y="3851280"/>
              <a:ext cx="0" cy="6948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8" name="_s1033"/>
            <p:cNvSpPr/>
            <p:nvPr/>
          </p:nvSpPr>
          <p:spPr>
            <a:xfrm>
              <a:off x="3265560" y="454500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Репрезентатив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56160" y="350676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0" name="_s1035"/>
            <p:cNvSpPr/>
            <p:nvPr/>
          </p:nvSpPr>
          <p:spPr>
            <a:xfrm>
              <a:off x="5064120" y="35067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Адекват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_s1036"/>
            <p:cNvSpPr/>
            <p:nvPr/>
          </p:nvSpPr>
          <p:spPr>
            <a:xfrm flipV="1">
              <a:off x="4556160" y="2468520"/>
              <a:ext cx="601560" cy="3470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2" name="_s1037"/>
            <p:cNvSpPr/>
            <p:nvPr/>
          </p:nvSpPr>
          <p:spPr>
            <a:xfrm>
              <a:off x="5064120" y="143028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овер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3" name="_s1038"/>
            <p:cNvSpPr/>
            <p:nvPr/>
          </p:nvSpPr>
          <p:spPr>
            <a:xfrm flipV="1">
              <a:off x="3957480" y="1776240"/>
              <a:ext cx="0" cy="6933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4" name="_s1039"/>
            <p:cNvSpPr/>
            <p:nvPr/>
          </p:nvSpPr>
          <p:spPr>
            <a:xfrm>
              <a:off x="3265560" y="39204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ступност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(понятность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5" name="_s1040"/>
            <p:cNvSpPr/>
            <p:nvPr/>
          </p:nvSpPr>
          <p:spPr>
            <a:xfrm>
              <a:off x="3265560" y="2469960"/>
              <a:ext cx="1384200" cy="1383840"/>
            </a:xfrm>
            <a:prstGeom prst="ellipse">
              <a:avLst/>
            </a:prstGeom>
            <a:solidFill>
              <a:srgbClr val="ebd2a5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Свойства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информации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ктуаль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сколько важна информация для решения проблемы в конкретной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висит от интервала времени, прошедшего с момента появления этой информации и от скорости изменения ситу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упность 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еобразование информации в понятную форм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стовер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тражение состояния реально существующего объекта, процесса или явле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олнота (достаточность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держание минимального, но достаточного для принятия правильного решения набора данны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Адекват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ответствие образа, созданного с помощью полученной информации (информационной модели), реальному объекту, процессу или явлен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Репрезентативность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авильность отбора и формирования  информации для адекватного отражения свойств объект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еобходимо поступление информации из различных источников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15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2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Представление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Тема 1: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Понятие об информации. 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8 класс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является основой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бывают  формы представления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код и кодирование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ие единицы измерения используются для определения объёма информ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кодируется в компьютере текстовая, числовая, графическая и звуковая информац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Формы представления информации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ковая письменная, состоящая из различных знаков, среди которых выделяют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имвольную -  в виде текста, чисел, специальных символов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Графическую (карты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Табличную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виде жестов или сигнал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ная словесна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Представление информации с помощью какого-либо языка часто называют </a:t>
            </a: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кодированием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2565000"/>
            <a:ext cx="73864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д – набор символов (условных обозначений) для представления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числ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компьютере числа представляются в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двоичной системе счисления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то есть посредством двух чисел – 0 и 1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позиционная система, то есть в ней «вес» цифры зависит от её места в числ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ждому символу клавиатуры поставлено в соответствие одно из значений кодовой таблицы в виде последовательности двоичных код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текстов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SCI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8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Unico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1 символ = 16 би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графической информации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Растров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совокупность точек, используемых для отображения изображения на экране  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Векторное изображение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-  графический объект, состоящий из графических примитивов</a:t>
            </a:r>
            <a:r>
              <a:rPr b="0" lang="ru-RU" sz="2800" spc="-1" strike="noStrike" u="sng">
                <a:solidFill>
                  <a:srgbClr val="2f1311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853f35"/>
                </a:solidFill>
                <a:uFillTx/>
                <a:latin typeface="Arial"/>
              </a:rPr>
              <a:t>Растровое изображение</a:t>
            </a: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  характеризуется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цвета( количество битов на кодирование одного цвета)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личеством возможных цвет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решением экрана(количеством точек-пикселей по вертикали и горизонтали экран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растрового изображения вычис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V=X*Y*I</a:t>
            </a:r>
            <a:r>
              <a:rPr b="0" lang="ru-RU" sz="40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– разрешение экра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 –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лубина кодиров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N=2^I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количество цвет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дирование зву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вук представляет собой непрерывный сигнал – звуковую волну с меняющейся амплитудой и частото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 кодировании непрерывный сигнал разбивается на равные по длительности интервалы времени –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дискрет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означает термин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 информация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виды информации существую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воспринимает информаци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ми свойствами обладает информац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Кодирование звука характеризуетс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астотой дискретизации                    ( количество измерений уровней сигнала за 1 секунду) – М(Гц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Глубиной кодирования звука(количество битов, отводимое на одно измерение уровня звукового сигнала)-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(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бит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Объём звукового файла определяется по формуле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V=M*I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4400" spc="-1" strike="noStrike">
                <a:solidFill>
                  <a:srgbClr val="2f1311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где  М – частота дискретизации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глубина кодирован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-  длительность звучания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2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14,16,17,18 на стр. 27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26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3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ая деятельность человека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 следует понимать информационный процесс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представляют собой информационные процессы в обществе, в живой природе, в техник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Что такое информационная технолог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акова роль персонального компьютера в информационной технологи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зучив эту тему, вы узнает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то любую информацию можно разделить на входную и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 человек преобразовывает входную информацию  в выходную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акие действия можно совершать с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С информацией можно совершать следующие действия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бор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бработк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едача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ранение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иск информац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щита информаци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j0302953"/>
          <p:cNvPicPr/>
          <p:nvPr/>
        </p:nvPicPr>
        <p:blipFill>
          <a:blip r:embed="rId1"/>
          <a:stretch/>
        </p:blipFill>
        <p:spPr>
          <a:xfrm>
            <a:off x="3059280" y="2349360"/>
            <a:ext cx="1973160" cy="276552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бработк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5797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ходная 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 которую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устройство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19280" y="1598760"/>
            <a:ext cx="2430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ходн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информац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(информация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то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олучается после обработки человеком или устройством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1908000" y="1844640"/>
            <a:ext cx="1440000" cy="504720"/>
          </a:xfrm>
          <a:prstGeom prst="line">
            <a:avLst/>
          </a:prstGeom>
          <a:ln w="9360">
            <a:solidFill>
              <a:srgbClr val="3d14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4427640" y="2060640"/>
            <a:ext cx="1152360" cy="216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1979640" y="1700280"/>
            <a:ext cx="1584360" cy="576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4643280" y="2133360"/>
            <a:ext cx="1081080" cy="21564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ередача информаци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95280" y="3141720"/>
            <a:ext cx="194472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сточн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3059280" y="3141720"/>
            <a:ext cx="1873080" cy="1224000"/>
          </a:xfrm>
          <a:prstGeom prst="ellipse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нал связ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883120" y="3331440"/>
            <a:ext cx="1463760" cy="9158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учател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1547640" y="4724280"/>
            <a:ext cx="2232360" cy="57636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4500720" y="4724280"/>
            <a:ext cx="2087280" cy="649440"/>
          </a:xfrm>
          <a:prstGeom prst="rect">
            <a:avLst/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екодирующее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устройств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AutoShape 14"/>
          <p:cNvSpPr/>
          <p:nvPr/>
        </p:nvSpPr>
        <p:spPr>
          <a:xfrm>
            <a:off x="1908000" y="4221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AutoShape 15"/>
          <p:cNvSpPr/>
          <p:nvPr/>
        </p:nvSpPr>
        <p:spPr>
          <a:xfrm>
            <a:off x="3203640" y="4221000"/>
            <a:ext cx="360360" cy="503280"/>
          </a:xfrm>
          <a:prstGeom prst="upArrow">
            <a:avLst>
              <a:gd name="adj1" fmla="val 50000"/>
              <a:gd name="adj2" fmla="val 34915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AutoShape 16"/>
          <p:cNvSpPr/>
          <p:nvPr/>
        </p:nvSpPr>
        <p:spPr>
          <a:xfrm>
            <a:off x="4643280" y="422100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AutoShape 17"/>
          <p:cNvSpPr/>
          <p:nvPr/>
        </p:nvSpPr>
        <p:spPr>
          <a:xfrm>
            <a:off x="5651640" y="4221000"/>
            <a:ext cx="215640" cy="503280"/>
          </a:xfrm>
          <a:prstGeom prst="upArrow">
            <a:avLst>
              <a:gd name="adj1" fmla="val 50000"/>
              <a:gd name="adj2" fmla="val 58347"/>
            </a:avLst>
          </a:prstGeom>
          <a:solidFill>
            <a:srgbClr val="ebd2a5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Хранение информации.</a:t>
            </a:r>
            <a:br>
              <a:rPr sz="3600"/>
            </a:b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ситель информации -  материальный объект, предназначенный для хранения и передачи информации в пространстве и времен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вая окружающий мир, человек имеет дело с </a:t>
            </a:r>
            <a:r>
              <a:rPr b="0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нформацией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на помогает челове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авильно оценить происходящие событи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инять обдуманное решение,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найти наиболее удачный вариант своих действи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Для защиты информации используют разные способы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Безопасность зданий, где храниться информация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онтроль доступа к секретной информации с помощью пароля, пропусков, биоидентификации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ублирование каналов связи и подключение резервных устройств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Криптографические преобразования информации с помощью шиф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 3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адания №6,17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 3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d1403"/>
                </a:solidFill>
                <a:latin typeface="Arial"/>
              </a:rPr>
              <a:t>Тема 4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:Информационные процессы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8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Процессы, связанные со сбором , хранением,  поиском, обработкой, кодированием и передачей информации, называют </a:t>
            </a:r>
            <a:r>
              <a:rPr b="1" i="1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информационными процессами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0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Основой информационных процессов в человеческом обществе является </a:t>
            </a:r>
            <a:r>
              <a:rPr b="0" lang="ru-RU" sz="4000" spc="-1" strike="noStrike" u="sng">
                <a:solidFill>
                  <a:srgbClr val="853f35"/>
                </a:solidFill>
                <a:uFillTx/>
                <a:latin typeface="Arial"/>
              </a:rPr>
              <a:t>коммуникация</a:t>
            </a: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 (общение друг с другом).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Коммуникационная среда - 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это совокупность условий обмена информацие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онные процессы могут протекать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живой природе (сезонные изменения, восприятие звуков, запахов, прикосновений животными и растениями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технике (реакция технических устройств на действия человек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вокупность действий для достижения поставленной ц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информационный процесс, в результате которого создаётся информационный проду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 истории человеческого общества выделяют несколько этапов развития информационной технолог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19240" y="227160"/>
          <a:ext cx="7476840" cy="6367320"/>
        </p:xfrm>
        <a:graphic>
          <a:graphicData uri="http://schemas.openxmlformats.org/drawingml/2006/table">
            <a:tbl>
              <a:tblPr/>
              <a:tblGrid>
                <a:gridCol w="465120"/>
                <a:gridCol w="1295280"/>
                <a:gridCol w="1728720"/>
                <a:gridCol w="1655640"/>
                <a:gridCol w="2332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Основные инструмент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2f1311"/>
                          </a:solidFill>
                          <a:uFillTx/>
                          <a:latin typeface="Arial"/>
                        </a:rPr>
                        <a:t>Главная цель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 второй половины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ручная» (почта, книгопечатание)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еро, чернильница, бумага.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нужной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конца 19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механ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ишущая машинка, телефон, телеграф, телевидение, радио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удобной для передачи  форме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0-60 годы 20 век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ическ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, магнитофоны, копи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 удобной для передачи и хранения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начала 7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электрон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Большие компьютеры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вершенствование форм представления информации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 середины 80-х годов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«компьютерная»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К и компьютерные сет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едставление информации в форме, удобной для хранения, поиска, обработки, передачи; развитие систем искусственного интеллекта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– это то, чем каждый из нас пополняет свой багаж знан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нформация позволяет человеку снизить уровень неопределённости знания о сути какого-то объекта: предмета, явления или процесс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рсональный компьютер  - основное техническое средство информационных технологий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опросы на стр.49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6760" y="2714760"/>
            <a:ext cx="6643800" cy="171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Информатика и ИКТ. Учебник . 8 – 9 класс/ Под ред. Проф. Н. В. Макаровой. - СПб.: Питер, 2009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Информация не существует сама по себе.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сегда имеется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, который её производи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</a:t>
            </a:r>
            <a:r>
              <a:rPr b="0" i="1" lang="ru-RU" sz="3200" spc="-1" strike="noStrike" u="sng">
                <a:solidFill>
                  <a:srgbClr val="2f1311"/>
                </a:solidFill>
                <a:uFillTx/>
                <a:latin typeface="Arial"/>
              </a:rPr>
              <a:t>приёмник,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который её воспринимае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89000"/>
            <a:ext cx="73864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иёмником или источником информации может быть любой объект материального мир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Человек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стройств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Животно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сте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о есть информация всегда предназначена конкретному объек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53f35"/>
                </a:solidFill>
                <a:latin typeface="Arial"/>
              </a:rPr>
              <a:t>Человек получает информацию из разных источников:</a:t>
            </a:r>
            <a:endParaRPr b="0" lang="en-US" sz="36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огда читае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лушает радио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трагивается до предмет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бует на вкус какую-нибудь еду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юхает цвет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3f35"/>
                </a:solidFill>
                <a:latin typeface="Arial"/>
              </a:rPr>
              <a:t>Информация бывает:</a:t>
            </a:r>
            <a:endParaRPr b="0" lang="en-US" sz="40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ауч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Художественн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Культурологической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И так дале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5:06:22Z</dcterms:created>
  <dc:creator>Слава</dc:creator>
  <dc:description/>
  <dc:language>en-US</dc:language>
  <cp:lastModifiedBy>Admin</cp:lastModifiedBy>
  <dcterms:modified xsi:type="dcterms:W3CDTF">2010-06-17T08:11:59Z</dcterms:modified>
  <cp:revision>7</cp:revision>
  <dc:subject/>
  <dc:title>Тема 1: Информация и   данные. Свойства информации.</dc:title>
</cp:coreProperties>
</file>