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A2F-000B-4D3D-AEB2-6BCF3FB1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CCE-BD6F-4EBE-8A3D-3A9024AB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978-00E2-4E6E-A5FF-D29C8AEC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588-5384-441B-B18E-2905EED4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9E02-67A3-49AA-B3D1-A0E8EE96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BC9F-2B5D-44AA-A50C-E7DAEDD1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DFDB-1F00-4FBC-B27D-0B28BC08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1E81-AF8D-4EA3-818D-49B9D2E2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F25B-D9FC-49B7-B1B1-CE600BC2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AB5C-3F7B-4484-A40A-77D78415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8BC5-1B5F-4700-A519-2497DFBA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E2A-92E3-4EA3-BB07-BCB1C5DE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D9D3-CA6C-4349-B67C-8A593509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7A68-CCF7-4911-90DF-F7C8AEE5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4CF3-C7CC-4D59-8E21-722BE9D5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8474-44E7-4E90-9612-5084E80C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2BD3-4F50-416F-837D-07B8ED0E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9F0-593D-49D7-903A-D1FAD24B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CD0-DE7B-4CF1-9AB4-3A2A8C6F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A81-B294-4B46-AA88-63CA1728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32A-2888-4118-9B98-51303DA3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DBA-D7B7-4259-B989-83B3B8D5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CA1-AB37-4969-916F-BE08F87C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D082-E0E6-40DB-B935-649D9217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E5F8-58B6-4B0E-9F2B-31F7B02F2E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8EB4-9CED-4057-8A14-4CB5ADCCECB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ая картина мир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втор: Рыженко Елена Владимировн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учитель информатики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МОУ « СОШ № 64»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г .Астрахан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010 г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ю можно измерять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386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ит – это количество информации, которую можно закодировать с помощью «0» или «1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айт = 8 б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Кбайт =1024 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Мбайт = 1024 К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Гбайт =1024 М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Тбайт = 1024 Г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Diagram 6"/>
          <p:cNvGrpSpPr/>
          <p:nvPr/>
        </p:nvGrpSpPr>
        <p:grpSpPr>
          <a:xfrm>
            <a:off x="1468440" y="392040"/>
            <a:ext cx="4979880" cy="5536800"/>
            <a:chOff x="1468440" y="392040"/>
            <a:chExt cx="4979880" cy="5536800"/>
          </a:xfrm>
        </p:grpSpPr>
        <p:sp>
          <p:nvSpPr>
            <p:cNvPr id="213" name="_s1028"/>
            <p:cNvSpPr/>
            <p:nvPr/>
          </p:nvSpPr>
          <p:spPr>
            <a:xfrm flipH="1" flipV="1">
              <a:off x="2757240" y="246852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29"/>
            <p:cNvSpPr/>
            <p:nvPr/>
          </p:nvSpPr>
          <p:spPr>
            <a:xfrm>
              <a:off x="1468440" y="143172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Полнота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1030"/>
            <p:cNvSpPr/>
            <p:nvPr/>
          </p:nvSpPr>
          <p:spPr>
            <a:xfrm flipH="1">
              <a:off x="2757240" y="350676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1031"/>
            <p:cNvSpPr/>
            <p:nvPr/>
          </p:nvSpPr>
          <p:spPr>
            <a:xfrm>
              <a:off x="146844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ктуальность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1032"/>
            <p:cNvSpPr/>
            <p:nvPr/>
          </p:nvSpPr>
          <p:spPr>
            <a:xfrm>
              <a:off x="3957480" y="3851280"/>
              <a:ext cx="0" cy="6948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1033"/>
            <p:cNvSpPr/>
            <p:nvPr/>
          </p:nvSpPr>
          <p:spPr>
            <a:xfrm>
              <a:off x="3265560" y="454500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Репрезентатив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56160" y="350676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5"/>
            <p:cNvSpPr/>
            <p:nvPr/>
          </p:nvSpPr>
          <p:spPr>
            <a:xfrm>
              <a:off x="506412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декват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1036"/>
            <p:cNvSpPr/>
            <p:nvPr/>
          </p:nvSpPr>
          <p:spPr>
            <a:xfrm flipV="1">
              <a:off x="4556160" y="246852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_s1037"/>
            <p:cNvSpPr/>
            <p:nvPr/>
          </p:nvSpPr>
          <p:spPr>
            <a:xfrm>
              <a:off x="5064120" y="143028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овер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_s1038"/>
            <p:cNvSpPr/>
            <p:nvPr/>
          </p:nvSpPr>
          <p:spPr>
            <a:xfrm flipV="1">
              <a:off x="3957480" y="1776240"/>
              <a:ext cx="0" cy="6933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1039"/>
            <p:cNvSpPr/>
            <p:nvPr/>
          </p:nvSpPr>
          <p:spPr>
            <a:xfrm>
              <a:off x="3265560" y="39204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уп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(понятность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" name="_s1040"/>
            <p:cNvSpPr/>
            <p:nvPr/>
          </p:nvSpPr>
          <p:spPr>
            <a:xfrm>
              <a:off x="3265560" y="24699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Свойства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информаци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ктуаль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сколько важна информация для решения проблемы в конкретной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висит от интервала времени, прошедшего с момента появления этой информации и от скорости изменения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упность 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образование информации в понятную форм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овер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ражение состояния реально существующего объекта, процесса или явл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олнота (достаточность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держание минимального, но достаточного для принятия правильного решения набора данны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декват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ответствие образа, созданного с помощью полученной информации (информационной модели), реальному объекту, процессу или явлен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Репрезентатив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вильность отбора и формирования  информации для адекватного отражения свойств объек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обходимо поступление информации из различных источни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1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2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Представление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Тема 1: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Понятие об информации. 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 клас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является основой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бывают  формы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код и кодирование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единицы измерения используются для определения объёма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кодируется в компьютере текстовая, числовая, графическая и звуковая информац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Формы представления информации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наковая письменная, состоящая из различных знаков, среди которых выделяют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имвольную -  в виде текста, чисел, специальных символ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рафическую (карты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бличну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виде жестов или сигна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ная словесн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Представление информации с помощью какого-либо языка часто называют </a:t>
            </a: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кодированием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2565000"/>
            <a:ext cx="7386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д – набор символов (условных обозначений) для представления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числ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омпьютере числа представляются в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двоичной системе счисления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то есть посредством двух чисел – 0 и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позиционная система, то есть в ней «вес» цифры зависит от её места в числ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ждому символу клавиатуры поставлено в соответствие одно из значений кодовой таблицы в виде последовательности двоичных код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CI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8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ico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16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графическ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Растров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совокупность точек, используемых для отображения изображения на экране  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Векторн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 графический объект, состоящий из графических примитивов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Растровое изображение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характеризуется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цвета( количество битов на кодирование одного цвета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личеством возможных цвет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решением экрана(количеством точек-пикселей по вертикали и горизонтали экран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растрового изображения вычис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V=X*Y*I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– разрешение экр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 –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бина кодиров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=2^I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количество цвет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дирование зву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вук представляет собой непрерывный сигнал – звуковую волну с меняющейся амплитудой и частот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 кодировании непрерывный сигнал разбивается на равные по длительности интервалы времени –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дискре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означает термин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 информация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виды информации существую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воспринимает информаци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ми свойствами обладает информац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звука характеризуетс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астотой дискретизации                    ( количество измерений уровней сигнала за 1 секунду) – М(Гц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кодирования звука(количество битов, отводимое на одно измерение уровня звукового сигнала)-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(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ит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звукового файла опреде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V=M*I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 М – частота дискретизаци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глубина кодирован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длительность звуч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2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14,16,17,18 на стр. 27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26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3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ая деятельность челове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следует понимать информационный процесс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представляют собой информационные процессы в обществе, в живой природе, в техник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информационная технолог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ова роль персонального компьютера в информационной технолог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любую информацию можно разделить на входную и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преобразовывает входную информацию  в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действия можно совершать с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С информацией можно совершать следующие действи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бор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бработк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едач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ранение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иск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щита информац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j0302953"/>
          <p:cNvPicPr/>
          <p:nvPr/>
        </p:nvPicPr>
        <p:blipFill>
          <a:blip r:embed="rId1"/>
          <a:stretch/>
        </p:blipFill>
        <p:spPr>
          <a:xfrm>
            <a:off x="3059280" y="2349360"/>
            <a:ext cx="1973160" cy="2765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бработк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5797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ходная 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 котору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л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стройств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19280" y="1598760"/>
            <a:ext cx="2430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ход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тор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ся после обработки человеком или устройством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1908000" y="1844640"/>
            <a:ext cx="1440000" cy="504720"/>
          </a:xfrm>
          <a:prstGeom prst="line">
            <a:avLst/>
          </a:prstGeom>
          <a:ln w="9360">
            <a:solidFill>
              <a:srgbClr val="3d14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 flipV="1">
            <a:off x="4427640" y="2060640"/>
            <a:ext cx="115236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1979640" y="1700280"/>
            <a:ext cx="1584360" cy="576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 flipV="1">
            <a:off x="4643280" y="2133360"/>
            <a:ext cx="108108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ередач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395280" y="3141720"/>
            <a:ext cx="194472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сточн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3059280" y="3141720"/>
            <a:ext cx="187308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нал связ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883120" y="3331440"/>
            <a:ext cx="1463760" cy="9158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лучател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1547640" y="4724280"/>
            <a:ext cx="2232360" cy="57636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4500720" y="4724280"/>
            <a:ext cx="2087280" cy="6494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AutoShape 14"/>
          <p:cNvSpPr/>
          <p:nvPr/>
        </p:nvSpPr>
        <p:spPr>
          <a:xfrm>
            <a:off x="1908000" y="422100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AutoShape 15"/>
          <p:cNvSpPr/>
          <p:nvPr/>
        </p:nvSpPr>
        <p:spPr>
          <a:xfrm>
            <a:off x="3203640" y="422100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AutoShape 16"/>
          <p:cNvSpPr/>
          <p:nvPr/>
        </p:nvSpPr>
        <p:spPr>
          <a:xfrm>
            <a:off x="4643280" y="422100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AutoShape 17"/>
          <p:cNvSpPr/>
          <p:nvPr/>
        </p:nvSpPr>
        <p:spPr>
          <a:xfrm>
            <a:off x="5651640" y="4221000"/>
            <a:ext cx="215640" cy="503280"/>
          </a:xfrm>
          <a:prstGeom prst="upArrow">
            <a:avLst>
              <a:gd name="adj1" fmla="val 50000"/>
              <a:gd name="adj2" fmla="val 58347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Хранение информации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оситель информации -  материальный объект, предназначенный для хранения и передачи информации в пространстве и време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знавая окружающий мир, человек имеет дело с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нформаци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на помогает человек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авильно оценить происходящие события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нять обдуманное решение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йти наиболее удачный вариант своих действи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Для защиты информации используют разные способы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зопасность зданий, где храниться информац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троль доступа к секретной информации с помощью пароля, пропусков, биоидентифик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ублирование каналов связи и подключение резервных устройст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риптографические преобразования информации с помощью шиф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3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6,17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4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ые процессы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роцессы, связанные со сбором , хранением,  поиском, обработкой, кодированием и передачей информации, называют </a:t>
            </a:r>
            <a:r>
              <a:rPr b="1" i="1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информационными процессам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сновой информационных процессов в человеческом обществе является </a:t>
            </a:r>
            <a:r>
              <a:rPr b="0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коммуникация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 (общение друг с другом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ммуникационная среда -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совокупность условий обмена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онные процессы могут протекать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живой природе (сезонные изменения, восприятие звуков, запахов, прикосновений животными и растениям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технике (реакция технических устройств на действия человек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вокупность действий для достижения поставленной ц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информационный процесс, в результате которого создаётся информационный проду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истории человеческого общества выделяют несколько этапов развития информационной технолог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19240" y="227160"/>
          <a:ext cx="7476840" cy="6367320"/>
        </p:xfrm>
        <a:graphic>
          <a:graphicData uri="http://schemas.openxmlformats.org/drawingml/2006/table">
            <a:tbl>
              <a:tblPr/>
              <a:tblGrid>
                <a:gridCol w="465120"/>
                <a:gridCol w="1295280"/>
                <a:gridCol w="1728720"/>
                <a:gridCol w="1655640"/>
                <a:gridCol w="2332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Основные инструмент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лавная цель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 второй половины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ручная» (почта, книгопечатание)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еро, чернильница, бумага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нужной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конца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механ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ишущая машинка, телефон, телеграф, телевидение, ради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удобной для передачи 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0-60 годы 20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, магнитофоны, копи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 удобной для передачи и хранени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начала 7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он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овершенствование форм представления информации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середины 8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компьютер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К и компьютерные се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, удобной для хранения, поиска, обработки, передачи; развитие систем искусственного интеллект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– это то, чем каждый из нас пополняет свой багаж знан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позволяет человеку снизить уровень неопределённости знания о сути какого-то объекта: предмета, явления или процесс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сональный компьютер  - основное техническое средство информационных технолог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4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4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6760" y="2714760"/>
            <a:ext cx="66438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нформатика и ИКТ. Учебник . 8 – 9 класс/ Под ред. Проф. Н. В. Макаровой. - СПб.: Питер, 2009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я не существует сама по себе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сегда имеется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который её производ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приёмник,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который её воспринима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89000"/>
            <a:ext cx="73864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ёмником или источником информации может быть любой объект материального мир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еловек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ройств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Животно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ст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о есть информация всегда предназначена конкретному объект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Человек получает информацию из разных источников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гда читае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лушает ради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трагивается до предмет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бует на вкус какую-нибудь ед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юхает цвето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я бывает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уч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удожествен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ультурологическ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так дале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5:06:22Z</dcterms:created>
  <dc:creator>Слава</dc:creator>
  <dc:description/>
  <dc:language>en-US</dc:language>
  <cp:lastModifiedBy>Admin</cp:lastModifiedBy>
  <dcterms:modified xsi:type="dcterms:W3CDTF">2010-06-17T08:11:59Z</dcterms:modified>
  <cp:revision>7</cp:revision>
  <dc:subject/>
  <dc:title>Тема 1: Информация и   данные. Свойства информации.</dc:title>
</cp:coreProperties>
</file>