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E1C3-F654-4750-866F-EF26759113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7BB6-2E11-4A8D-AE5E-1E80F38496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15CB-663A-4A25-A0D0-988E8024AC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2B0E-D513-4A0B-B2E0-A04435BC4A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3FB2-6FE4-4775-99AD-872E02D807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BB63-05B6-46AD-829F-6F38F82CAE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B08E-F88A-4F38-8B97-B7B9845B80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D5B4-DA91-4DE4-8BED-6F0C81D6D1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A156-3432-44A8-802F-4D30B4749B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D62E-56F9-4407-9600-FD53A72EE7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D6C2-46ED-4168-9A1C-6B2846186B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569D7-7700-4704-98E0-C7D74846A5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3E35-2077-42EC-95CA-CC9F5C8CEA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345C-7A52-4E08-959F-37E54DC900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39AE-2B71-4652-ACE6-22A6DEB670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B57B-FADF-48A4-8B73-3F4C141C24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569F-9FBE-4A19-B0D0-C7599FCC79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A77C-2853-47BB-B164-E40CC67E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9CD2-FE6C-43AA-89E9-7E3EBFDD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A8D0-1192-43CF-8EE6-8627111E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C08D-0B93-4981-B049-509F78A5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BA51-F108-4F48-BFE6-984EE8DC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4568-15E7-4360-9336-668D0F5F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49E4-E874-4837-8E24-A1945EA7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B323-15C7-459C-85E3-8AC10269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9C66-4245-4F4B-AC4C-3B6EE1C4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552A-8955-4CCB-A93C-DC044E81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C46D-8098-4996-85E5-D0170C0D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22DA-1486-495C-995B-EE4B5E10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FF79-5748-42B4-8178-8BD972A1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2923-27BA-4E7E-A031-72D530F8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A163-FFA4-47BA-A74A-367BE859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D0F7-B82D-499D-8049-CABB2751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5F87-E6EA-4101-8D21-D99D19E1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8BA5-C601-4668-A606-D25E8B74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3978-633F-46CE-8425-8872C836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0E74-3CB3-4D32-8A10-DAF88906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6419-620F-405B-9B17-76E0F2E8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E9D0-EC20-491C-A51C-B0A3896F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F2A3-70C4-4237-B5FC-1DAE0E20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9076-DFC6-4091-A006-1BF95F26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1BE4-912D-4E0F-8AA8-E186BC0965D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2C26-DEC4-4F82-A49F-673BEE40C9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Turbo Pascal</a:t>
            </a: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(базовые понятия)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Рыженко Елена Владимир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 СОШ № 64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Астрах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0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iv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-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ращает целую часть от деления, а дробная отбрасы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1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 4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div -5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d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яет остаток, полученный при выполнении целочисленного д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 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0 mod 5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mod 5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mod 5 = 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x(x,n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ьшает значение целочисленной переменной Х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по умолчан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c(x,n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ивает значение целочисленной переменной Х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по умолчан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rac(x)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яет дробную часть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ычисляет целую часть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andom(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диапазон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случайное число Х, удовлетворяющее условию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=X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иапаз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ыберите допустимые идентификаторы и объясните поч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G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er.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k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k_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ka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. Чему равно действ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 3 =                                  11 mod 5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div 3 =                                     10 mod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 div -5 =                                  22 mod 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div 5 =                                  31 mod 1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. Найдите результ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=10; dec(x,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=10; inc(x,3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(0.25*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(422.11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учить ле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программу +,-,* и / двух цел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7924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лфавит язы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76932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исные и строчные буквы латинского языка и знак подчёрки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сятичные и шестнадцатеричные циф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 симв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@,#,$,^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иль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ные симв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 := присв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&gt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авн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дентификато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(X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т из букв, цифр и знака подчёрк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е буквы не допуст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ются с буквы или знака подчёрк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различают прописные и строчны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 данных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пределяет множество значений, которые могут принимать объекты ( константы или переменные), а также совокупность операций, допустимых над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ы данных делятся н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лярные ( просты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ндартные – предлагаются разработчиками Т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ьзовательские – перечисляемые и интерваль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ированные ( составны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о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ссив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нож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й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2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тандартные типы данных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765000"/>
          <a:ext cx="7772400" cy="6166080"/>
        </p:xfrm>
        <a:graphic>
          <a:graphicData uri="http://schemas.openxmlformats.org/drawingml/2006/table">
            <a:tbl>
              <a:tblPr/>
              <a:tblGrid>
                <a:gridCol w="4017960"/>
                <a:gridCol w="2160720"/>
                <a:gridCol w="159372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аз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иапазон знач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амять, бай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Byte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байт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2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Shortint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ткий 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8) -  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Integer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2768)-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Word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сло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655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Longint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ный 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147483648)-2147483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Single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одинарной точ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Е-45 – 3,4Е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Real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Е-39 – 1,7Е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Double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двойной точ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Е-324 – 1,7Е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Extended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овышенной точн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Е-4932 – 1,1Е49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omp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слож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Е63+1)  - 2Е63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har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ы кодовой табл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Boolean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,  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руктура программы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Программы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ses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ИмяМодуля1,…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a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ИмяМетки1,…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мяКонст=ЗначКонст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Типа=ЗначТипа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Переменной:Тип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e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струкции основно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ераторы ввода/ вывод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l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l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й стро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создание пауз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и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перевод курсора на новую стро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андарт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71640" y="1600200"/>
          <a:ext cx="7715160" cy="4530600"/>
        </p:xfrm>
        <a:graphic>
          <a:graphicData uri="http://schemas.openxmlformats.org/drawingml/2006/table">
            <a:tbl>
              <a:tblPr/>
              <a:tblGrid>
                <a:gridCol w="3828960"/>
                <a:gridCol w="38862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bs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x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qr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^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qrt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ень из 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in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ин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rctan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танген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6:27:01Z</dcterms:created>
  <dc:creator>Admin</dc:creator>
  <dc:description/>
  <dc:language>en-US</dc:language>
  <cp:lastModifiedBy>Admin</cp:lastModifiedBy>
  <dcterms:modified xsi:type="dcterms:W3CDTF">2010-06-17T08:01:34Z</dcterms:modified>
  <cp:revision>10</cp:revision>
  <dc:subject/>
  <dc:title>Turbo Pascal</dc:title>
</cp:coreProperties>
</file>