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7698-FC00-4803-AC83-70626C8989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511D-C226-40F0-8F59-A3326FBC42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3B39-DA77-409B-B6F4-BE5316E2C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BBCD-604D-451D-AB91-04DBD235F3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C96D-DC15-4284-AECD-2E5624FCE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ACA3-ABD4-4D44-B834-CCEDEEBFB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C069-FDCB-4C90-B7E5-EFD422E2E1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2678-DFC6-4584-8B29-E1292510DE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BFDD9-D9D7-4146-9B22-F782BF4483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7443-EEC6-4A3D-ACC6-F8D4E8D4F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AEEC-D5DE-4BEE-81A6-0CB89050F1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72D-C02C-48F0-9AEF-C2106F1FC4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022B-9F2F-4D89-8F7E-1F9B60C433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3CCE-E2B3-4F78-8997-5A5BB61E1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2FB8-8DFA-438E-B885-2B9E86C7F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4E9-68C8-491B-AF0B-2613B4EEDA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4F6A-35D6-4C23-B706-136957F84E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1E3-7565-41DF-9805-ABCB3ED3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67B8-7867-4934-BFE4-A7B077A9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B42-EA4D-484B-B173-707850B4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C25F-3F2B-49B5-8259-9C88BFF89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B256-172E-487C-94A0-FA424C5AB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65AC-5846-4C22-8634-FD533033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807C-7677-40B7-996A-9D3BE911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B28B-825B-4336-848C-964413A8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766D-DCAA-4A20-97CB-9101EF3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FB19-34AF-457E-A403-19604F5B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E4BD-5FBC-4E2A-86D0-0E005098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05D6-3F7E-43DA-97F4-1C018623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3406-25D7-4AB9-8DB9-CCA952A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0948-97B0-4874-B0F3-CFCB3F57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3639-196F-460D-A5FF-AF35F9CF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0D2F-A82F-4A53-B3F7-6208605B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E676-EEAE-456C-ABA0-F3378775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08F3-6385-4705-BC69-CD6FB1D3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71D-CE92-4255-AB57-8E2F099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554-27A1-4BA1-8A1C-4FAEF64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1FF4-2459-4153-B887-95517D1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FA71-750A-4E19-BEF7-3E0EA0D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EF53-E819-420B-8BF4-34DBD54D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7A4-49A4-4775-8573-AE13A8D8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C971-278F-49FE-998C-29BDA25CA1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5208-BAA7-4515-AD03-219567A9E97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urbo Pascal</a:t>
            </a: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(базовые понятия)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Рыженко Елена Владимиро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 СОШ № 64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Астраха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10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iv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-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вращает целую часть от деления, а дробная отбрасыв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1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4 = 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-5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d 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 остаток, полученный при выполнении целочисленного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 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10 mod 5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 mod 5 =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mod 5 = -2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полнитель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x(x,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еньш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c(x,n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ивает значение целочисленной переменной Х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 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c(x)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яет дробн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t(x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яет целую часть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andom(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иапазон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лучайное число Х, удовлетворяющее условию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X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иапаз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ыберите допустимые идентификаторы и объясните почем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G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mer.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#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k_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ka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Чему равно действ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 3 =                                  11 mod 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div 3 =                                     10 mod 3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 div -5 =                                  22 mod 5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7 div 5 =                                  31 mod 16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ния 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. Найдите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dec(x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:=10; inc(x,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c(0.25*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(422.1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учить ле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программу +,-,* и / двух целых чис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лфавит язы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исные и строчные буквы латинского языка и знак подчёрк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сятичные и шестнадцатеричные циф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,#,$,^[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иль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ные симво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 := присво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&gt;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авно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дентификатор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X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т из букв, цифр 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е буквы не допусти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ются с буквы или знака подчёрк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азличают прописные и строч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 данных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пределяет множество значений, которые могут принимать объекты ( константы или переменные), а также совокупность операций, допустимых над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Типы данных делятся н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алярные ( прост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ндартные – предлагаются разработчиками 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ьзовательские – перечисляемые и интервальны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ированные ( составные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сс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нож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ндартные типы данных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765000"/>
          <a:ext cx="7772400" cy="6166080"/>
        </p:xfrm>
        <a:graphic>
          <a:graphicData uri="http://schemas.openxmlformats.org/drawingml/2006/table">
            <a:tbl>
              <a:tblPr/>
              <a:tblGrid>
                <a:gridCol w="4017960"/>
                <a:gridCol w="2160720"/>
                <a:gridCol w="1593720"/>
              </a:tblGrid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з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иапазон знач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амять, 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yte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байт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hort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8) -  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Intege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2768)-327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Wor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сло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- 65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Longint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й цел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147483648)-2147483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Sing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динар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Е-45 – 3,4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Real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ществен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Е-39 – 1,7Е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Double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двойной точность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Е-324 – 1,7Е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Extended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повышенной точ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Е-4932 – 1,1Е49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omp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сло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Е63+1)  - 2Е63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Char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 кодовой табл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Boolean</a:t>
                      </a:r>
                      <a:r>
                        <a:rPr b="0" lang="ru-RU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,  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программы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gr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рограммы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ses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ИмяМодуля1,…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ИмяМетки1,…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мяКонст=ЗначКонст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Типа=ЗначТипа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мяПеременной:Тип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e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нструкции основной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ператоры ввода/ вывод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adl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ritel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тай ст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создание пауз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ши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 перевод курсора на новую стро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андартные функции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71640" y="1600200"/>
          <a:ext cx="7715160" cy="45306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b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x 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^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qrt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ень из 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i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ину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rctan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ктанген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06:27:01Z</dcterms:created>
  <dc:creator>Admin</dc:creator>
  <dc:description/>
  <dc:language>en-US</dc:language>
  <cp:lastModifiedBy>Admin</cp:lastModifiedBy>
  <dcterms:modified xsi:type="dcterms:W3CDTF">2010-06-17T08:01:34Z</dcterms:modified>
  <cp:revision>10</cp:revision>
  <dc:subject/>
  <dc:title>Turbo Pascal</dc:title>
</cp:coreProperties>
</file>