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EAEE-1EC0-45BA-B257-0CA415FA66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9F85-9F51-4D4C-8B5C-903063972F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8FF1-EEAB-49AF-B8CD-461D4691BB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4505-C2E1-4D5D-A172-23FDF7BAA5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A6C6-16A2-4E6B-9169-7390867316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A507-3825-4AF5-A160-C6F60CF98F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AE11-C75D-4781-AB31-BC57FBFFF4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81BD-BAB7-44ED-974F-1A812BCB8A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745C-73FA-4B27-9B10-AE769B30E0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575F-B8A7-4F3C-A504-E2967FEA5F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9116-DBF6-4717-9E23-1687E1F0CE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6A2B-7A9B-4C21-B346-4DD949E3CE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60D4-1CD0-445C-9522-057C327766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76B9-643A-4F40-AA4C-C3C82C3BBD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DF89-ED04-4FD4-B901-B1EDAD4876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B92F-C0D5-4F92-95A4-3776764CDA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A127-2A22-400C-8F99-EF12AFCF85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8170-82F5-461E-92FA-282E9E59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FF2C-A6A5-4F58-8CDA-F3908D8F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BFBF-5E54-4B20-8C84-857C1A0C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662E-44B7-4385-A604-294F3D91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58D6-2569-46BF-B8C6-795E8CC8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EAD7-73CF-4BF5-867C-96188F68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956F-C2B7-47E8-B881-3AAB7E2E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2090-0EEC-4007-B443-CDF8B655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6C0B-E367-46EE-AD03-EE8E915D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272E-3E60-4141-9A64-EECD7889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EE11-50C2-4359-84D5-D722CB02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439E-8300-40A5-ACB7-2358EF50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BA2F-9114-4A83-806D-6549A27D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0720-394D-4134-B22F-AE61CC74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9FCA-470C-4A29-B91C-63B24EB0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8F3E-BCF0-45A9-A2E3-D7A85D87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6A28-1E1B-45F8-8E4B-2887ED4E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55FD-E7EB-4A3A-A3E1-D6BA4C55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F2DD-FDDE-4BEE-BC88-3114505A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8CC6-0D78-4A38-96CA-97ACBE35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8590-79A1-4495-8C47-6B231823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A16A-EA16-487E-AAFB-074C4652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3333-1FB7-4A21-ACFB-5254619C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1F6E-66BB-4F79-8A75-257A4381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30C2-5DED-4A93-A4D8-FC517BA4A43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C17B-86AE-4DF8-A8E4-92EED2F3B86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Turbo Pascal</a:t>
            </a: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(базовые понятия)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Рыженко Елена Владимир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 СОШ № 64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Астрах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0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iv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-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ращает целую часть от деления, а дробная отбрасы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1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 4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div -5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d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яет остаток, полученный при выполнении целочисленного д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 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0 mod 5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mod 5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mod 5 = 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x(x,n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ьшает значение целочисленной переменной Х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по умолчан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c(x,n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ивает значение целочисленной переменной Х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по умолчан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rac(x)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яет дробную часть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ычисляет целую часть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andom(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диапазон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случайное число Х, удовлетворяющее условию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=X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иапаз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ыберите допустимые идентификаторы и объясните поч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G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er.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k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k_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ka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. Чему равно действ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 3 =                                  11 mod 5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div 3 =                                     10 mod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 div -5 =                                  22 mod 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div 5 =                                  31 mod 1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. Найдите результ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=10; dec(x,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=10; inc(x,3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(0.25*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(422.11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учить ле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программу +,-,* и / двух цел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7924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лфавит язы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76932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исные и строчные буквы латинского языка и знак подчёрки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сятичные и шестнадцатеричные циф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 симв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@,#,$,^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иль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ные симв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 := присв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&gt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авн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дентификато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(X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т из букв, цифр и знака подчёрк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е буквы не допуст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ются с буквы или знака подчёрк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различают прописные и строчны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 данных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пределяет множество значений, которые могут принимать объекты ( константы или переменные), а также совокупность операций, допустимых над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ы данных делятся н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лярные ( просты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ндартные – предлагаются разработчиками Т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ьзовательские – перечисляемые и интерваль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ированные ( составны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о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ссив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нож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й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2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тандартные типы данных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765000"/>
          <a:ext cx="7772400" cy="6166080"/>
        </p:xfrm>
        <a:graphic>
          <a:graphicData uri="http://schemas.openxmlformats.org/drawingml/2006/table">
            <a:tbl>
              <a:tblPr/>
              <a:tblGrid>
                <a:gridCol w="4017960"/>
                <a:gridCol w="2160720"/>
                <a:gridCol w="159372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аз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иапазон знач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амять, бай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Byte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байт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2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Shortint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ткий 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8) -  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Integer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2768)-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Word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сло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655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Longint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ный 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147483648)-2147483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Single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одинарной точ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Е-45 – 3,4Е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Real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Е-39 – 1,7Е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Double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двойной точ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Е-324 – 1,7Е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Extended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овышенной точн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Е-4932 – 1,1Е49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omp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слож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Е63+1)  - 2Е63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har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ы кодовой табл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Boolean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,  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руктура программы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Программы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ses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ИмяМодуля1,…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a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ИмяМетки1,…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мяКонст=ЗначКонст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Типа=ЗначТипа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Переменной:Тип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e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струкции основно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ераторы ввода/ вывод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l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l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й стро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создание пауз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и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перевод курсора на новую стро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андарт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71640" y="1600200"/>
          <a:ext cx="7715160" cy="4530600"/>
        </p:xfrm>
        <a:graphic>
          <a:graphicData uri="http://schemas.openxmlformats.org/drawingml/2006/table">
            <a:tbl>
              <a:tblPr/>
              <a:tblGrid>
                <a:gridCol w="3828960"/>
                <a:gridCol w="38862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bs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x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qr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^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qrt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ень из 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in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ин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rctan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танген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6:27:01Z</dcterms:created>
  <dc:creator>Admin</dc:creator>
  <dc:description/>
  <dc:language>en-US</dc:language>
  <cp:lastModifiedBy>Admin</cp:lastModifiedBy>
  <dcterms:modified xsi:type="dcterms:W3CDTF">2010-06-17T08:01:34Z</dcterms:modified>
  <cp:revision>10</cp:revision>
  <dc:subject/>
  <dc:title>Turbo Pascal</dc:title>
</cp:coreProperties>
</file>