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DE3A-0A6C-4044-8CCC-3AB914D6DF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BA8B-8836-47E3-8BFD-3F2C8EB052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D69D-28E0-4607-861E-D860391884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ECEC-08C4-4098-B0FF-3DA31D54DE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32E0-B334-4917-9A62-2009904AB5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917A-A158-4B4A-A435-68703F186D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69F4-2C13-4229-BD9D-9C7F3C85D9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2062-F57D-43C5-87A8-374B9C859B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D9F3-AEF2-4550-BF0D-462BEC8E9E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46A1-3E55-489D-8031-9837C82B49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7FFD-744C-46F4-9F74-33EF03CE1F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3EAF-7BDC-48E7-9838-8B575F2ED6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F834-D571-40D2-AA8B-A19364F6FE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360F-60B3-48E0-82A0-A37693ED2A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E49D-FD42-4A5A-AB36-2D7451AB6C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4317-3AD7-4DA5-A5DA-F819129142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74A9-BE4D-4B61-A91E-B4C9A5A5D8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29A5-98E3-48A2-9B80-A8CFE5855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2ADD-FA1C-435A-9E03-8DD5D075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CA52-64A7-4353-B885-0C77785C8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AE40-141A-45B5-B5E6-0069158E3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9193-910E-4801-806A-F141E0293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EB51-CE86-4D53-83C2-2CB0F7C3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E667-F244-4A08-915E-BDD87F30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6774-131F-46E2-8000-774D2C0A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6AB6-2D57-458D-A91E-A9A3EE64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FE5E-7DA9-4D39-9DCD-D7C40089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34F3-BEFF-4707-9ED8-2515E1B3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C869-24CB-44FC-B8B7-8E44ED19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703B-0FA5-4805-85A6-60F61E83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07C8-AFD8-448A-890F-479C2B94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B18B-EDA5-44F2-8B2B-0B246B0F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CF4B-F18E-491A-B6F2-76F39B3EC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7E82-3A93-4C51-9B27-DADCC0868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CD12-F74D-4896-AD23-7AF56436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0907-4281-4C63-BD9A-92801E58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C11D-62A4-4FD0-BA01-06AAE448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742C-E994-4E73-9F49-87BCC408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9D28-25D3-4ED3-80C3-798FD7AB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FDBA-F729-487A-A92D-94CB8008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137E-F337-4992-80EE-7D9E063D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C0CA-D655-4985-93D8-C7E0103E769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0AAE-21F9-4E79-94A6-E385C166614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Turbo Pascal</a:t>
            </a: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(базовые понятия)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: Рыженко Елена Владимиро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 СОШ № 64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Астраха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10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полнитель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iv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-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вращает целую часть от деления, а дробная отбрасыв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1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 4 =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7 div -5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полнитель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od 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яет остаток, полученный при выполнении целочисленного де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 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10 mod 5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 mod 5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7 mod 5 = -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полнитель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x(x,n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ьшает значение целочисленной переменной Х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 по умолчани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c(x,n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личивает значение целочисленной переменной Х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 по умолчани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rac(x)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числяет дробную часть 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t(x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ычисляет целую часть 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andom(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диапазон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ращает случайное число Х, удовлетворяющее условию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=X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иапаз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ния 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.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ыберите допустимые идентификаторы и объясните поче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Gr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mer.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k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k_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ka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ния 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. Чему равно действ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 3 =                                  11 mod 5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div 3 =                                     10 mod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 div -5 =                                  22 mod 5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7 div 5 =                                  31 mod 16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ния 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. Найдите результ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:=10; dec(x,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:=10; inc(x,3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c(0.25*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(422.11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машнее задание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учить лек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ть программу +,-,* и / двух целых чи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259920"/>
            <a:ext cx="79246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лфавит язы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484280"/>
            <a:ext cx="76932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писные и строчные буквы латинского языка и знак подчёрки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сятичные и шестнадцатеричные циф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ьные симво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@,#,$,^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иль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ные симво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 := присв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&gt;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равно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дентификато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(X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т из букв, цифр и знака подчёрк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ские буквы не допусти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инаются с буквы или знака подчёрк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различают прописные и строчные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ип данных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пределяет множество значений, которые могут принимать объекты ( константы или переменные), а также совокупность операций, допустимых над н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ипы данных делятся н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алярные ( простые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ндартные – предлагаются разработчиками Т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ьзовательские – перечисляемые и интервальн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ированные ( составные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о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ссив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ноже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ис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ай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2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тандартные типы данных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14400" y="765000"/>
          <a:ext cx="7772400" cy="6166080"/>
        </p:xfrm>
        <a:graphic>
          <a:graphicData uri="http://schemas.openxmlformats.org/drawingml/2006/table">
            <a:tbl>
              <a:tblPr/>
              <a:tblGrid>
                <a:gridCol w="4017960"/>
                <a:gridCol w="2160720"/>
                <a:gridCol w="159372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Наз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Диапазон знач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амять, бай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Byte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байт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- 2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Shortint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откий ц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28) -  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Integer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32768)-327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Word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сло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- 655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Longint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ный ц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147483648)-2147483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Single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одинарной точность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Е-45 – 3,4Е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Real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е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Е-39 – 1,7Е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Double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двойной точность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Е-324 – 1,7Е3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Extended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повышенной точн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Е-4932 – 1,1Е49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Comp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слож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Е63+1)  - 2Е63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Char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ы кодовой табли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Boolean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,  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руктура программы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мяПрограммы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ses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ИмяМодуля1,…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a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ИмяМетки1,…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мяКонст=ЗначКонст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мяТипа=ЗначТипа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V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мяПеременной:Тип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e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нструкции основной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nd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ператоры ввода/ вывод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dl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itel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й стро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создание пауз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ши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перевод курсора на новую строк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андарт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71640" y="1600200"/>
          <a:ext cx="7715160" cy="4530600"/>
        </p:xfrm>
        <a:graphic>
          <a:graphicData uri="http://schemas.openxmlformats.org/drawingml/2006/table">
            <a:tbl>
              <a:tblPr/>
              <a:tblGrid>
                <a:gridCol w="3828960"/>
                <a:gridCol w="38862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bs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x 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qr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^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qrt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ень из 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in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син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rctan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ктанген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06:27:01Z</dcterms:created>
  <dc:creator>Admin</dc:creator>
  <dc:description/>
  <dc:language>en-US</dc:language>
  <cp:lastModifiedBy>Admin</cp:lastModifiedBy>
  <dcterms:modified xsi:type="dcterms:W3CDTF">2010-06-17T08:01:34Z</dcterms:modified>
  <cp:revision>10</cp:revision>
  <dc:subject/>
  <dc:title>Turbo Pascal</dc:title>
</cp:coreProperties>
</file>