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E4251-8494-48DC-A08F-CB4C7DC2561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A2D78-6C7D-423B-B0DE-39C3A32C71A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95502-5156-4DF7-95E2-2468232EDE9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26338-6D47-4BFD-8017-E243AAFA4C4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A5DCB-90A4-4608-95FE-8F0E31DCA7B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C21E8-F177-4005-9698-CECA345B41F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90C29-166C-41D9-AF8E-43662B031D0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B8F27-76A5-4399-816E-E29C4CF32A3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E06D3-563B-4DE9-9776-CF403A696C5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93ABD-B834-4AC2-8245-D4D1205D9F7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9B759-8853-42D5-BC34-A743145101F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DF086-3014-47B7-BFD9-6A5967FA135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77D41-9243-4F80-AAD7-C85F413D425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30043-56AF-44B6-8CB4-3DB960AE1DD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95002-5066-4C48-9961-95BCBEFDD04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63C18-1B52-4B01-9FC7-285417B82E3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11E49-EA0A-49C6-B640-72F6FEE909A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B276-EC31-4EB2-BF04-B0F390C9A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2020-4D2A-44C7-AF2F-A61D70F51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66B5-0A06-4490-9E1B-C8F5D88BB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0B6A-9431-48E3-8EC3-739C60A6A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081D4-2924-47AB-9D1B-2D39E210C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B983C-32CD-44B8-B54D-5A85B4543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6129C-8BBD-4602-9D09-4E0378D0A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F93B3-208E-44C3-9D98-70FFA50C5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1BC99-A830-43E0-B8EF-FB76073BE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D87DB-F141-47D2-9C56-9A9CB5097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B244E-4F2C-4DE2-96D8-8874503CC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3332-56CF-4891-BA8D-86678AF23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FBE1E-F155-4ABC-9E0D-F89CCE0AD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0D236-9657-4616-B97C-6EF02C181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EB9A3-1C05-49F3-8BF9-3983E3CC3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E1280-8670-401B-AC5E-1246364C2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F92A8-345C-428B-B4B0-FE1C67BC4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95AB-AD51-46E4-AFD3-6F17E29D6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E70A-990E-41AE-895E-5A749D887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D89F-FAD6-4486-BC76-1243C42A1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A7DC-67A8-4811-B3E8-AA1CA0D56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1DCE-7860-4D9E-A82C-EFA761B08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A688-983E-4C6D-AAEF-E4F5BF473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69B9-8839-48F7-8445-603A543EA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84E5D-E8E3-47C7-8E36-045EF3465FD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67683-391C-4575-A2EC-5724063DEE5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Turbo Pascal</a:t>
            </a:r>
            <a:r>
              <a:rPr b="0" lang="ru-RU" sz="4800" spc="-1" strike="noStrike">
                <a:solidFill>
                  <a:srgbClr val="330033"/>
                </a:solidFill>
                <a:latin typeface="Times New Roman"/>
              </a:rPr>
              <a:t> </a:t>
            </a:r>
            <a:br>
              <a:rPr sz="4800"/>
            </a:br>
            <a:r>
              <a:rPr b="0" lang="ru-RU" sz="4800" spc="-1" strike="noStrike">
                <a:solidFill>
                  <a:srgbClr val="330033"/>
                </a:solidFill>
                <a:latin typeface="Times New Roman"/>
              </a:rPr>
              <a:t>(базовые понятия)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втор: Рыженко Елена Владимировн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итель информат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У « СОШ № 64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. Астраха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010 го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Дополнительные функции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Div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-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звращает целую часть от деления, а дробная отбрасывае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Например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11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23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 4 = 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17 div -5 =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Дополнительные функции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Mod –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числяет остаток, полученный при выполнении целочисленного дел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Например 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10 mod 5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 mod 5 =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17 mod 5 = -2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Дополнительные функции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Dex(x,n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меньшает значение целочисленной переменной Х н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 по умолчанию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=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Inc(x,n)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величивает значение целочисленной переменной Х н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 по умолчанию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=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rac(x)</a:t>
            </a: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числяет дробную часть 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Int(x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вычисляет целую часть 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Random(</a:t>
            </a: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диапазон)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звращает случайное число Х, удовлетворяющее условию 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&lt;=X&l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диапаз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Задания 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. 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Выберите допустимые идентификаторы и объясните почем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DGra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mer.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ok#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ok_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ka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Задания 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. Чему равно действ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 3 =                                  11 mod 5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div 3 =                                     10 mod 3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7 div -5 =                                  22 mod 5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17 div 5 =                                  31 mod 16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Задания 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. Найдите результа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:=10; dec(x,2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:=10; inc(x,3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ac(0.25*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(422.11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Домашнее задание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учить лекц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ставить программу +,-,* и / двух целых чисе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1760" y="259920"/>
            <a:ext cx="792468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Алфавит язык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1484280"/>
            <a:ext cx="769320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писные и строчные буквы латинского языка и знак подчёркива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сятичные и шестнадцатеричные цифр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ециальные символ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например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@,#,$,^[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тильд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ставные символ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например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 := присво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&gt;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равно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Идентификаторы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андарт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например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(X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ьзовате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тоят из букв, цифр и знака подчёрки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усские буквы не допусти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чинаются с буквы или знака подчёрки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различают прописные и строчные букв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Тип данных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Определяет множество значений, которые могут принимать объекты ( константы или переменные), а также совокупность операций, допустимых над ни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Типы данных делятся н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калярные ( простые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тандартные – предлагаются разработчиками ТР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льзовательские – перечисляемые и интервальны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уктурированные ( составные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трок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ассив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ножеств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пис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файл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27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Стандартные типы данных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914400" y="765000"/>
          <a:ext cx="7772400" cy="6166080"/>
        </p:xfrm>
        <a:graphic>
          <a:graphicData uri="http://schemas.openxmlformats.org/drawingml/2006/table">
            <a:tbl>
              <a:tblPr/>
              <a:tblGrid>
                <a:gridCol w="4017960"/>
                <a:gridCol w="2160720"/>
                <a:gridCol w="1593720"/>
              </a:tblGrid>
              <a:tr h="36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Назван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Диапазон значе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Память, бай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Byte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байтов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- 2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Shortint</a:t>
                      </a:r>
                      <a:r>
                        <a:rPr b="0" lang="ru-RU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           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роткий цел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128) -  1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Integer</a:t>
                      </a:r>
                      <a:r>
                        <a:rPr b="0" lang="ru-RU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                         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л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32768)-327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Word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 слов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- 655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Longint</a:t>
                      </a:r>
                      <a:r>
                        <a:rPr b="0" lang="ru-RU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            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линный цел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2147483648)-21474836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Single</a:t>
                      </a:r>
                      <a:r>
                        <a:rPr b="0" lang="ru-RU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   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 одинарной точность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5Е-45 – 3,4Е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Real</a:t>
                      </a:r>
                      <a:r>
                        <a:rPr b="0" lang="ru-RU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                 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ществен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9Е-39 – 1,7Е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Double</a:t>
                      </a:r>
                      <a:r>
                        <a:rPr b="0" lang="ru-RU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    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 двойной точность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0Е-324 – 1,7Е3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Extended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 повышенной точно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4Е-4932 – 1,1Е49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Comp</a:t>
                      </a:r>
                      <a:r>
                        <a:rPr b="0" lang="ru-RU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 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слож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2Е63+1)  - 2Е63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Char</a:t>
                      </a:r>
                      <a:r>
                        <a:rPr b="0" lang="ru-RU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                    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мволь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мволы кодовой таблиц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Boolean</a:t>
                      </a:r>
                      <a:r>
                        <a:rPr b="0" lang="ru-RU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                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огиче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ue,  fal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Структура программы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rogr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ИмяПрограммы</a:t>
            </a: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Uses</a:t>
            </a:r>
            <a:r>
              <a:rPr b="0" i="1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  ИмяМодуля1,…</a:t>
            </a: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Label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ИмяМетки1,…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ИмяКонст=ЗначКонст</a:t>
            </a: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yp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ИмяТипа=ЗначТипа</a:t>
            </a: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Va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ИмяПеременной:Тип</a:t>
            </a: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Beg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инструкции основной програм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nd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Операторы ввода/ вывода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ead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eadl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Wri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Writel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ита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итай строк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 создание пауз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иш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иши стро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 перевод курсора на новую строку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Стандартные функции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971640" y="1600200"/>
          <a:ext cx="7715160" cy="4530600"/>
        </p:xfrm>
        <a:graphic>
          <a:graphicData uri="http://schemas.openxmlformats.org/drawingml/2006/table">
            <a:tbl>
              <a:tblPr/>
              <a:tblGrid>
                <a:gridCol w="3828960"/>
                <a:gridCol w="388620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Abs(x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x 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Sqr(x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^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Sqrt(x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рень из 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p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Sin(x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ну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Cos(x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сину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Arctan(x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рктанген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2T06:27:01Z</dcterms:created>
  <dc:creator>Admin</dc:creator>
  <dc:description/>
  <dc:language>en-US</dc:language>
  <cp:lastModifiedBy>Admin</cp:lastModifiedBy>
  <dcterms:modified xsi:type="dcterms:W3CDTF">2010-06-17T08:01:34Z</dcterms:modified>
  <cp:revision>10</cp:revision>
  <dc:subject/>
  <dc:title>Turbo Pascal</dc:title>
</cp:coreProperties>
</file>