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gif" ContentType="image/gif"/>
  <Override PartName="/ppt/media/image9.wmf" ContentType="image/x-wmf"/>
  <Override PartName="/ppt/media/image11.gif" ContentType="image/gi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BD2-E25E-43F6-BD40-CF871158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B024-939F-47E8-BD9E-C20E1078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7DCA-404A-487F-AF70-F04A29A84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A343-3E22-4E63-A965-1C1E2463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C107-E37B-4E06-ADCF-E79379A2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CD3A-5323-4F47-ADF2-45B2351D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7649-6D2B-4F3E-98B4-ACA882E3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DB9F-88F0-49E7-9FBD-580BC053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E373-621B-42D5-9F4F-D110F661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95C1-4A7D-424D-A986-08ED57CA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D034-17DE-4EE1-A2DD-ADB75080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8E7D-74BB-4AAC-A70C-8851A273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F1CE-8AB5-49A1-AEA8-C9C31D49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0305-3305-415D-860C-DE2B5AFA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2F83-A54C-44C0-A382-D697265C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1E2F-547A-4007-A88F-3111F31D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0B0C-0F56-49E5-ABF0-6C0C84C3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B59D-1102-41D2-AF2C-34CD6EDB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3E7-C322-4417-9819-F4FCC83E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C635-DD45-46D7-88E4-9D2B2CAD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6204-51B5-46E5-B5BE-60795097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B743-F820-4B4F-8C48-5DBC9538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0C7F-A704-47EF-BC30-5B10195A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408C-6480-4682-BD66-724E1414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42B2-4F3A-4428-A8EA-536222271B5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6E5B-3AFC-483B-95D0-2A75232B768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4500720" y="564372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оржиева Г.Ю., учитель информат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У «Барагханская СОШ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то вы понимаете под словом «МОДЕЛЬ»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AG00004_"/>
          <p:cNvPicPr/>
          <p:nvPr/>
        </p:nvPicPr>
        <p:blipFill>
          <a:blip r:embed="rId1"/>
          <a:stretch/>
        </p:blipFill>
        <p:spPr>
          <a:xfrm>
            <a:off x="4932360" y="2565360"/>
            <a:ext cx="2376360" cy="229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AG00052_"/>
          <p:cNvPicPr/>
          <p:nvPr/>
        </p:nvPicPr>
        <p:blipFill>
          <a:blip r:embed="rId2"/>
          <a:stretch/>
        </p:blipFill>
        <p:spPr>
          <a:xfrm>
            <a:off x="1187280" y="2565360"/>
            <a:ext cx="288000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J0172067"/>
          <p:cNvPicPr/>
          <p:nvPr/>
        </p:nvPicPr>
        <p:blipFill>
          <a:blip r:embed="rId3"/>
          <a:stretch/>
        </p:blipFill>
        <p:spPr>
          <a:xfrm>
            <a:off x="755640" y="4581360"/>
            <a:ext cx="4897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знать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ение понятия «модель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бывают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моделиров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цель, объект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Научитьс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различать моде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упрощенное подобие реального объект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дель отражает лишь некоторые свойства объекта, существенные для достижения цели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BL00122_"/>
          <p:cNvPicPr/>
          <p:nvPr/>
        </p:nvPicPr>
        <p:blipFill>
          <a:blip r:embed="rId1"/>
          <a:stretch/>
        </p:blipFill>
        <p:spPr>
          <a:xfrm>
            <a:off x="5651640" y="4292640"/>
            <a:ext cx="2563560" cy="223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0335112"/>
          <p:cNvPicPr/>
          <p:nvPr/>
        </p:nvPicPr>
        <p:blipFill>
          <a:blip r:embed="rId2"/>
          <a:stretch/>
        </p:blipFill>
        <p:spPr>
          <a:xfrm>
            <a:off x="971640" y="4581360"/>
            <a:ext cx="1650960" cy="16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ятельность человека по созданию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4" descr="AG00011_"/>
          <p:cNvPicPr/>
          <p:nvPr/>
        </p:nvPicPr>
        <p:blipFill>
          <a:blip r:embed="rId1"/>
          <a:stretch/>
        </p:blipFill>
        <p:spPr>
          <a:xfrm>
            <a:off x="611280" y="3716280"/>
            <a:ext cx="1912680" cy="216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BD00146_"/>
          <p:cNvPicPr/>
          <p:nvPr/>
        </p:nvPicPr>
        <p:blipFill>
          <a:blip r:embed="rId2"/>
          <a:stretch/>
        </p:blipFill>
        <p:spPr>
          <a:xfrm>
            <a:off x="3924360" y="3141720"/>
            <a:ext cx="1817640" cy="17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H00669_"/>
          <p:cNvPicPr/>
          <p:nvPr/>
        </p:nvPicPr>
        <p:blipFill>
          <a:blip r:embed="rId3"/>
          <a:stretch/>
        </p:blipFill>
        <p:spPr>
          <a:xfrm>
            <a:off x="6443640" y="4149720"/>
            <a:ext cx="18813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войства моделей зависят от цели моделиров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373392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Натурные модел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физическое подобие объе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Информационные модели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писание объекта в определенной фор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378936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риальный объек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556000" y="4221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вление природ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24360" y="44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цесс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H="1">
            <a:off x="2700360" y="3357720"/>
            <a:ext cx="2519280" cy="647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3634920" y="3357720"/>
            <a:ext cx="1513080" cy="93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4858920" y="3429000"/>
            <a:ext cx="289080" cy="107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13" descr="NA01682_"/>
          <p:cNvPicPr/>
          <p:nvPr/>
        </p:nvPicPr>
        <p:blipFill>
          <a:blip r:embed="rId1"/>
          <a:stretch/>
        </p:blipFill>
        <p:spPr>
          <a:xfrm>
            <a:off x="1547640" y="4869000"/>
            <a:ext cx="1511640" cy="12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00790_"/>
          <p:cNvPicPr/>
          <p:nvPr/>
        </p:nvPicPr>
        <p:blipFill>
          <a:blip r:embed="rId2"/>
          <a:stretch/>
        </p:blipFill>
        <p:spPr>
          <a:xfrm>
            <a:off x="3635280" y="4797360"/>
            <a:ext cx="1579680" cy="1646280"/>
          </a:xfrm>
          <a:prstGeom prst="rect">
            <a:avLst/>
          </a:prstGeom>
          <a:ln w="0">
            <a:noFill/>
          </a:ln>
        </p:spPr>
      </p:pic>
      <p:sp>
        <p:nvSpPr>
          <p:cNvPr id="123" name="Line 15"/>
          <p:cNvSpPr/>
          <p:nvPr/>
        </p:nvSpPr>
        <p:spPr>
          <a:xfrm>
            <a:off x="6227640" y="3860640"/>
            <a:ext cx="0" cy="2232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6227640" y="407664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6804000" y="393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ербаль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6227640" y="4724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6804000" y="45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раф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6227640" y="5372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804000" y="522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блич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6227640" y="609300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04000" y="580536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мат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=cos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4" descr="AG00174_"/>
          <p:cNvPicPr/>
          <p:nvPr/>
        </p:nvPicPr>
        <p:blipFill>
          <a:blip r:embed="rId3"/>
          <a:stretch/>
        </p:blipFill>
        <p:spPr>
          <a:xfrm>
            <a:off x="755640" y="436572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математические формул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уравнения химических реакций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манекен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компьютерная пр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) программа телевидения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) авиамодель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) оглавление книги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) игрушечные час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) эталон кил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) блок-схема алгоритма. (2 балл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112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042920" y="90792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пределите, какие из следующих моделей являются информационными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48720" y="514080"/>
            <a:ext cx="7990200" cy="15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5040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декорационного оформления театральной постановк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книги или журнал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лобу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ографический атла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дель (макет) строения молекулы воды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равнение химической реакции, например,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2 + 2NaOH = Na2CO3 + H2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неалогическое (родословное) дерево семьи Пушкиных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скелета человек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ормула определения площади квадрата со стороной h: S = h2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списание движения поез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грушечная модель паровоз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рафик зависимости высоты тела, брошенного под углом к горизонту, от времени полет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главление книг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508720" y="2361960"/>
            <a:ext cx="3456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редставления (репрезентации) материальных предме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объяснения известных фак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построения гипотез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получения новых знаний об исследуемых объектах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) прогнозирования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) управления. (3 балл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39640" y="333360"/>
            <a:ext cx="8353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ны следующие мод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ерите из предложенных моделей или придумайте сами примеры, когда модели объектов реальной действительности используются для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9:27:51Z</dcterms:created>
  <dc:creator>Пользователь</dc:creator>
  <dc:description/>
  <dc:language>en-US</dc:language>
  <cp:lastModifiedBy>Your User Name</cp:lastModifiedBy>
  <dcterms:modified xsi:type="dcterms:W3CDTF">2010-05-26T07:10:47Z</dcterms:modified>
  <cp:revision>4</cp:revision>
  <dc:subject/>
  <dc:title>Моделирование </dc:title>
</cp:coreProperties>
</file>