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gif" ContentType="image/gif"/>
  <Override PartName="/ppt/media/image5.wmf" ContentType="image/x-wmf"/>
  <Override PartName="/ppt/media/image10.wmf" ContentType="image/x-wmf"/>
  <Override PartName="/ppt/media/image3.wmf" ContentType="image/x-wmf"/>
  <Override PartName="/ppt/media/image6.gif" ContentType="image/gif"/>
  <Override PartName="/ppt/media/image9.wmf" ContentType="image/x-wmf"/>
  <Override PartName="/ppt/media/image11.gif" ContentType="image/gi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3DEB-4451-494A-A0FC-C5E79B908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B9E1-508F-42C8-B25D-004758A99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056AF-56BF-4829-A178-8E9D2B44E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5A95-13EC-4C69-9E53-0475CAB86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19D7A-9032-4D38-AE81-08F9E4BD0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B70EE-102E-46FF-AFBA-A0D17B2DB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85485-1004-4657-A3D1-180A48B1C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F5914-F65C-440A-932D-4BFFD5F96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A4942-4A5B-494D-8872-6F6827380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8BC67-3E7F-488F-90D1-C0FB68D31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557BE-B6DB-4787-B2E3-DAEFC355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43BB-B024-4921-B0E8-E9E859505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7ADD1-228A-45AC-ACAA-9B68AA42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DB19B-A45E-4103-831F-DE4DFDF4A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9B8DB-AE8D-4401-A2D3-6FCBDB492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5F946-59EB-4057-A64E-B2678AEFD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D133C-4600-4F66-8111-5664FD01E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7EC5-5FED-42D0-8D46-5614E8B38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775C-8918-4B69-A6BF-C1F42F140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D61B-699B-45FC-8815-49CB5B914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F05F-73E7-459D-97A1-9A85D6E7D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C3130-4152-4F29-8921-B88A17DD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6474-5963-4B5E-AD3E-E7A12593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57EE-302E-4F83-9B65-FEA74F280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B53C1-B4B1-4B58-BDC0-C83D4BAC89AA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1F255-C343-4276-B530-54ABFC5DF277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Моделирование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4500720" y="5643720"/>
            <a:ext cx="414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Доржиева Г.Ю., учитель информатик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МОУ «Барагханская СОШ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Что вы понимаете под словом «МОДЕЛЬ»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AG00004_"/>
          <p:cNvPicPr/>
          <p:nvPr/>
        </p:nvPicPr>
        <p:blipFill>
          <a:blip r:embed="rId1"/>
          <a:stretch/>
        </p:blipFill>
        <p:spPr>
          <a:xfrm>
            <a:off x="4932360" y="2565360"/>
            <a:ext cx="2376360" cy="2292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AG00052_"/>
          <p:cNvPicPr/>
          <p:nvPr/>
        </p:nvPicPr>
        <p:blipFill>
          <a:blip r:embed="rId2"/>
          <a:stretch/>
        </p:blipFill>
        <p:spPr>
          <a:xfrm>
            <a:off x="1187280" y="2565360"/>
            <a:ext cx="2880000" cy="1800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J0172067"/>
          <p:cNvPicPr/>
          <p:nvPr/>
        </p:nvPicPr>
        <p:blipFill>
          <a:blip r:embed="rId3"/>
          <a:stretch/>
        </p:blipFill>
        <p:spPr>
          <a:xfrm>
            <a:off x="755640" y="4581360"/>
            <a:ext cx="489744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Цели уро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Узнать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пределение понятия «модель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акие бывают модел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то такое моделирован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то такое цель, объект моделирова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Научиться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различать модел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ОДЕЛЬ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упрощенное подобие реального объекта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одель отражает лишь некоторые свойства объекта, существенные для достижения цели моделирова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Picture 4" descr="BL00122_"/>
          <p:cNvPicPr/>
          <p:nvPr/>
        </p:nvPicPr>
        <p:blipFill>
          <a:blip r:embed="rId1"/>
          <a:stretch/>
        </p:blipFill>
        <p:spPr>
          <a:xfrm>
            <a:off x="5651640" y="4292640"/>
            <a:ext cx="2563560" cy="2236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j0335112"/>
          <p:cNvPicPr/>
          <p:nvPr/>
        </p:nvPicPr>
        <p:blipFill>
          <a:blip r:embed="rId2"/>
          <a:stretch/>
        </p:blipFill>
        <p:spPr>
          <a:xfrm>
            <a:off x="971640" y="4581360"/>
            <a:ext cx="1650960" cy="16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оделирование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4640" cy="113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еятельность человека по созданию модел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Picture 4" descr="AG00011_"/>
          <p:cNvPicPr/>
          <p:nvPr/>
        </p:nvPicPr>
        <p:blipFill>
          <a:blip r:embed="rId1"/>
          <a:stretch/>
        </p:blipFill>
        <p:spPr>
          <a:xfrm>
            <a:off x="611280" y="3716280"/>
            <a:ext cx="1912680" cy="2160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BD00146_"/>
          <p:cNvPicPr/>
          <p:nvPr/>
        </p:nvPicPr>
        <p:blipFill>
          <a:blip r:embed="rId2"/>
          <a:stretch/>
        </p:blipFill>
        <p:spPr>
          <a:xfrm>
            <a:off x="3924360" y="3141720"/>
            <a:ext cx="1817640" cy="1795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HH00669_"/>
          <p:cNvPicPr/>
          <p:nvPr/>
        </p:nvPicPr>
        <p:blipFill>
          <a:blip r:embed="rId3"/>
          <a:stretch/>
        </p:blipFill>
        <p:spPr>
          <a:xfrm>
            <a:off x="6443640" y="4149720"/>
            <a:ext cx="188136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войства моделей зависят от цели моделирова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3733920" cy="121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Натурные модели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физическое подобие объект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760640" y="2362320"/>
            <a:ext cx="377028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Информационные модели –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писание объекта в определенной форм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826920" y="3789360"/>
            <a:ext cx="180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атериальный объек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2556000" y="422100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Явление природ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3924360" y="4437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оцесс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Line 9"/>
          <p:cNvSpPr/>
          <p:nvPr/>
        </p:nvSpPr>
        <p:spPr>
          <a:xfrm flipH="1">
            <a:off x="2700360" y="3357720"/>
            <a:ext cx="2519280" cy="647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Line 10"/>
          <p:cNvSpPr/>
          <p:nvPr/>
        </p:nvSpPr>
        <p:spPr>
          <a:xfrm flipH="1">
            <a:off x="3634920" y="3357720"/>
            <a:ext cx="1513080" cy="934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Line 11"/>
          <p:cNvSpPr/>
          <p:nvPr/>
        </p:nvSpPr>
        <p:spPr>
          <a:xfrm flipH="1">
            <a:off x="4858920" y="3429000"/>
            <a:ext cx="289080" cy="1079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Picture 13" descr="NA01682_"/>
          <p:cNvPicPr/>
          <p:nvPr/>
        </p:nvPicPr>
        <p:blipFill>
          <a:blip r:embed="rId1"/>
          <a:stretch/>
        </p:blipFill>
        <p:spPr>
          <a:xfrm>
            <a:off x="1547640" y="4869000"/>
            <a:ext cx="1511640" cy="1265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AN00790_"/>
          <p:cNvPicPr/>
          <p:nvPr/>
        </p:nvPicPr>
        <p:blipFill>
          <a:blip r:embed="rId2"/>
          <a:stretch/>
        </p:blipFill>
        <p:spPr>
          <a:xfrm>
            <a:off x="3635280" y="4797360"/>
            <a:ext cx="1579680" cy="1646280"/>
          </a:xfrm>
          <a:prstGeom prst="rect">
            <a:avLst/>
          </a:prstGeom>
          <a:ln w="0">
            <a:noFill/>
          </a:ln>
        </p:spPr>
      </p:pic>
      <p:sp>
        <p:nvSpPr>
          <p:cNvPr id="123" name="Line 15"/>
          <p:cNvSpPr/>
          <p:nvPr/>
        </p:nvSpPr>
        <p:spPr>
          <a:xfrm>
            <a:off x="6227640" y="3860640"/>
            <a:ext cx="0" cy="2232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Line 16"/>
          <p:cNvSpPr/>
          <p:nvPr/>
        </p:nvSpPr>
        <p:spPr>
          <a:xfrm>
            <a:off x="6227640" y="407664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Text Box 17"/>
          <p:cNvSpPr/>
          <p:nvPr/>
        </p:nvSpPr>
        <p:spPr>
          <a:xfrm>
            <a:off x="6804000" y="3933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ербальны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Line 18"/>
          <p:cNvSpPr/>
          <p:nvPr/>
        </p:nvSpPr>
        <p:spPr>
          <a:xfrm>
            <a:off x="6227640" y="472428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6804000" y="458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рафическ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Line 20"/>
          <p:cNvSpPr/>
          <p:nvPr/>
        </p:nvSpPr>
        <p:spPr>
          <a:xfrm>
            <a:off x="6227640" y="537228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Text Box 21"/>
          <p:cNvSpPr/>
          <p:nvPr/>
        </p:nvSpPr>
        <p:spPr>
          <a:xfrm>
            <a:off x="6804000" y="5229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табличны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Line 22"/>
          <p:cNvSpPr/>
          <p:nvPr/>
        </p:nvSpPr>
        <p:spPr>
          <a:xfrm>
            <a:off x="6227640" y="609300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Text Box 23"/>
          <p:cNvSpPr/>
          <p:nvPr/>
        </p:nvSpPr>
        <p:spPr>
          <a:xfrm>
            <a:off x="6804000" y="5805360"/>
            <a:ext cx="201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атематическ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Y=cos(x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24" descr="AG00174_"/>
          <p:cNvPicPr/>
          <p:nvPr/>
        </p:nvPicPr>
        <p:blipFill>
          <a:blip r:embed="rId3"/>
          <a:stretch/>
        </p:blipFill>
        <p:spPr>
          <a:xfrm>
            <a:off x="755640" y="4365720"/>
            <a:ext cx="93492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) математические формулы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) уравнения химических реакций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) манекен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) компьютерная программа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) программа телевидения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е) авиамодель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ж) оглавление книги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) игрушечные часы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и) эталон килограмма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) блок-схема алгоритма. (2 балла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1619280" y="1125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1042920" y="90792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Определите, какие из следующих моделей являются информационными: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48720" y="514080"/>
            <a:ext cx="7990200" cy="150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94920" y="2349360"/>
            <a:ext cx="504036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акет декорационного оформления театральной постановки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акет книги или журнал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лобус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еографический атлас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одель (макет) строения молекулы воды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Уравнение химической реакции, например, 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O2 + 2NaOH = Na2CO3 + H2O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енеалогическое (родословное) дерево семьи Пушкиных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акет скелета человек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Формула определения площади квадрата со стороной h: S = h2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асписание движения поездов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Игрушечная модель паровоз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рафик зависимости высоты тела, брошенного под углом к горизонту, от времени полет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главление книг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508720" y="2361960"/>
            <a:ext cx="3456000" cy="38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) представления (репрезентации) материальных предметов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б) объяснения известных фактов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) построения гипотез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) получения новых знаний об исследуемых объектах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д) прогнозирования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е) управления. (3 балла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539640" y="333360"/>
            <a:ext cx="835344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аны следующие модел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ыберите из предложенных моделей или придумайте сами примеры, когда модели объектов реальной действительности используются для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09:27:51Z</dcterms:created>
  <dc:creator>Пользователь</dc:creator>
  <dc:description/>
  <dc:language>en-US</dc:language>
  <cp:lastModifiedBy>Your User Name</cp:lastModifiedBy>
  <dcterms:modified xsi:type="dcterms:W3CDTF">2010-05-26T07:10:47Z</dcterms:modified>
  <cp:revision>4</cp:revision>
  <dc:subject/>
  <dc:title>Моделирование </dc:title>
</cp:coreProperties>
</file>