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5.gif" ContentType="image/gif"/>
  <Override PartName="/ppt/media/image14.gif" ContentType="image/gif"/>
  <Override PartName="/ppt/media/image9.gif" ContentType="image/gif"/>
  <Override PartName="/ppt/media/image2.gif" ContentType="image/gif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0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3CC-50DC-4A80-B0C0-5637ADFA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7E2-3DC0-44C6-A0E8-2EA2DF38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DA0-C10D-4BB3-BF58-D0D23676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8A0-6A3B-4FE8-B84E-745C79FE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7D80-FC62-47B5-AE6F-C1676670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EF58-9BBE-4AEE-8DB0-218B4B23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9FDB-06C5-42AB-9A41-3620F919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021C-4DBA-4086-B30C-E9CA4915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1C27-496B-4C5C-9981-DAAA2385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A644-4EDF-4C6B-A3CF-D0288A18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A50F-4F2F-44A4-91E6-C7B96052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FCA-839D-490E-B5B5-76730952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A2E5-AA1A-4102-AFE8-138323B5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7B7D-C33E-469F-BCC5-9B247647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6319-D525-481C-B64F-D68F30F4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A809-1C52-4D93-83EB-1CA86B9B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8390-200B-4C95-AC3B-DF985688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195A-9C13-4F3B-BFEB-FA327341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9EA-C9E7-4452-9251-E5A6C2BD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264-5ACF-4365-A94E-63635C86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282C-AC7F-49BF-9B14-E38B2B18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885-54A1-4ED5-B269-B063AC6E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F52-2A49-4C9D-A5BC-A047E9D4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0F3-0586-4559-8E03-76A2780B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BCBD-DF61-449B-8648-50ABACDA736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E28F-42EA-41EE-9EB4-D7449AA0074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086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азработка учителя информатики и ИКТ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ОУ «Майская гимназия Белгородского района»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Токарь Татьяны  Васильевны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СКОЛЬКО ДОСОК В ЗАБОРЕ?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90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: «Будешь красить пока забор не кончитс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одойти к левому краю заб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Пока забор не кончился,повторя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расить одну дос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нуть вправо на ширину дос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конец повт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уй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Выучи и запомни!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Циклический алгоритм-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описание действий,которые должны повторяться пока не выполнено заданное условие или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 указанное число ра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5157720"/>
            <a:ext cx="2089080" cy="1440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76720" y="5084640"/>
            <a:ext cx="187344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 Rounded MT Bold"/>
              </a:rPr>
              <a:t>ЧТО СОВЕРШАЕТ</a:t>
            </a:r>
            <a:r>
              <a:rPr b="1" lang="en-US" sz="3200" spc="-1" strike="noStrike">
                <a:solidFill>
                  <a:srgbClr val="eaeaea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eaeaea"/>
                </a:solidFill>
                <a:latin typeface="Arial Rounded MT Bold"/>
              </a:rPr>
              <a:t>ЦИКЛИЧЕСКИЙ ПРОЦЕСС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940360" y="2565360"/>
            <a:ext cx="1656000" cy="1511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332000" y="3860640"/>
            <a:ext cx="1260360" cy="1600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916360" y="2349360"/>
            <a:ext cx="1368360" cy="136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987640" y="429264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4572000" y="3573360"/>
            <a:ext cx="1368360" cy="165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6443640" y="4149720"/>
            <a:ext cx="196380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Rounded MT Bold"/>
              </a:rPr>
              <a:t>Блок-схема алгоритм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543800" cy="47242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2133720"/>
            <a:ext cx="4319640" cy="863640"/>
          </a:xfrm>
          <a:prstGeom prst="flowChartProcess">
            <a:avLst/>
          </a:prstGeom>
          <a:solidFill>
            <a:srgbClr val="8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ойти к левому краю за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3284640"/>
            <a:ext cx="3095640" cy="1079280"/>
          </a:xfrm>
          <a:prstGeom prst="flowChartDecision">
            <a:avLst/>
          </a:pr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бор  кончил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40360" y="3068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97928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3789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378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378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292640"/>
            <a:ext cx="2376360" cy="64908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красить одну дос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5300640"/>
            <a:ext cx="2303280" cy="64944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Шагнуть в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4292640"/>
            <a:ext cx="2089080" cy="71892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й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27640" y="51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92720" y="5516640"/>
            <a:ext cx="2232000" cy="649080"/>
          </a:xfrm>
          <a:prstGeom prst="flowChartTerminator">
            <a:avLst/>
          </a:prstGeom>
          <a:solidFill>
            <a:srgbClr val="008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595008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186920" y="6093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87280" y="3213000"/>
            <a:ext cx="0" cy="288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321300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46520" y="344340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27880" y="34434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97928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40360" y="638172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повтор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ло цикла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ло цикла-перечень повторяющихся дейст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ahoma"/>
              </a:rPr>
              <a:t>Структура  команды цикл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Unicode MS"/>
              </a:rPr>
              <a:t>Домашнее задание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ставить циклическую алгоритмическую конструкц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дани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точить все карандаши в короб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492360" y="4724280"/>
            <a:ext cx="131472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i="1" lang="en-US" sz="5100" spc="-1" strike="noStrike">
                <a:solidFill>
                  <a:srgbClr val="eaeaea"/>
                </a:solidFill>
                <a:latin typeface="Tahoma"/>
              </a:rPr>
              <a:t>Алгоритмическая структура «цикл»</a:t>
            </a:r>
            <a:br>
              <a:rPr sz="5100"/>
            </a:br>
            <a:endParaRPr b="1" lang="en-US" sz="5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0800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9200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тори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ятия алгоритм, исполнитель алгоритма,типы алгоритмов.Познакомиться с понятием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икл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алгоритме,научить составлять алгоритмы с цик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80360" y="2060640"/>
            <a:ext cx="14857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 Unicode MS"/>
              </a:rPr>
              <a:t>Поделись тем,что знаешь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7138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Алгоритм –эт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Исполнитель алго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Программа-это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16720" y="4365720"/>
            <a:ext cx="194292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Найди лишнее…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скретность,  массовость,  активность,понятность,  точнос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есный,  звуковой,  графический, мультимедий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00480" y="2967120"/>
            <a:ext cx="743040" cy="923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24360" y="3213000"/>
            <a:ext cx="743040" cy="924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200480" y="2967120"/>
            <a:ext cx="743040" cy="92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Назначение блоков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2421000"/>
            <a:ext cx="2665440" cy="72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3789360"/>
            <a:ext cx="3168720" cy="93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2637000"/>
            <a:ext cx="1871640" cy="3887640"/>
          </a:xfrm>
          <a:prstGeom prst="flowChartDecision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5516640"/>
            <a:ext cx="3600360" cy="792000"/>
          </a:xfrm>
          <a:prstGeom prst="flowChartInputOutpu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2276640"/>
            <a:ext cx="1584360" cy="1152360"/>
          </a:xfrm>
          <a:prstGeom prst="flowChartPredefined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429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АЛГОРИТМ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Линей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Разветвляющий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спомагатель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164360" y="2276640"/>
            <a:ext cx="952560" cy="86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i="1" lang="en-US" sz="3600" spc="-1" strike="noStrike">
                <a:solidFill>
                  <a:srgbClr val="eaeaea"/>
                </a:solidFill>
                <a:latin typeface="Arial Unicode MS"/>
              </a:rPr>
              <a:t>Марк  Тве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280" y="2565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риключения Тома Сойер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здыхая,он окунул кисть в ведро,провел ею по доске забора,повторил эту операцию,проделал ее снова</a:t>
            </a: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…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ставить алгоритм покраски заб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21128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Алгоритм покраски забор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подойти к левому краю заб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покрасить одну дос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шагнуть вправо на ширину до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покрасить одну дос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шагнуть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1:19:30Z</dcterms:created>
  <dc:creator>Администратор</dc:creator>
  <dc:description/>
  <dc:language>en-US</dc:language>
  <cp:lastModifiedBy>Токарь Т.В.</cp:lastModifiedBy>
  <dcterms:modified xsi:type="dcterms:W3CDTF">2010-05-20T08:56:23Z</dcterms:modified>
  <cp:revision>23</cp:revision>
  <dc:subject/>
  <dc:title>алгоритмика</dc:title>
</cp:coreProperties>
</file>