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92E-E515-471D-A41C-695B8D82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C37-C2C4-4FC4-BBBE-04F8F219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9F0-7D46-4292-ABDD-DAEA28AC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F03-24A7-4FE0-B818-55AAF5ED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F960-6B1F-4C0A-B6C1-482D7382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D552-8589-4858-A334-199FC886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F13D-BA70-4379-B81C-BA2EC39D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5A9C-6AC6-471F-BCE1-9CD9DE3D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27B5-596C-4B40-9426-C43466F6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FB95-144E-498E-A18E-98EB49F5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F4ED-D6AC-4F22-ABC9-459460AD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A36-8E4D-423C-B0EF-4649F4BA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4C29-7DF4-4982-847F-33A0A05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5451-1031-465E-A6C8-20D390B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521E-3432-4C8B-9C1C-C3AE7029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D131-0BB4-48BC-85CC-9145982B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3518-1A62-4B74-8064-886985BF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CFC-9BDD-42A2-A609-A913F6FA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1D2-CBCB-4E0C-A95B-4C5CEA3B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2C2-6744-4B5C-821F-527AE3FD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3FE-EC2B-4D03-8D53-9A9FF504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22F-AA9C-4E73-90D2-D3D8A7C0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0F0-49A7-43C0-907A-511F48DB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980-112F-4598-8596-B3119B07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67D9-E186-439B-8AC6-B7A79D936B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F498-6300-4F7B-A0FD-3B5D011521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086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работка учителя информатики и ИКТ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ОУ «Майская гимназия Белгородского района»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окарь Татьяны  Васильевн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СКОЛЬКО ДОСОК В ЗАБОРЕ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9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«Будешь красить пока забор не конч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ока забор не кончился,повторя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асить одну до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нуть вправо на ширину до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онец по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уй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Выучи и запомни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Циклический алгоритм-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описание действий,которые должны повторяться пока не выполнено заданное условие или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указанное число ра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5084640"/>
            <a:ext cx="18734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ЧТО СОВЕРШАЕТ</a:t>
            </a: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ЦИКЛИЧЕСКИЙ ПРОЦЕСС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126036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1368360" cy="136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Rounded MT Bold"/>
              </a:rPr>
              <a:t>Блок-схема алгорит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543800" cy="472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133720"/>
            <a:ext cx="4319640" cy="863640"/>
          </a:xfrm>
          <a:prstGeom prst="flowChartProcess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ойти к левому краю за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284640"/>
            <a:ext cx="3095640" cy="1079280"/>
          </a:xfrm>
          <a:prstGeom prst="flowChartDecision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бор  кончил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292640"/>
            <a:ext cx="2376360" cy="64908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расить одну дос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300640"/>
            <a:ext cx="2303280" cy="64944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нуть в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4292640"/>
            <a:ext cx="2089080" cy="71892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5516640"/>
            <a:ext cx="2232000" cy="649080"/>
          </a:xfrm>
          <a:prstGeom prst="flowChartTerminator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86920" y="609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213000"/>
            <a:ext cx="0" cy="288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213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6520" y="34434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27880" y="3443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638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повтор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о цикла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цикла-перечень повторяющихся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Структура  команды цикл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Домашнее задание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иклическую алгоритмическую конструкц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очить все карандаши в короб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131472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Алгоритмическая структура «цикл»</a:t>
            </a:r>
            <a:br>
              <a:rPr sz="5100"/>
            </a:br>
            <a:endParaRPr b="1" lang="en-US" sz="5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08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92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я алгоритм, исполнитель алгоритма,типы алгоритмов.Познакомиться с понятием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к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лгоритме,научить составлять алгоритмы с цик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80360" y="2060640"/>
            <a:ext cx="1485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Unicode MS"/>
              </a:rPr>
              <a:t>Поделись тем,что знаеш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Алгоритм –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Исполнитель алго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Программа-э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942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Найди лишнее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кретность,  массовость,  активность,понятность,  точнос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есный,  звуковой,  графический, мультимедий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743040" cy="9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начение блоков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421000"/>
            <a:ext cx="2665440" cy="72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789360"/>
            <a:ext cx="316872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2637000"/>
            <a:ext cx="1871640" cy="388764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516640"/>
            <a:ext cx="3600360" cy="792000"/>
          </a:xfrm>
          <a:prstGeom prst="flowChartInputOutpu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276640"/>
            <a:ext cx="1584360" cy="1152360"/>
          </a:xfrm>
          <a:prstGeom prst="flowChartPredefined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42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ГОРИТ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Линей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азветвляющий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спомагате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4360" y="2276640"/>
            <a:ext cx="95256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Марк  Тв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2565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иключения Тома Сой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здыхая,он окунул кисть в ведро,провел ею по доске забора,повторил эту операцию,проделал ее снова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ить алгоритм покраски за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1128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Алгоритм покраски забо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шагнуть вправо на ширину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шагнуть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9:30Z</dcterms:created>
  <dc:creator>Администратор</dc:creator>
  <dc:description/>
  <dc:language>en-US</dc:language>
  <cp:lastModifiedBy>Токарь Т.В.</cp:lastModifiedBy>
  <dcterms:modified xsi:type="dcterms:W3CDTF">2010-05-20T08:56:23Z</dcterms:modified>
  <cp:revision>23</cp:revision>
  <dc:subject/>
  <dc:title>алгоритмика</dc:title>
</cp:coreProperties>
</file>