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15.gif" ContentType="image/gif"/>
  <Override PartName="/ppt/media/image14.gif" ContentType="image/gif"/>
  <Override PartName="/ppt/media/image9.gif" ContentType="image/gif"/>
  <Override PartName="/ppt/media/image2.gif" ContentType="image/gif"/>
  <Override PartName="/ppt/media/image3.gif" ContentType="image/gif"/>
  <Override PartName="/ppt/media/image7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10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D1F-6F05-4EB5-BCD9-B2450634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ECF-10B2-4546-B722-1C3A2C4F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3ED-27D5-460A-A172-F57A5DD9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98AE-46AF-4D9A-92D5-0BEB37B0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9F1A-ECD3-4978-8234-DA71D866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441C-17F1-4E4B-85B6-E146CAF6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086E-9688-45E5-B0CD-8DBEADE8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139E-B90B-41BF-9082-9655B00E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EE4C-9556-4C31-8CBE-4FE7DFAA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EB65-ED43-41BF-9991-25D01B40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F211-C8C9-4A55-9262-5B0AE6B1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604B-B1D2-4AAA-A4DE-723419B9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8780-EB2D-42B9-BA97-56BAF0B7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A3D4-15C6-46CE-9C04-91115F50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22A0-6D79-41D6-AB68-FB027970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B8C3-D214-44F3-BD7A-3A83E4BD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0D00-76C5-4DB5-BCAE-F7ED03C2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3332-33B6-44F9-9C9C-2FF042DB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D0C1-FEE2-4A7E-B086-79497E7E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425C-BD68-4298-8854-0EF7EFE6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BECA-B283-42B6-9454-B4EEDA8F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B14-D75C-42E6-BD79-594E610D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6E15-7E88-47F7-A3A9-77B5041B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0DE5-C29B-4B5C-9A10-C4A8B9A6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52F9-3E4F-411A-BC4C-B1F02419A37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0E7C-4965-421E-80CE-C7B65C6AFE5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086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азработка учителя информатики и ИКТ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МОУ «Майская гимназия Белгородского района»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Токарь Татьяны  Васильевны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СКОЛЬКО ДОСОК В ЗАБОРЕ?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790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: «Будешь красить пока забор не кончится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Подойти к левому краю заб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Пока забор не кончился,повторя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расить одну дос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гнуть вправо на ширину дос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конец повт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уй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Выучи и запомни!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280" y="23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Циклический алгоритм-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описание действий,которые должны повторяться пока не выполнено заданное условие или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 указанное число ра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5157720"/>
            <a:ext cx="2089080" cy="1440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076720" y="5084640"/>
            <a:ext cx="1873440" cy="15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 Rounded MT Bold"/>
              </a:rPr>
              <a:t>ЧТО СОВЕРШАЕТ</a:t>
            </a:r>
            <a:r>
              <a:rPr b="1" lang="en-US" sz="3200" spc="-1" strike="noStrike">
                <a:solidFill>
                  <a:srgbClr val="eaeaea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eaeaea"/>
                </a:solidFill>
                <a:latin typeface="Arial Rounded MT Bold"/>
              </a:rPr>
              <a:t>ЦИКЛИЧЕСКИЙ ПРОЦЕСС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940360" y="2565360"/>
            <a:ext cx="1656000" cy="1511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332000" y="3860640"/>
            <a:ext cx="1260360" cy="1600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916360" y="2349360"/>
            <a:ext cx="1368360" cy="1360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2987640" y="429264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4572000" y="3573360"/>
            <a:ext cx="1368360" cy="165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6443640" y="4149720"/>
            <a:ext cx="196380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Rounded MT Bold"/>
              </a:rPr>
              <a:t>Блок-схема алгоритм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7543800" cy="47242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2340000" y="2133720"/>
            <a:ext cx="4319640" cy="863640"/>
          </a:xfrm>
          <a:prstGeom prst="flowChartProcess">
            <a:avLst/>
          </a:prstGeom>
          <a:solidFill>
            <a:srgbClr val="8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ойти к левому краю заб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3284640"/>
            <a:ext cx="3095640" cy="1079280"/>
          </a:xfrm>
          <a:prstGeom prst="flowChartDecision">
            <a:avLst/>
          </a:pr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бор  кончил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140360" y="3068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979280" y="3789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378936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378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378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292640"/>
            <a:ext cx="2376360" cy="64908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красить одну дос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5300640"/>
            <a:ext cx="2303280" cy="64944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Шагнуть в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4292640"/>
            <a:ext cx="2089080" cy="71892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й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27640" y="51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92720" y="5516640"/>
            <a:ext cx="2232000" cy="649080"/>
          </a:xfrm>
          <a:prstGeom prst="flowChartTerminator">
            <a:avLst/>
          </a:prstGeom>
          <a:solidFill>
            <a:srgbClr val="008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595008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186920" y="6093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87280" y="3213000"/>
            <a:ext cx="0" cy="288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321300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46520" y="344340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27880" y="34434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979280" y="3789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40360" y="638172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повтор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ло цикла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ло цикла-перечень повторяющихся действ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Tahoma"/>
              </a:rPr>
              <a:t>Структура  команды цикл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Unicode MS"/>
              </a:rPr>
              <a:t>Домашнее задание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ставить циклическую алгоритмическую конструкц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дани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точить все карандаши в короб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492360" y="4724280"/>
            <a:ext cx="1314720" cy="12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i="1" lang="en-US" sz="5100" spc="-1" strike="noStrike">
                <a:solidFill>
                  <a:srgbClr val="eaeaea"/>
                </a:solidFill>
                <a:latin typeface="Tahoma"/>
              </a:rPr>
              <a:t>Алгоритмическая структура «цикл»</a:t>
            </a:r>
            <a:br>
              <a:rPr sz="5100"/>
            </a:br>
            <a:endParaRPr b="1" lang="en-US" sz="5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0800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92000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торить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ятия алгоритм, исполнитель алгоритма,типы алгоритмов.Познакомиться с понятием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икл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алгоритме,научить составлять алгоритмы с цикл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80360" y="2060640"/>
            <a:ext cx="14857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 Unicode MS"/>
              </a:rPr>
              <a:t>Поделись тем,что знаешь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7138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Алгоритм –это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Исполнитель алго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Программа-это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16720" y="4365720"/>
            <a:ext cx="194292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Найди лишнее…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скретность,  массовость,  активность,понятность,  точност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есный,  звуковой,  графический, мультимедий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00480" y="2967120"/>
            <a:ext cx="743040" cy="923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24360" y="3213000"/>
            <a:ext cx="743040" cy="924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200480" y="2967120"/>
            <a:ext cx="743040" cy="92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Назначение блоков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2421000"/>
            <a:ext cx="2665440" cy="72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3789360"/>
            <a:ext cx="3168720" cy="93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2637000"/>
            <a:ext cx="1871640" cy="3887640"/>
          </a:xfrm>
          <a:prstGeom prst="flowChartDecision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5516640"/>
            <a:ext cx="3600360" cy="792000"/>
          </a:xfrm>
          <a:prstGeom prst="flowChartInputOutpu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64360" y="2276640"/>
            <a:ext cx="1584360" cy="1152360"/>
          </a:xfrm>
          <a:prstGeom prst="flowChartPredefined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429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АЛГОРИТМ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Линей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Разветвляющийс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спомагатель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164360" y="2276640"/>
            <a:ext cx="952560" cy="86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i="1" lang="en-US" sz="3600" spc="-1" strike="noStrike">
                <a:solidFill>
                  <a:srgbClr val="eaeaea"/>
                </a:solidFill>
                <a:latin typeface="Arial Unicode MS"/>
              </a:rPr>
              <a:t>Марк  Тве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280" y="2565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риключения Тома Сойер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здыхая,он окунул кисть в ведро,провел ею по доске забора,повторил эту операцию,проделал ее снова</a:t>
            </a: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…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ставить алгоритм покраски заб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21128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Алгоритм покраски забор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подойти к левому краю заб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покрасить одну дос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шагнуть вправо на ширину дос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покрасить одну дос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шагнуть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1:19:30Z</dcterms:created>
  <dc:creator>Администратор</dc:creator>
  <dc:description/>
  <dc:language>en-US</dc:language>
  <cp:lastModifiedBy>Токарь Т.В.</cp:lastModifiedBy>
  <dcterms:modified xsi:type="dcterms:W3CDTF">2010-05-20T08:56:23Z</dcterms:modified>
  <cp:revision>23</cp:revision>
  <dc:subject/>
  <dc:title>алгоритмика</dc:title>
</cp:coreProperties>
</file>