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1.gif" ContentType="image/gif"/>
  <Override PartName="/ppt/media/image15.gif" ContentType="image/gif"/>
  <Override PartName="/ppt/media/image14.gif" ContentType="image/gif"/>
  <Override PartName="/ppt/media/image9.gif" ContentType="image/gif"/>
  <Override PartName="/ppt/media/image2.gif" ContentType="image/gif"/>
  <Override PartName="/ppt/media/image3.gif" ContentType="image/gif"/>
  <Override PartName="/ppt/media/image7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5.gif" ContentType="image/gif"/>
  <Override PartName="/ppt/media/image10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625C-0593-4B7C-AFC5-B831EEA30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A79D-3119-41A1-9B1C-34967F59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FFFA-8EE0-4E21-9E61-CB23E7472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035D-0E89-44D9-B0B2-EC7A45234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4091-BE79-4048-8F93-64A9E91D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1DC3-CCFC-49F9-9574-6A25C2CC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9585-63EE-48E7-859A-7C9EF658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5EA2-5222-4786-B039-497D31C5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3112-6AEC-4D3C-A5D1-4750B79C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DDFF-4508-4F33-B38F-D6ADAE6C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D0BA-B20C-46C5-90B6-1F65BCB1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F840-2C4F-4B85-9C42-18D5B216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3909-5F55-4F2A-AABB-C29ED8A1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C0B4-237C-4F33-9A96-52DFED31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DC36-04E3-4679-B15B-EF8EADBC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FE20-B792-49A4-B261-A99B08326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8B66-6885-43DA-BB90-18AA74E34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E1AA-153F-4B11-A575-735E0150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203C-2D4A-42B7-8EF9-697B511E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8E54-6D83-43C8-B29F-E76266B7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A98A-1EFA-47D4-9596-B62E35BD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CBB1-3BC0-4132-9D2C-E0D3B104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658A-4D58-45E7-A4CD-CC9ADE19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FB87-BE7E-4C7F-92CD-4E410C42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1245-E592-4267-96ED-3BBEACA0393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350E-499D-4B9B-9AE2-6635ADD6C99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7086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Разработка учителя информатики и ИКТ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МОУ «Майская гимназия Белгородского района»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Токарь Татьяны  Васильевны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СКОЛЬКО ДОСОК В ЗАБОРЕ?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640" y="1981080"/>
            <a:ext cx="790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вет: «Будешь красить пока забор не кончится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Подойти к левому краю забо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Пока забор не кончился,повторят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красить одну доск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агнуть вправо на ширину дос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конец повто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уй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ahoma"/>
              </a:rPr>
              <a:t>Выучи и запомни!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280" y="2349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Циклический алгоритм-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описание действий,которые должны повторяться пока не выполнено заданное условие или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  указанное число раз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16000" y="5157720"/>
            <a:ext cx="2089080" cy="1440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076720" y="5084640"/>
            <a:ext cx="1873440" cy="15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 Rounded MT Bold"/>
              </a:rPr>
              <a:t>ЧТО СОВЕРШАЕТ</a:t>
            </a:r>
            <a:r>
              <a:rPr b="1" lang="en-US" sz="3200" spc="-1" strike="noStrike">
                <a:solidFill>
                  <a:srgbClr val="eaeaea"/>
                </a:solidFill>
                <a:latin typeface="Arial Rounded MT Bold"/>
              </a:rPr>
              <a:t> </a:t>
            </a:r>
            <a:r>
              <a:rPr b="1" i="1" lang="en-US" sz="3200" spc="-1" strike="noStrike">
                <a:solidFill>
                  <a:srgbClr val="eaeaea"/>
                </a:solidFill>
                <a:latin typeface="Arial Rounded MT Bold"/>
              </a:rPr>
              <a:t>ЦИКЛИЧЕСКИЙ ПРОЦЕСС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940360" y="2565360"/>
            <a:ext cx="1656000" cy="1511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332000" y="3860640"/>
            <a:ext cx="1260360" cy="16002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2916360" y="2349360"/>
            <a:ext cx="1368360" cy="1360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2987640" y="4292640"/>
            <a:ext cx="1224000" cy="1368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4572000" y="3573360"/>
            <a:ext cx="1368360" cy="1656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6443640" y="4149720"/>
            <a:ext cx="1963800" cy="16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 Rounded MT Bold"/>
              </a:rPr>
              <a:t>Блок-схема алгоритма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99640" y="2133360"/>
            <a:ext cx="7543800" cy="47242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2340000" y="2133720"/>
            <a:ext cx="4319640" cy="863640"/>
          </a:xfrm>
          <a:prstGeom prst="flowChartProcess">
            <a:avLst/>
          </a:prstGeom>
          <a:solidFill>
            <a:srgbClr val="8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дойти к левому краю забо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56000" y="3284640"/>
            <a:ext cx="3095640" cy="1079280"/>
          </a:xfrm>
          <a:prstGeom prst="flowChartDecision">
            <a:avLst/>
          </a:prstGeom>
          <a:solidFill>
            <a:srgbClr val="ff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абор  кончилс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140360" y="3068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979280" y="3789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378936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79640" y="378936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56360" y="378936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58920" y="4292640"/>
            <a:ext cx="2376360" cy="649080"/>
          </a:xfrm>
          <a:prstGeom prst="flowChartProcess">
            <a:avLst/>
          </a:prstGeom>
          <a:solidFill>
            <a:srgbClr val="800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красить одну дос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32000" y="5300640"/>
            <a:ext cx="2303280" cy="649440"/>
          </a:xfrm>
          <a:prstGeom prst="flowChartProcess">
            <a:avLst/>
          </a:prstGeom>
          <a:solidFill>
            <a:srgbClr val="800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Шагнуть в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4292640"/>
            <a:ext cx="2089080" cy="718920"/>
          </a:xfrm>
          <a:prstGeom prst="flowChartProcess">
            <a:avLst/>
          </a:prstGeom>
          <a:solidFill>
            <a:srgbClr val="8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й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27640" y="51577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92720" y="5516640"/>
            <a:ext cx="2232000" cy="649080"/>
          </a:xfrm>
          <a:prstGeom prst="flowChartTerminator">
            <a:avLst/>
          </a:prstGeom>
          <a:solidFill>
            <a:srgbClr val="008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н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50920" y="5013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50920" y="595008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186920" y="6093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187280" y="3213000"/>
            <a:ext cx="0" cy="288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87280" y="3213000"/>
            <a:ext cx="302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46520" y="344340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27880" y="344340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979280" y="3789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40360" y="638172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к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лови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повторя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ц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ло цикла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ло цикла-перечень повторяющихся действ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aeaea"/>
                </a:solidFill>
                <a:latin typeface="Tahoma"/>
              </a:rPr>
              <a:t>Структура  команды цикл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8692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 Unicode MS"/>
              </a:rPr>
              <a:t>Домашнее задание: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ставить циклическую алгоритмическую конструкцию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дание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точить все карандаши в короб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492360" y="4724280"/>
            <a:ext cx="1314720" cy="125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54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1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i="1" lang="en-US" sz="5100" spc="-1" strike="noStrike">
                <a:solidFill>
                  <a:srgbClr val="eaeaea"/>
                </a:solidFill>
                <a:latin typeface="Tahoma"/>
              </a:rPr>
              <a:t>Алгоритмическая структура «цикл»</a:t>
            </a:r>
            <a:br>
              <a:rPr sz="5100"/>
            </a:br>
            <a:endParaRPr b="1" lang="en-US" sz="5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08000" y="530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792000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Цель урок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торить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нятия алгоритм, исполнитель алгоритма,типы алгоритмов.Познакомиться с понятием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цикл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алгоритме,научить составлять алгоритмы с цикл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380360" y="2060640"/>
            <a:ext cx="1485720" cy="26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 Unicode MS"/>
              </a:rPr>
              <a:t>Поделись тем,что знаешь: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871380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Алгоритм –это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Исполнитель алгорит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Программа-это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16720" y="4365720"/>
            <a:ext cx="194292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ahoma"/>
              </a:rPr>
              <a:t>Найди лишнее…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скретность,  массовость,  активность,понятность,  точность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овесный,  звуковой,  графический, мультимедий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200480" y="2967120"/>
            <a:ext cx="743040" cy="9237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924360" y="3213000"/>
            <a:ext cx="743040" cy="924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200480" y="2967120"/>
            <a:ext cx="743040" cy="92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Назначение блоков</a:t>
            </a: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1835280" y="2421000"/>
            <a:ext cx="2665440" cy="72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79640" y="3789360"/>
            <a:ext cx="3168720" cy="93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08720" y="2637000"/>
            <a:ext cx="1871640" cy="3887640"/>
          </a:xfrm>
          <a:prstGeom prst="flowChartDecision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5516640"/>
            <a:ext cx="3600360" cy="792000"/>
          </a:xfrm>
          <a:prstGeom prst="flowChartInputOutpu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164360" y="2276640"/>
            <a:ext cx="1584360" cy="1152360"/>
          </a:xfrm>
          <a:prstGeom prst="flowChartPredefined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429000"/>
            <a:ext cx="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АЛГОРИТМЫ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Линейны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Разветвляющийс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Вспомагательны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164360" y="2276640"/>
            <a:ext cx="952560" cy="86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</a:t>
            </a:r>
            <a:r>
              <a:rPr b="1" i="1" lang="en-US" sz="3600" spc="-1" strike="noStrike">
                <a:solidFill>
                  <a:srgbClr val="eaeaea"/>
                </a:solidFill>
                <a:latin typeface="Arial Unicode MS"/>
              </a:rPr>
              <a:t>Марк  Твен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71280" y="2565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Приключения Тома Сойер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»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Вздыхая,он окунул кисть в ведро,провел ею по доске забора,повторил эту операцию,проделал ее снова</a:t>
            </a:r>
            <a:r>
              <a:rPr b="0" i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…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ставить алгоритм покраски забо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211284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Unicode MS"/>
              </a:rPr>
              <a:t>Алгоритм покраски забор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подойти к левому краю забо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покрасить одну дос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шагнуть вправо на ширину дос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покрасить одну дос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шагнуть……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11:19:30Z</dcterms:created>
  <dc:creator>Администратор</dc:creator>
  <dc:description/>
  <dc:language>en-US</dc:language>
  <cp:lastModifiedBy>Токарь Т.В.</cp:lastModifiedBy>
  <dcterms:modified xsi:type="dcterms:W3CDTF">2010-05-20T08:56:23Z</dcterms:modified>
  <cp:revision>23</cp:revision>
  <dc:subject/>
  <dc:title>алгоритмика</dc:title>
</cp:coreProperties>
</file>