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B674-C52B-47C0-B06C-8628AA1D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CBB-7ED0-4A5C-B297-AD5B20D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75A-AB9A-4400-A903-50277ABB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71D-7DAF-4B83-9B0E-6D0EAC26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5EFB-0978-48ED-9E4B-D57F35B9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3B1D-F1C1-4FAA-BB6A-BF347969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4EF-B049-43D3-B7F7-E0162F14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A81B-D0CD-4B23-8CA3-7C281712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772-7D57-4294-B957-6C154FA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63B-2653-42C4-A173-891D925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F2A5-C0E0-4E6C-860E-042A7A7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FC0-7F6F-4529-B2BE-7DF3BCD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2439-B319-48B8-B72D-2F3D4781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629-9675-4897-BCCB-FE4E88C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38E-AB33-48D2-B625-F570D67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DD57-838D-4E9E-B3EE-EA57FE20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A0AE-545E-4F92-9362-5117BE2F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BD7-7ABF-4562-8ED0-FD1AD09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976-B5F1-4A27-8CD0-5651B00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8A1-503A-4632-B24C-CC4439A3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193-D826-4BAA-9F79-E4C54D64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37F-C7DD-44DD-8005-6883952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E79-8F5D-4B2A-95D0-7782B46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B54-CF8A-4839-8110-65D2FD01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5BAC-6483-4718-BE1A-DB86318D96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A72B-C9C2-4802-BF4E-BAB80D72FA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7086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работка учителя информатики и ИКТ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У «Майская гимназия Белгородского района»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окарь Татьяны  Васильевны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СКОЛЬКО ДОСОК В ЗАБОРЕ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90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«Будешь красить пока забор не кончит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Пока забор не кончился,повторя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расить одну дос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нуть вправо на ширину дос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онец повт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уй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Выучи и запомни!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Циклический алгоритм-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описание действий,которые должны повторяться пока не выполнено заданное условие или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указанное число ра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76720" y="5084640"/>
            <a:ext cx="187344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ЧТО СОВЕРШАЕТ</a:t>
            </a: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Arial Rounded MT Bold"/>
              </a:rPr>
              <a:t>ЦИКЛИЧЕСКИЙ ПРОЦЕСС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1656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1260360" cy="1600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1368360" cy="1360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4572000" y="3573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6443640" y="414972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Rounded MT Bold"/>
              </a:rPr>
              <a:t>Блок-схема алгорит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543800" cy="472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133720"/>
            <a:ext cx="4319640" cy="863640"/>
          </a:xfrm>
          <a:prstGeom prst="flowChartProcess">
            <a:avLst/>
          </a:prstGeom>
          <a:solidFill>
            <a:srgbClr val="8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ойти к левому краю за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3284640"/>
            <a:ext cx="3095640" cy="1079280"/>
          </a:xfrm>
          <a:prstGeom prst="flowChartDecision">
            <a:avLst/>
          </a:pr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бор  кончил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40360" y="3068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78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292640"/>
            <a:ext cx="2376360" cy="64908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расить одну дос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5300640"/>
            <a:ext cx="2303280" cy="64944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Шагнуть в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4292640"/>
            <a:ext cx="2089080" cy="718920"/>
          </a:xfrm>
          <a:prstGeom prst="flowChartProcess">
            <a:avLst/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2720" y="5516640"/>
            <a:ext cx="2232000" cy="649080"/>
          </a:xfrm>
          <a:prstGeom prst="flowChartTerminator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186920" y="6093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213000"/>
            <a:ext cx="0" cy="288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1300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46520" y="344340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27880" y="34434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79280" y="3789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40360" y="6381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повтор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о цикла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о цикла-перечень повторяющихся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aeaea"/>
                </a:solidFill>
                <a:latin typeface="Tahoma"/>
              </a:rPr>
              <a:t>Структура  команды цикл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Домашнее задание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ставить циклическую алгоритмическую конструкци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ание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очить все карандаши в короб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492360" y="4724280"/>
            <a:ext cx="131472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i="1" lang="en-US" sz="5100" spc="-1" strike="noStrike">
                <a:solidFill>
                  <a:srgbClr val="eaeaea"/>
                </a:solidFill>
                <a:latin typeface="Tahoma"/>
              </a:rPr>
              <a:t>Алгоритмическая структура «цикл»</a:t>
            </a:r>
            <a:br>
              <a:rPr sz="5100"/>
            </a:br>
            <a:endParaRPr b="1" lang="en-US" sz="5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08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92000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ятия алгоритм, исполнитель алгоритма,типы алгоритмов.Познакомиться с понятием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лгоритме,научить составлять алгоритмы с цик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80360" y="2060640"/>
            <a:ext cx="14857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Unicode MS"/>
              </a:rPr>
              <a:t>Поделись тем,что знаешь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71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Алгоритм –эт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Исполнитель алго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Программа-это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942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Найди лишнее…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кретность,  массовость,  активность,понятность,  точнос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есный,  звуковой,  графический, мультимедий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3213000"/>
            <a:ext cx="743040" cy="9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00480" y="2967120"/>
            <a:ext cx="743040" cy="92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Назначение блоков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2421000"/>
            <a:ext cx="2665440" cy="72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789360"/>
            <a:ext cx="316872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2637000"/>
            <a:ext cx="1871640" cy="388764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5516640"/>
            <a:ext cx="3600360" cy="792000"/>
          </a:xfrm>
          <a:prstGeom prst="flowChartInputOutpu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276640"/>
            <a:ext cx="1584360" cy="1152360"/>
          </a:xfrm>
          <a:prstGeom prst="flowChartPredefined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42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АЛГОРИТ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Линей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азветвляющийс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спомагатель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64360" y="2276640"/>
            <a:ext cx="95256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i="1" lang="en-US" sz="3600" spc="-1" strike="noStrike">
                <a:solidFill>
                  <a:srgbClr val="eaeaea"/>
                </a:solidFill>
                <a:latin typeface="Arial Unicode MS"/>
              </a:rPr>
              <a:t>Марк  Тв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2565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иключения Тома Сой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здыхая,он окунул кисть в ведро,провел ею по доске забора,повторил эту операцию,проделал ее снова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ставить алгоритм покраски за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21128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Unicode MS"/>
              </a:rPr>
              <a:t>Алгоритм покраски забо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дойти к левому краю за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шагнуть вправо на ширину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покрасить одну дос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шагнуть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1:19:30Z</dcterms:created>
  <dc:creator>Администратор</dc:creator>
  <dc:description/>
  <dc:language>en-US</dc:language>
  <cp:lastModifiedBy>Токарь Т.В.</cp:lastModifiedBy>
  <dcterms:modified xsi:type="dcterms:W3CDTF">2010-05-20T08:56:23Z</dcterms:modified>
  <cp:revision>23</cp:revision>
  <dc:subject/>
  <dc:title>алгоритмика</dc:title>
</cp:coreProperties>
</file>