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gif" ContentType="image/gif"/>
  <Override PartName="/ppt/media/image4.wmf" ContentType="image/x-wmf"/>
  <Override PartName="/ppt/media/image2.gif" ContentType="image/gif"/>
  <Override PartName="/ppt/media/image5.wmf" ContentType="image/x-wmf"/>
  <Override PartName="/ppt/media/image10.wmf" ContentType="image/x-wmf"/>
  <Override PartName="/ppt/media/image3.wmf" ContentType="image/x-wmf"/>
  <Override PartName="/ppt/media/image6.gif" ContentType="image/gif"/>
  <Override PartName="/ppt/media/image9.wmf" ContentType="image/x-wmf"/>
  <Override PartName="/ppt/media/image11.gif" ContentType="image/gif"/>
  <Override PartName="/ppt/media/image7.wmf" ContentType="image/x-wmf"/>
  <Override PartName="/ppt/media/image8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E574-99AD-4D52-9CCE-AE5FCEEEE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21797-857B-43AD-982F-319DE3CE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A6C2B-F52E-4555-950D-69EFFBD690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1725A-BC0F-4195-BFDF-CC0E0A4471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BAD53-20B7-4127-8173-F22D1F8451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AF7FB-53C3-4212-986D-960D4ECC9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6471FE-37E3-405C-95D7-923FFB15F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A33304-8EF6-4338-A059-A9AFDD225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DEC832-9787-46DF-B2D2-A519E0590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63FB3-3472-4917-BE4A-368C6F2FA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40551-D1A0-4C9E-9B7E-C6296085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F7A33-DE27-43FF-B1C9-A14D5A4DD9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75B583-82DF-4F12-85EB-FBE06540B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7F6B8-12B2-4FD7-8685-59B478CD1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CEBD5-F1C4-47C4-9E04-4EE721EA1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642D3-F3FB-4239-AAA7-F297B54C7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A4123C-6648-4D3E-99BB-BF8E69EF23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BCEC7-3DE2-4A98-81B6-AE902D8DB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11589-BB9A-4BDB-A3C2-ECF36F05F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DC7F-5ADF-4D47-BA65-D868C766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1EF61-72E1-4466-A813-62470EF0F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53999-E19B-4A16-9F2A-C2C85EBE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17C54-042A-4B7D-84EA-F037776C9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EDB0-5181-4C07-9F44-0D659F205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47AF7-BEF3-4D44-AB7E-63AD1592109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ru-RU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0A165-5581-4592-93B5-AA6E400278E4}" type="slidenum">
              <a:rPr b="1" lang="ru-RU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6" name="TextBox 2"/>
          <p:cNvSpPr/>
          <p:nvPr/>
        </p:nvSpPr>
        <p:spPr>
          <a:xfrm>
            <a:off x="4500720" y="5643720"/>
            <a:ext cx="4143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Доржиева Г.Ю., учитель информатики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66"/>
                </a:solidFill>
                <a:latin typeface="Arial"/>
              </a:rPr>
              <a:t>МОУ «Барагханская СОШ»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Что вы понимаете под словом «МОДЕЛЬ»?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4" descr="AG00004_"/>
          <p:cNvPicPr/>
          <p:nvPr/>
        </p:nvPicPr>
        <p:blipFill>
          <a:blip r:embed="rId1"/>
          <a:stretch/>
        </p:blipFill>
        <p:spPr>
          <a:xfrm>
            <a:off x="4932360" y="2565360"/>
            <a:ext cx="2376360" cy="22924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5" descr="AG00052_"/>
          <p:cNvPicPr/>
          <p:nvPr/>
        </p:nvPicPr>
        <p:blipFill>
          <a:blip r:embed="rId2"/>
          <a:stretch/>
        </p:blipFill>
        <p:spPr>
          <a:xfrm>
            <a:off x="1187280" y="2565360"/>
            <a:ext cx="2880000" cy="180036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6" descr="J0172067"/>
          <p:cNvPicPr/>
          <p:nvPr/>
        </p:nvPicPr>
        <p:blipFill>
          <a:blip r:embed="rId3"/>
          <a:stretch/>
        </p:blipFill>
        <p:spPr>
          <a:xfrm>
            <a:off x="755640" y="4581360"/>
            <a:ext cx="4897440" cy="1630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Цели урока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Узнать: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Определение понятия «модель»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Какие бывают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моделирование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Что такое цель, объект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3366"/>
                </a:solidFill>
                <a:uFillTx/>
                <a:latin typeface="Arial"/>
              </a:rPr>
              <a:t>Научиться</a:t>
            </a: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 различать модели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500"/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500"/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Ь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это упрощенное подобие реального объекта. 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Модель отражает лишь некоторые свойства объекта, существенные для достижения цели моделирования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5" name="Picture 4" descr="BL00122_"/>
          <p:cNvPicPr/>
          <p:nvPr/>
        </p:nvPicPr>
        <p:blipFill>
          <a:blip r:embed="rId1"/>
          <a:stretch/>
        </p:blipFill>
        <p:spPr>
          <a:xfrm>
            <a:off x="5651640" y="4292640"/>
            <a:ext cx="2563560" cy="223668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5" descr="j0335112"/>
          <p:cNvPicPr/>
          <p:nvPr/>
        </p:nvPicPr>
        <p:blipFill>
          <a:blip r:embed="rId2"/>
          <a:stretch/>
        </p:blipFill>
        <p:spPr>
          <a:xfrm>
            <a:off x="971640" y="4581360"/>
            <a:ext cx="1650960" cy="16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66"/>
                </a:solidFill>
                <a:latin typeface="Arial"/>
              </a:rPr>
              <a:t>Моделирование </a:t>
            </a: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4640" cy="113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66"/>
                </a:solidFill>
                <a:latin typeface="Arial"/>
              </a:rPr>
              <a:t>Деятельность человека по созданию модели</a:t>
            </a:r>
            <a:endParaRPr b="0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09" name="Picture 4" descr="AG00011_"/>
          <p:cNvPicPr/>
          <p:nvPr/>
        </p:nvPicPr>
        <p:blipFill>
          <a:blip r:embed="rId1"/>
          <a:stretch/>
        </p:blipFill>
        <p:spPr>
          <a:xfrm>
            <a:off x="611280" y="3716280"/>
            <a:ext cx="1912680" cy="216072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5" descr="BD00146_"/>
          <p:cNvPicPr/>
          <p:nvPr/>
        </p:nvPicPr>
        <p:blipFill>
          <a:blip r:embed="rId2"/>
          <a:stretch/>
        </p:blipFill>
        <p:spPr>
          <a:xfrm>
            <a:off x="3924360" y="3141720"/>
            <a:ext cx="1817640" cy="179532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6" descr="HH00669_"/>
          <p:cNvPicPr/>
          <p:nvPr/>
        </p:nvPicPr>
        <p:blipFill>
          <a:blip r:embed="rId3"/>
          <a:stretch/>
        </p:blipFill>
        <p:spPr>
          <a:xfrm>
            <a:off x="6443640" y="4149720"/>
            <a:ext cx="1881360" cy="141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6666"/>
                </a:solidFill>
                <a:latin typeface="Arial"/>
              </a:rPr>
              <a:t>Свойства моделей зависят от цели моделирования</a:t>
            </a: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2320"/>
            <a:ext cx="3733920" cy="121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Натурные модели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 – физическое подобие объекта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760640" y="2362320"/>
            <a:ext cx="377028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3366"/>
                </a:solidFill>
                <a:uFillTx/>
                <a:latin typeface="Arial"/>
              </a:rPr>
              <a:t>Информационные модели – </a:t>
            </a: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описание объекта в определенной форме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826920" y="3789360"/>
            <a:ext cx="180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риальный объект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2556000" y="4221000"/>
            <a:ext cx="1152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Явление природы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3924360" y="443700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Процесс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8" name="Line 9"/>
          <p:cNvSpPr/>
          <p:nvPr/>
        </p:nvSpPr>
        <p:spPr>
          <a:xfrm flipH="1">
            <a:off x="2700360" y="3357720"/>
            <a:ext cx="2519280" cy="647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19" name="Line 10"/>
          <p:cNvSpPr/>
          <p:nvPr/>
        </p:nvSpPr>
        <p:spPr>
          <a:xfrm flipH="1">
            <a:off x="3634920" y="3357720"/>
            <a:ext cx="1513080" cy="93492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0" name="Line 11"/>
          <p:cNvSpPr/>
          <p:nvPr/>
        </p:nvSpPr>
        <p:spPr>
          <a:xfrm flipH="1">
            <a:off x="4858920" y="3429000"/>
            <a:ext cx="289080" cy="107964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21" name="Picture 13" descr="NA01682_"/>
          <p:cNvPicPr/>
          <p:nvPr/>
        </p:nvPicPr>
        <p:blipFill>
          <a:blip r:embed="rId1"/>
          <a:stretch/>
        </p:blipFill>
        <p:spPr>
          <a:xfrm>
            <a:off x="1547640" y="4869000"/>
            <a:ext cx="1511640" cy="126504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4" descr="AN00790_"/>
          <p:cNvPicPr/>
          <p:nvPr/>
        </p:nvPicPr>
        <p:blipFill>
          <a:blip r:embed="rId2"/>
          <a:stretch/>
        </p:blipFill>
        <p:spPr>
          <a:xfrm>
            <a:off x="3635280" y="4797360"/>
            <a:ext cx="1579680" cy="1646280"/>
          </a:xfrm>
          <a:prstGeom prst="rect">
            <a:avLst/>
          </a:prstGeom>
          <a:ln w="0">
            <a:noFill/>
          </a:ln>
        </p:spPr>
      </p:pic>
      <p:sp>
        <p:nvSpPr>
          <p:cNvPr id="123" name="Line 15"/>
          <p:cNvSpPr/>
          <p:nvPr/>
        </p:nvSpPr>
        <p:spPr>
          <a:xfrm>
            <a:off x="6227640" y="3860640"/>
            <a:ext cx="0" cy="223236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4" name="Line 16"/>
          <p:cNvSpPr/>
          <p:nvPr/>
        </p:nvSpPr>
        <p:spPr>
          <a:xfrm>
            <a:off x="6227640" y="407664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5" name="Text Box 17"/>
          <p:cNvSpPr/>
          <p:nvPr/>
        </p:nvSpPr>
        <p:spPr>
          <a:xfrm>
            <a:off x="6804000" y="3933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ербаль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6" name="Line 18"/>
          <p:cNvSpPr/>
          <p:nvPr/>
        </p:nvSpPr>
        <p:spPr>
          <a:xfrm>
            <a:off x="6227640" y="4724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6804000" y="4581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раф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8" name="Line 20"/>
          <p:cNvSpPr/>
          <p:nvPr/>
        </p:nvSpPr>
        <p:spPr>
          <a:xfrm>
            <a:off x="6227640" y="537228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804000" y="522936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табличны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0" name="Line 22"/>
          <p:cNvSpPr/>
          <p:nvPr/>
        </p:nvSpPr>
        <p:spPr>
          <a:xfrm>
            <a:off x="6227640" y="6093000"/>
            <a:ext cx="576360" cy="0"/>
          </a:xfrm>
          <a:prstGeom prst="line">
            <a:avLst/>
          </a:prstGeom>
          <a:ln w="93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1" name="Text Box 23"/>
          <p:cNvSpPr/>
          <p:nvPr/>
        </p:nvSpPr>
        <p:spPr>
          <a:xfrm>
            <a:off x="6804000" y="5805360"/>
            <a:ext cx="201600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Математические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Y=cos(x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pic>
        <p:nvPicPr>
          <p:cNvPr id="132" name="Picture 24" descr="AG00174_"/>
          <p:cNvPicPr/>
          <p:nvPr/>
        </p:nvPicPr>
        <p:blipFill>
          <a:blip r:embed="rId3"/>
          <a:stretch/>
        </p:blipFill>
        <p:spPr>
          <a:xfrm>
            <a:off x="755640" y="4365720"/>
            <a:ext cx="934920" cy="93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" dur="5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6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9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2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5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endParaRPr b="1" lang="en-US" sz="32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а) математические формул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б) уравнения химических реакций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) манекен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г) компьютерная пр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) программа телевидения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е) авиамодель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ж) оглавление книги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з) игрушечные часы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и) эталон килограмма;</a:t>
            </a:r>
            <a:br>
              <a:rPr sz="2400"/>
            </a:b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к) блок-схема алгоритма. (2 балла)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5" name="Rectangle 4"/>
          <p:cNvSpPr/>
          <p:nvPr/>
        </p:nvSpPr>
        <p:spPr>
          <a:xfrm>
            <a:off x="1619280" y="11253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1042920" y="907920"/>
            <a:ext cx="7129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66"/>
                </a:solidFill>
                <a:latin typeface="Arial"/>
              </a:rPr>
              <a:t>Определите, какие из следующих моделей являются информационными:</a:t>
            </a:r>
            <a:br>
              <a:rPr sz="2400"/>
            </a:b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648720" y="514080"/>
            <a:ext cx="7990200" cy="150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1" lang="en-US" sz="36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394920" y="2349360"/>
            <a:ext cx="504036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декорационного оформления театральной постановки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книги или журнал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лобу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ографический атлас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одель (макет) строения молекулы воды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Уравнение химической реакции, например, </a:t>
            </a:r>
            <a:br>
              <a:rPr sz="1600"/>
            </a:b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CO2 + 2NaOH = Na2CO3 + H2O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енеалогическое (родословное) дерево семьи Пушкиных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Макет скелета человек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Формула определения площади квадрата со стороной h: S = h2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Расписание движения поездов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Игрушечная модель паровоз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График зависимости высоты тела, брошенного под углом к горизонту, от времени полета;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01680" indent="-3016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66"/>
                </a:solidFill>
                <a:latin typeface="Arial"/>
              </a:rPr>
              <a:t>Оглавление книги.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508720" y="2361960"/>
            <a:ext cx="3456000" cy="380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а) представления (репрезентации) материальных предме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б) объяснения известных фактов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в) построения гипотез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г) получения новых знаний об исследуемых объектах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д) прогнозирования;</a:t>
            </a:r>
            <a:br>
              <a:rPr sz="1800"/>
            </a:b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е) управления. (3 балла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40" name="Rectangle 7"/>
          <p:cNvSpPr/>
          <p:nvPr/>
        </p:nvSpPr>
        <p:spPr>
          <a:xfrm>
            <a:off x="539640" y="333360"/>
            <a:ext cx="8353440" cy="183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Даны следующие модели.</a:t>
            </a:r>
            <a:endParaRPr b="0" lang="en-US" sz="2400" spc="-1" strike="noStrike">
              <a:solidFill>
                <a:srgbClr val="003366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3366"/>
                </a:solidFill>
                <a:latin typeface="Arial"/>
              </a:rPr>
              <a:t>Выберите из предложенных моделей или придумайте сами примеры, когда модели объектов реальной действительности используются для</a:t>
            </a:r>
            <a:r>
              <a:rPr b="0" lang="ru-RU" sz="1800" spc="-1" strike="noStrike">
                <a:solidFill>
                  <a:srgbClr val="003366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2-11T09:27:51Z</dcterms:created>
  <dc:creator>Пользователь</dc:creator>
  <dc:description/>
  <dc:language>en-US</dc:language>
  <cp:lastModifiedBy>Your User Name</cp:lastModifiedBy>
  <dcterms:modified xsi:type="dcterms:W3CDTF">2010-05-26T07:10:47Z</dcterms:modified>
  <cp:revision>4</cp:revision>
  <dc:subject/>
  <dc:title>Моделирование </dc:title>
</cp:coreProperties>
</file>