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6.gif" ContentType="image/gif"/>
  <Override PartName="/ppt/media/image9.wmf" ContentType="image/x-wmf"/>
  <Override PartName="/ppt/media/image11.gif" ContentType="image/gi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8F7B-5F88-45CD-9C6A-1D4386150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7FD4-608C-4415-BF73-6D612D84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B689-FFF1-44B1-A4FC-0FDAFE31D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5455-6D97-4D86-9575-45574263E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9648-6EEA-40E7-BC25-56A76C136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4BEF-CD64-4536-A79A-C754DEDA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B045-997A-4E7E-8643-8C3B9398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836A-32FD-41E7-A9BA-601D7828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A8C5-C02D-4D49-9557-05F4E42C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685D-EC4E-441E-8B55-5E431062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B154-ED3E-49F5-B323-356D2736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7EC3-5AB2-4E47-86DB-F15D246F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9C86-1BDD-46ED-B5F9-22632A8A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96B3-E88F-4815-A2CD-9E8DA59D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8F6D-E428-422C-9C5A-9DF3AE03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6F77-ADA9-4A5E-9057-BFC94E1E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0B4A-5C18-40D9-80E2-3BEA3EB03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9093-4AEC-4253-9F8E-53B1EE79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1965-5CA7-4791-B3C1-5ADED95D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523D-228A-4ADA-AF7A-E9D61462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CDAA-513D-43BD-AAEC-75B3687C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9E94-0A65-4890-BC34-8AA380C1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102C-7B92-420D-908F-10266262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6BF9-43FB-4F71-B534-E51EB0BF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3232-1BEA-4EDF-8B72-E7BFE4D7BBB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3525-1171-4A52-9ABF-27D2AF19673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Моделиров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4500720" y="5643720"/>
            <a:ext cx="414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оржиева Г.Ю., учитель информати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ОУ «Барагханская СОШ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Что вы понимаете под словом «МОДЕЛЬ»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AG00004_"/>
          <p:cNvPicPr/>
          <p:nvPr/>
        </p:nvPicPr>
        <p:blipFill>
          <a:blip r:embed="rId1"/>
          <a:stretch/>
        </p:blipFill>
        <p:spPr>
          <a:xfrm>
            <a:off x="4932360" y="2565360"/>
            <a:ext cx="2376360" cy="2292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AG00052_"/>
          <p:cNvPicPr/>
          <p:nvPr/>
        </p:nvPicPr>
        <p:blipFill>
          <a:blip r:embed="rId2"/>
          <a:stretch/>
        </p:blipFill>
        <p:spPr>
          <a:xfrm>
            <a:off x="1187280" y="2565360"/>
            <a:ext cx="2880000" cy="1800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J0172067"/>
          <p:cNvPicPr/>
          <p:nvPr/>
        </p:nvPicPr>
        <p:blipFill>
          <a:blip r:embed="rId3"/>
          <a:stretch/>
        </p:blipFill>
        <p:spPr>
          <a:xfrm>
            <a:off x="755640" y="4581360"/>
            <a:ext cx="489744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и уро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Узнать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ределение понятия «модель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ие бывают моде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такое моделирова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такое цель, объект моделиро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Научитьс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различать модел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упрощенное подобие реального объект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дель отражает лишь некоторые свойства объекта, существенные для достижения цели моделиро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4" descr="BL00122_"/>
          <p:cNvPicPr/>
          <p:nvPr/>
        </p:nvPicPr>
        <p:blipFill>
          <a:blip r:embed="rId1"/>
          <a:stretch/>
        </p:blipFill>
        <p:spPr>
          <a:xfrm>
            <a:off x="5651640" y="4292640"/>
            <a:ext cx="2563560" cy="2236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j0335112"/>
          <p:cNvPicPr/>
          <p:nvPr/>
        </p:nvPicPr>
        <p:blipFill>
          <a:blip r:embed="rId2"/>
          <a:stretch/>
        </p:blipFill>
        <p:spPr>
          <a:xfrm>
            <a:off x="971640" y="4581360"/>
            <a:ext cx="1650960" cy="16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иров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ятельность человека по созданию моде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4" descr="AG00011_"/>
          <p:cNvPicPr/>
          <p:nvPr/>
        </p:nvPicPr>
        <p:blipFill>
          <a:blip r:embed="rId1"/>
          <a:stretch/>
        </p:blipFill>
        <p:spPr>
          <a:xfrm>
            <a:off x="611280" y="3716280"/>
            <a:ext cx="1912680" cy="2160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BD00146_"/>
          <p:cNvPicPr/>
          <p:nvPr/>
        </p:nvPicPr>
        <p:blipFill>
          <a:blip r:embed="rId2"/>
          <a:stretch/>
        </p:blipFill>
        <p:spPr>
          <a:xfrm>
            <a:off x="3924360" y="3141720"/>
            <a:ext cx="1817640" cy="179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HH00669_"/>
          <p:cNvPicPr/>
          <p:nvPr/>
        </p:nvPicPr>
        <p:blipFill>
          <a:blip r:embed="rId3"/>
          <a:stretch/>
        </p:blipFill>
        <p:spPr>
          <a:xfrm>
            <a:off x="6443640" y="4149720"/>
            <a:ext cx="18813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войства моделей зависят от цели моделиров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3733920" cy="12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Натурные модел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физическое подобие объек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60640" y="2362320"/>
            <a:ext cx="37702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Информационные модели –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писание объекта в определенной форм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378936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териальный объек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556000" y="4221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Явление природ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924360" y="443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цесс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 flipH="1">
            <a:off x="2700360" y="3357720"/>
            <a:ext cx="2519280" cy="647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 flipH="1">
            <a:off x="3634920" y="3357720"/>
            <a:ext cx="1513080" cy="93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 flipH="1">
            <a:off x="4858920" y="3429000"/>
            <a:ext cx="289080" cy="1079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13" descr="NA01682_"/>
          <p:cNvPicPr/>
          <p:nvPr/>
        </p:nvPicPr>
        <p:blipFill>
          <a:blip r:embed="rId1"/>
          <a:stretch/>
        </p:blipFill>
        <p:spPr>
          <a:xfrm>
            <a:off x="1547640" y="4869000"/>
            <a:ext cx="1511640" cy="1265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AN00790_"/>
          <p:cNvPicPr/>
          <p:nvPr/>
        </p:nvPicPr>
        <p:blipFill>
          <a:blip r:embed="rId2"/>
          <a:stretch/>
        </p:blipFill>
        <p:spPr>
          <a:xfrm>
            <a:off x="3635280" y="4797360"/>
            <a:ext cx="1579680" cy="1646280"/>
          </a:xfrm>
          <a:prstGeom prst="rect">
            <a:avLst/>
          </a:prstGeom>
          <a:ln w="0">
            <a:noFill/>
          </a:ln>
        </p:spPr>
      </p:pic>
      <p:sp>
        <p:nvSpPr>
          <p:cNvPr id="123" name="Line 15"/>
          <p:cNvSpPr/>
          <p:nvPr/>
        </p:nvSpPr>
        <p:spPr>
          <a:xfrm>
            <a:off x="6227640" y="3860640"/>
            <a:ext cx="0" cy="2232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Line 16"/>
          <p:cNvSpPr/>
          <p:nvPr/>
        </p:nvSpPr>
        <p:spPr>
          <a:xfrm>
            <a:off x="6227640" y="407664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6804000" y="393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ербаль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6227640" y="472428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6804000" y="458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рафическ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6227640" y="537228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6804000" y="5229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аблич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Line 22"/>
          <p:cNvSpPr/>
          <p:nvPr/>
        </p:nvSpPr>
        <p:spPr>
          <a:xfrm>
            <a:off x="6227640" y="609300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6804000" y="5805360"/>
            <a:ext cx="201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тематическ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=cos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24" descr="AG00174_"/>
          <p:cNvPicPr/>
          <p:nvPr/>
        </p:nvPicPr>
        <p:blipFill>
          <a:blip r:embed="rId3"/>
          <a:stretch/>
        </p:blipFill>
        <p:spPr>
          <a:xfrm>
            <a:off x="755640" y="4365720"/>
            <a:ext cx="934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математические формулы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уравнения химических реакций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манекен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компьютерная программа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) программа телевидения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) авиамодель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ж) оглавление книги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) игрушечные часы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) эталон килограмма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) блок-схема алгоритма. (2 балл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619280" y="112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1042920" y="90792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Определите, какие из следующих моделей являются информационными: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48720" y="514080"/>
            <a:ext cx="7990200" cy="150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4920" y="2349360"/>
            <a:ext cx="504036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декорационного оформления театральной постановк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книги или журнал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лобус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еографический атлас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одель (макет) строения молекулы воды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Уравнение химической реакции, например,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2 + 2NaOH = Na2CO3 + H2O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енеалогическое (родословное) дерево семьи Пушкиных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скелета человек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Формула определения площади квадрата со стороной h: S = h2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асписание движения поездов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Игрушечная модель паровоз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рафик зависимости высоты тела, брошенного под углом к горизонту, от времени полет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главление книг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508720" y="2361960"/>
            <a:ext cx="345600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представления (репрезентации) материальных предметов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объяснения известных фактов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построения гипотез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) получения новых знаний об исследуемых объектах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) прогнозирования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е) управления. (3 балл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539640" y="333360"/>
            <a:ext cx="83534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аны следующие модел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берите из предложенных моделей или придумайте сами примеры, когда модели объектов реальной действительности используются для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09:27:51Z</dcterms:created>
  <dc:creator>Пользователь</dc:creator>
  <dc:description/>
  <dc:language>en-US</dc:language>
  <cp:lastModifiedBy>Your User Name</cp:lastModifiedBy>
  <dcterms:modified xsi:type="dcterms:W3CDTF">2010-05-26T07:10:47Z</dcterms:modified>
  <cp:revision>4</cp:revision>
  <dc:subject/>
  <dc:title>Моделирование </dc:title>
</cp:coreProperties>
</file>