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gif" ContentType="image/gif"/>
  <Override PartName="/ppt/media/image4.gif" ContentType="image/gif"/>
  <Override PartName="/ppt/media/image6.jpeg" ContentType="image/jpeg"/>
  <Override PartName="/ppt/media/image11.jpeg" ContentType="image/jpeg"/>
  <Override PartName="/ppt/media/image5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0E84-8919-40C4-AB7B-BEBE28CA3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F5CC-23B8-4DF9-86C4-E68139D80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0B50-152A-494F-A53B-443004C2E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34CC-A51A-48EB-88A8-76A433743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4C04-CD7B-428E-A8F1-D67471F18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DBF9-6DC0-4F62-B015-BF40933F2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B1EF-10D6-402A-B330-7A0A26FF2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AF37-5255-4AF7-A170-90EAEFCAE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3382-EEF0-408D-B9BF-83E2E27DD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EA94-1968-475E-B5EE-D0FCB6D6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AE38-496E-44D5-9DC6-0216E622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BF9E-1B0D-44E6-8878-96745416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BCF6E-EDC7-417A-ADDE-6A05AB4CA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9999"/>
                </a:solidFill>
                <a:latin typeface="Arial"/>
              </a:rPr>
              <a:t>Отношения между объектам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300360" y="4941360"/>
            <a:ext cx="183204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9640" y="404640"/>
            <a:ext cx="82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Отношения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Times New Roman"/>
              </a:rPr>
              <a:t>– это </a:t>
            </a: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связь </a:t>
            </a:r>
            <a:br>
              <a:rPr sz="3600"/>
            </a:b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между объект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76360" y="1916280"/>
            <a:ext cx="6033960" cy="4309920"/>
          </a:xfrm>
          <a:prstGeom prst="rect">
            <a:avLst/>
          </a:prstGeom>
          <a:ln w="28440">
            <a:solidFill>
              <a:srgbClr val="00990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1834920" y="2133720"/>
            <a:ext cx="46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ершина слева</a:t>
            </a: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3300"/>
                </a:solidFill>
                <a:latin typeface="Arial"/>
              </a:rPr>
              <a:t>ниж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916360" y="3428640"/>
            <a:ext cx="0" cy="280836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5724360" y="2924280"/>
            <a:ext cx="0" cy="3311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Примеры отношени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ешевле (дороже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линнее (короче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обрее (злее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3938760"/>
            <a:ext cx="8229600" cy="2187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971640" y="3789360"/>
            <a:ext cx="1968480" cy="2622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300720" y="3645000"/>
            <a:ext cx="230688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Родственные отнош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Симметричные отнош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4535280" cy="30178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140360" y="3357720"/>
            <a:ext cx="4568760" cy="3124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96000" y="5013360"/>
            <a:ext cx="330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ловек собаке - др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148360" y="170028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бака – друг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8576000">
            <a:off x="3833280" y="3025440"/>
            <a:ext cx="1116000" cy="2135160"/>
          </a:xfrm>
          <a:prstGeom prst="upDownArrow">
            <a:avLst>
              <a:gd name="adj1" fmla="val 50000"/>
              <a:gd name="adj2" fmla="val 3808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Несимметричные отнош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924360" y="2924280"/>
            <a:ext cx="4664160" cy="3120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3338640" cy="4176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403280" y="3357720"/>
            <a:ext cx="1222560" cy="720720"/>
          </a:xfrm>
          <a:prstGeom prst="rightArrow">
            <a:avLst>
              <a:gd name="adj1" fmla="val 50000"/>
              <a:gd name="adj2" fmla="val 42408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76720" y="5084640"/>
            <a:ext cx="1079640" cy="649440"/>
          </a:xfrm>
          <a:prstGeom prst="rightArrow">
            <a:avLst>
              <a:gd name="adj1" fmla="val 50000"/>
              <a:gd name="adj2" fmla="val 4156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6084720" y="2131560"/>
            <a:ext cx="717480" cy="2448000"/>
          </a:xfrm>
          <a:prstGeom prst="upDownArrow">
            <a:avLst>
              <a:gd name="adj1" fmla="val 50000"/>
              <a:gd name="adj2" fmla="val 67923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51640" y="314172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брат - бр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5229360"/>
            <a:ext cx="9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бр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0800000">
            <a:off x="5003280" y="4508280"/>
            <a:ext cx="1079640" cy="649080"/>
          </a:xfrm>
          <a:prstGeom prst="rightArrow">
            <a:avLst>
              <a:gd name="adj1" fmla="val 50000"/>
              <a:gd name="adj2" fmla="val 41583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48360" y="46530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ес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332000" y="350028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ы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763280" y="2923920"/>
            <a:ext cx="1079640" cy="649080"/>
          </a:xfrm>
          <a:prstGeom prst="rightArrow">
            <a:avLst>
              <a:gd name="adj1" fmla="val 50000"/>
              <a:gd name="adj2" fmla="val 41583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Несимметричные отнош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2001960" cy="27478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219640" y="3500280"/>
            <a:ext cx="3295800" cy="2681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 rot="1914000">
            <a:off x="2268360" y="3716280"/>
            <a:ext cx="3240360" cy="1511280"/>
          </a:xfrm>
          <a:prstGeom prst="rightArrow">
            <a:avLst>
              <a:gd name="adj1" fmla="val 50000"/>
              <a:gd name="adj2" fmla="val 53603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897800">
            <a:off x="2770560" y="393336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ч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12685200">
            <a:off x="2843280" y="2420640"/>
            <a:ext cx="3240000" cy="1511280"/>
          </a:xfrm>
          <a:prstGeom prst="rightArrow">
            <a:avLst>
              <a:gd name="adj1" fmla="val 50000"/>
              <a:gd name="adj2" fmla="val 5359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882200">
            <a:off x="3923280" y="292392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цел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Главно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бъекты связаны между собой отношениям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тношения могут быть родственные, характеризующие размер, расстояние, количество и т.д.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тношения бывают симметричные и несимметричны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Авт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хидова Надежда Анатоль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 информа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мский кр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. Добря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У «Добрянская СОШ №1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11:43:31Z</dcterms:created>
  <dc:creator>Comp</dc:creator>
  <dc:description/>
  <dc:language>en-US</dc:language>
  <cp:lastModifiedBy>Учитель</cp:lastModifiedBy>
  <dcterms:modified xsi:type="dcterms:W3CDTF">2010-03-09T10:24:09Z</dcterms:modified>
  <cp:revision>8</cp:revision>
  <dc:subject/>
  <dc:title>Слайд 1</dc:title>
</cp:coreProperties>
</file>