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3AC-166A-438C-86EE-493339BE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673-2E3B-46F1-A299-20DD914E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300-78BD-46C7-99B8-D3787CA4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710-07AD-47E3-B8FB-402E40AE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75A-25CC-475C-A816-6C6BBB54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BD2-D927-446C-BBAB-D1664004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4C1-475F-41D0-A708-D03EDFD5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BF5-2AB9-4893-BBD9-DFDCDF37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D8D-057B-4163-AD15-0C4DB0F9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F3B-92B8-41B8-9505-F823D0A9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C79-ACB4-430A-B176-8391442B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51D-E67B-43EF-8836-863CE0E7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6783-1853-43EC-8988-F415C70A7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Отношения между объект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18320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Отноше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Times New Roman"/>
              </a:rPr>
              <a:t>– это 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связь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между объе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033960" cy="4309920"/>
          </a:xfrm>
          <a:prstGeom prst="rect">
            <a:avLst/>
          </a:prstGeom>
          <a:ln w="28440">
            <a:solidFill>
              <a:srgbClr val="0099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834920" y="213372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ршина слев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ни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916360" y="3428640"/>
            <a:ext cx="0" cy="28083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724360" y="2924280"/>
            <a:ext cx="0" cy="33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Примеры отнош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шевле (дорож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иннее (короч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брее (зле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1968480" cy="2622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30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Родствен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535280" cy="3017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56876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6000" y="501336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обаке - 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360" y="17002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бака – друг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576000">
            <a:off x="3833280" y="3025440"/>
            <a:ext cx="1116000" cy="2135160"/>
          </a:xfrm>
          <a:prstGeom prst="upDownArrow">
            <a:avLst>
              <a:gd name="adj1" fmla="val 50000"/>
              <a:gd name="adj2" fmla="val 380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4664160" cy="3120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38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3357720"/>
            <a:ext cx="1222560" cy="720720"/>
          </a:xfrm>
          <a:prstGeom prst="rightArrow">
            <a:avLst>
              <a:gd name="adj1" fmla="val 50000"/>
              <a:gd name="adj2" fmla="val 42408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084640"/>
            <a:ext cx="1079640" cy="649440"/>
          </a:xfrm>
          <a:prstGeom prst="rightArrow">
            <a:avLst>
              <a:gd name="adj1" fmla="val 50000"/>
              <a:gd name="adj2" fmla="val 4156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6084720" y="2131560"/>
            <a:ext cx="717480" cy="2448000"/>
          </a:xfrm>
          <a:prstGeom prst="upDownArrow">
            <a:avLst>
              <a:gd name="adj1" fmla="val 50000"/>
              <a:gd name="adj2" fmla="val 6792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1640" y="3141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 -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52293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5003280" y="450828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8360" y="465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е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500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763280" y="2923920"/>
            <a:ext cx="1079640" cy="649080"/>
          </a:xfrm>
          <a:prstGeom prst="rightArrow">
            <a:avLst>
              <a:gd name="adj1" fmla="val 50000"/>
              <a:gd name="adj2" fmla="val 4158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Несимметричные отно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001960" cy="2747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295800" cy="26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914000">
            <a:off x="2268360" y="3716280"/>
            <a:ext cx="3240360" cy="1511280"/>
          </a:xfrm>
          <a:prstGeom prst="rightArrow">
            <a:avLst>
              <a:gd name="adj1" fmla="val 50000"/>
              <a:gd name="adj2" fmla="val 5360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7800">
            <a:off x="2770560" y="393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2685200">
            <a:off x="2843280" y="2420640"/>
            <a:ext cx="3240000" cy="1511280"/>
          </a:xfrm>
          <a:prstGeom prst="rightArrow">
            <a:avLst>
              <a:gd name="adj1" fmla="val 50000"/>
              <a:gd name="adj2" fmla="val 5359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82200">
            <a:off x="3923280" y="2923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Главно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ъекты связаны между собой отношени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могут быть родственные, характеризующие размер, расстояние, количество и т.д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ношения бывают симметричные и несимметрич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edefa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идова Надежда Анато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Добря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«Добрянская СОШ №1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1:43:31Z</dcterms:created>
  <dc:creator>Comp</dc:creator>
  <dc:description/>
  <dc:language>en-US</dc:language>
  <cp:lastModifiedBy>Учитель</cp:lastModifiedBy>
  <dcterms:modified xsi:type="dcterms:W3CDTF">2010-03-09T10:24:09Z</dcterms:modified>
  <cp:revision>8</cp:revision>
  <dc:subject/>
  <dc:title>Слайд 1</dc:title>
</cp:coreProperties>
</file>