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gif" ContentType="image/gif"/>
  <Override PartName="/ppt/media/image4.gif" ContentType="image/gif"/>
  <Override PartName="/ppt/media/image6.jpeg" ContentType="image/jpeg"/>
  <Override PartName="/ppt/media/image11.jpeg" ContentType="image/jpeg"/>
  <Override PartName="/ppt/media/image5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735A-E603-47B0-A9F0-88ADF072D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27FE-99EA-43BE-B050-0B91FE70E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DE09-78AA-43A7-A281-01E004C18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C818-ED06-4FA5-AC00-4731A22C0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3B7F-EA86-4E12-A7E0-FEAD9C74A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1E8C-7597-46EB-9687-80269D323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74E5-81CF-4B8C-A9FA-D2AFC2751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3807-0A99-43CE-A48F-B87866801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8C5E-5576-489C-A702-E50DF2406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190E-8EFA-4A2E-B150-78D07CD78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63B6-9254-4DC0-A9AA-F2B64DC23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5370-060F-4EE0-8E8A-C105E9AF5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edefa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426F4-9BCD-4088-89B1-D9DE832D6B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edefa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9999"/>
                </a:solidFill>
                <a:latin typeface="Arial"/>
              </a:rPr>
              <a:t>Отношения между объектам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300360" y="4941360"/>
            <a:ext cx="183204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edefa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9640" y="404640"/>
            <a:ext cx="8280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Отношения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9999"/>
                </a:solidFill>
                <a:latin typeface="Times New Roman"/>
              </a:rPr>
              <a:t>– это </a:t>
            </a:r>
            <a:r>
              <a:rPr b="0" lang="en-US" sz="3600" spc="-1" strike="noStrike">
                <a:solidFill>
                  <a:srgbClr val="009999"/>
                </a:solidFill>
                <a:latin typeface="Arial"/>
              </a:rPr>
              <a:t>связь </a:t>
            </a:r>
            <a:br>
              <a:rPr sz="3600"/>
            </a:br>
            <a:r>
              <a:rPr b="0" lang="en-US" sz="3600" spc="-1" strike="noStrike">
                <a:solidFill>
                  <a:srgbClr val="009999"/>
                </a:solidFill>
                <a:latin typeface="Arial"/>
              </a:rPr>
              <a:t>между объекта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476360" y="1916280"/>
            <a:ext cx="6033960" cy="4309920"/>
          </a:xfrm>
          <a:prstGeom prst="rect">
            <a:avLst/>
          </a:prstGeom>
          <a:ln w="28440">
            <a:solidFill>
              <a:srgbClr val="009900"/>
            </a:solidFill>
            <a:miter/>
          </a:ln>
        </p:spPr>
      </p:pic>
      <p:sp>
        <p:nvSpPr>
          <p:cNvPr id="45" name=""/>
          <p:cNvSpPr/>
          <p:nvPr/>
        </p:nvSpPr>
        <p:spPr>
          <a:xfrm>
            <a:off x="1834920" y="2133720"/>
            <a:ext cx="469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Вершина слева</a:t>
            </a:r>
            <a:r>
              <a:rPr b="0" lang="en-US" sz="36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3300"/>
                </a:solidFill>
                <a:latin typeface="Arial"/>
              </a:rPr>
              <a:t>ниж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916360" y="3428640"/>
            <a:ext cx="0" cy="280836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5724360" y="2924280"/>
            <a:ext cx="0" cy="3311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edefa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Примеры отношений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Дешевле (дороже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Длиннее (короче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Добрее (злее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57200" y="3938760"/>
            <a:ext cx="8229600" cy="21873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971640" y="3789360"/>
            <a:ext cx="1968480" cy="26226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6300720" y="3645000"/>
            <a:ext cx="230688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edefa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Родственные отнош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308320" y="1600200"/>
            <a:ext cx="4525920" cy="452592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edefa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Симметричные отнош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4535280" cy="30178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140360" y="3357720"/>
            <a:ext cx="4568760" cy="31240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96000" y="5013360"/>
            <a:ext cx="330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еловек собаке - дру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148360" y="1700280"/>
            <a:ext cx="37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бака – друг чело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18576000">
            <a:off x="3833280" y="3025440"/>
            <a:ext cx="1116000" cy="2135160"/>
          </a:xfrm>
          <a:prstGeom prst="upDownArrow">
            <a:avLst>
              <a:gd name="adj1" fmla="val 50000"/>
              <a:gd name="adj2" fmla="val 38087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edefa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Несимметричные отнош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924360" y="2924280"/>
            <a:ext cx="4664160" cy="31208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68360" y="1413000"/>
            <a:ext cx="3338640" cy="41767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403280" y="3357720"/>
            <a:ext cx="1222560" cy="720720"/>
          </a:xfrm>
          <a:prstGeom prst="rightArrow">
            <a:avLst>
              <a:gd name="adj1" fmla="val 50000"/>
              <a:gd name="adj2" fmla="val 42408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076720" y="5084640"/>
            <a:ext cx="1079640" cy="649440"/>
          </a:xfrm>
          <a:prstGeom prst="rightArrow">
            <a:avLst>
              <a:gd name="adj1" fmla="val 50000"/>
              <a:gd name="adj2" fmla="val 41560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rot="16200000">
            <a:off x="6084720" y="2131560"/>
            <a:ext cx="717480" cy="2448000"/>
          </a:xfrm>
          <a:prstGeom prst="upDownArrow">
            <a:avLst>
              <a:gd name="adj1" fmla="val 50000"/>
              <a:gd name="adj2" fmla="val 67923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651640" y="3141720"/>
            <a:ext cx="18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брат - бра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76720" y="5229360"/>
            <a:ext cx="93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бра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10800000">
            <a:off x="5003280" y="4508280"/>
            <a:ext cx="1079640" cy="649080"/>
          </a:xfrm>
          <a:prstGeom prst="rightArrow">
            <a:avLst>
              <a:gd name="adj1" fmla="val 50000"/>
              <a:gd name="adj2" fmla="val 41583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148360" y="465300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сест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332000" y="350028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сы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763280" y="2923920"/>
            <a:ext cx="1079640" cy="649080"/>
          </a:xfrm>
          <a:prstGeom prst="rightArrow">
            <a:avLst>
              <a:gd name="adj1" fmla="val 50000"/>
              <a:gd name="adj2" fmla="val 41583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м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edefa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Несимметричные отнош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39640" y="1413000"/>
            <a:ext cx="2001960" cy="27478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219640" y="3500280"/>
            <a:ext cx="3295800" cy="26812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 rot="1914000">
            <a:off x="2268360" y="3716280"/>
            <a:ext cx="3240360" cy="1511280"/>
          </a:xfrm>
          <a:prstGeom prst="rightArrow">
            <a:avLst>
              <a:gd name="adj1" fmla="val 50000"/>
              <a:gd name="adj2" fmla="val 53603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1897800">
            <a:off x="2770560" y="3933360"/>
            <a:ext cx="14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ча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rot="12685200">
            <a:off x="2843280" y="2420640"/>
            <a:ext cx="3240000" cy="1511280"/>
          </a:xfrm>
          <a:prstGeom prst="rightArrow">
            <a:avLst>
              <a:gd name="adj1" fmla="val 50000"/>
              <a:gd name="adj2" fmla="val 53597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rot="1882200">
            <a:off x="3923280" y="292392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цел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edefa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Главно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Объекты связаны между собой отношениями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Отношения могут быть родственные, характеризующие размер, расстояние, количество и т.д.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Отношения бывают симметричные и несимметричны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edefa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Авто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55640" y="1600200"/>
            <a:ext cx="7632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хидова Надежда Анатолье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итель информат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мский кра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. Добря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У «Добрянская СОШ №1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0T11:43:31Z</dcterms:created>
  <dc:creator>Comp</dc:creator>
  <dc:description/>
  <dc:language>en-US</dc:language>
  <cp:lastModifiedBy>Учитель</cp:lastModifiedBy>
  <dcterms:modified xsi:type="dcterms:W3CDTF">2010-03-09T10:24:09Z</dcterms:modified>
  <cp:revision>8</cp:revision>
  <dc:subject/>
  <dc:title>Слайд 1</dc:title>
</cp:coreProperties>
</file>