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2378-D9F8-418E-B82B-55A0DB13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80B2-A91E-4A46-B5A7-6DACAAB9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46E7-0B68-477C-AE67-672B2758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D397-CC4E-436B-9D12-BDE15CCC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0E57-0A95-4724-9A06-C5CA30A21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7F8E-897F-4D71-B992-0B438987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C532-9490-4469-B5E6-E41743E6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4F5D-BFFE-49F4-BB68-390CE92A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0F0C-57D4-45CE-8DBA-1D36965E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C5D7-4A33-401B-BD0C-EA564B16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FD72-538A-4C97-8E67-BDC61CCC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A71B-1984-4A6D-B71A-4FDA12B0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16ED-4807-48E0-991F-F8A99C6B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F95D-3B64-49AB-A3A2-EBDE7647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00DA-0E24-414A-8A26-A5943C39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F8DA-F71A-49F7-B546-BE1E8C76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C68F-43BB-4C7C-AEEE-9ACC56F4B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A8FD-6965-49DE-8E90-16C3B8D7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BA5A-87F9-41A1-B4C2-DFA13D0C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2185-9B56-467A-9356-43A2A7DC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E88F-AC63-4E7F-A469-D073DC37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F970-2BCB-43B3-B733-D312D1F2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828C-7550-470D-B937-C8C6817F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2E02-F407-46AF-9D31-71969D2D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8E00-2466-43CD-A239-2E78E09B1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3599-5D3B-4D12-9DC2-C9F7A2F7E0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8920" y="1828440"/>
            <a:ext cx="8713800" cy="21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Русская история и </a:t>
            </a: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русская литература 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XIX</a:t>
            </a: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 века </a:t>
            </a: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2753280" y="424656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рок литературы в 10 классе. Введ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932360" y="5589720"/>
            <a:ext cx="387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вощевская Лариса Михайлов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СШ п.Верхнеказымск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Федор Иванович Тютче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 (1803 – 1873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Picture 4" descr="pt_130"/>
          <p:cNvPicPr/>
          <p:nvPr/>
        </p:nvPicPr>
        <p:blipFill>
          <a:blip r:embed="rId1"/>
          <a:stretch/>
        </p:blipFill>
        <p:spPr>
          <a:xfrm>
            <a:off x="2411280" y="404640"/>
            <a:ext cx="46594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Сергеевич Пушкин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9-1837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Picture 4" descr="p_146i"/>
          <p:cNvPicPr/>
          <p:nvPr/>
        </p:nvPicPr>
        <p:blipFill>
          <a:blip r:embed="rId1"/>
          <a:stretch/>
        </p:blipFill>
        <p:spPr>
          <a:xfrm>
            <a:off x="2268360" y="404640"/>
            <a:ext cx="4724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Михаил Юрьевич Лермонт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4-184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4" descr="pl_042"/>
          <p:cNvPicPr/>
          <p:nvPr/>
        </p:nvPicPr>
        <p:blipFill>
          <a:blip r:embed="rId1"/>
          <a:stretch/>
        </p:blipFill>
        <p:spPr>
          <a:xfrm>
            <a:off x="2195640" y="26028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Николай Васильевич Гоголь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09 - 1852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4" descr="g_040i"/>
          <p:cNvPicPr/>
          <p:nvPr/>
        </p:nvPicPr>
        <p:blipFill>
          <a:blip r:embed="rId1"/>
          <a:stretch/>
        </p:blipFill>
        <p:spPr>
          <a:xfrm>
            <a:off x="2195640" y="33336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ЕАЛ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от лат. realis — вещественный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удожественный метод нового времени, начало которого ведут либо от Возрождения (ренессансный реализм), либо от Просвещения (просветительский реализм), либо с 30-х гг. XIX 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дущие принципы реализма: объективное изображение жизни в сочетании с высотой авторского идеала; воспроизведение типических характеров в типических обстоятельствах при полноте их индивидуализации; жизненная достоверность изображения наряду с использованием условных и фантастических форм; преобладающий интерес к проблеме личности и обще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Иван Андреевич Крыло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69-1844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9" name="Picture 4" descr="pk_120"/>
          <p:cNvPicPr/>
          <p:nvPr/>
        </p:nvPicPr>
        <p:blipFill>
          <a:blip r:embed="rId1"/>
          <a:stretch/>
        </p:blipFill>
        <p:spPr>
          <a:xfrm>
            <a:off x="2371680" y="549360"/>
            <a:ext cx="4788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Сергеевич Грибоед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0 -1829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Picture 4" descr="g_068i"/>
          <p:cNvPicPr/>
          <p:nvPr/>
        </p:nvPicPr>
        <p:blipFill>
          <a:blip r:embed="rId1"/>
          <a:stretch/>
        </p:blipFill>
        <p:spPr>
          <a:xfrm>
            <a:off x="2124000" y="333360"/>
            <a:ext cx="49816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Сергеевич Пушкин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9-1837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3" name="Picture 3" descr="p_146i"/>
          <p:cNvPicPr/>
          <p:nvPr/>
        </p:nvPicPr>
        <p:blipFill>
          <a:blip r:embed="rId1"/>
          <a:stretch/>
        </p:blipFill>
        <p:spPr>
          <a:xfrm>
            <a:off x="2268360" y="404640"/>
            <a:ext cx="4724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Михаил Юрьевич Лермонт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4-184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3" descr="pl_042"/>
          <p:cNvPicPr/>
          <p:nvPr/>
        </p:nvPicPr>
        <p:blipFill>
          <a:blip r:embed="rId1"/>
          <a:stretch/>
        </p:blipFill>
        <p:spPr>
          <a:xfrm>
            <a:off x="2195640" y="26028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Николай Васильевич Гоголь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09 - 1852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Picture 3" descr="g_040i"/>
          <p:cNvPicPr/>
          <p:nvPr/>
        </p:nvPicPr>
        <p:blipFill>
          <a:blip r:embed="rId1"/>
          <a:stretch/>
        </p:blipFill>
        <p:spPr>
          <a:xfrm>
            <a:off x="2195640" y="33336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55640" y="1599840"/>
            <a:ext cx="8137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До безумной гордости волнует не только обилие талантов, рожденных Россией в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XIX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еке, но и поражающее разнообразие их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М.Горьки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ОМАН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франц. romans — повествование) — эпический жанр большой формы, раскрывающий историю нескольких, иногда многих человеческих судеб на протяжении длительного времен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жанр романа позволяет передать наиболее глубокие и сложные процессы жизн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Иван Сергеевич Тургене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8-1883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1" name="Picture 4" descr="pt_114"/>
          <p:cNvPicPr/>
          <p:nvPr/>
        </p:nvPicPr>
        <p:blipFill>
          <a:blip r:embed="rId1"/>
          <a:stretch/>
        </p:blipFill>
        <p:spPr>
          <a:xfrm>
            <a:off x="2124000" y="476280"/>
            <a:ext cx="49183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Иван Александрович Гончаро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2-9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Picture 4" descr="g_048i"/>
          <p:cNvPicPr/>
          <p:nvPr/>
        </p:nvPicPr>
        <p:blipFill>
          <a:blip r:embed="rId1"/>
          <a:stretch/>
        </p:blipFill>
        <p:spPr>
          <a:xfrm>
            <a:off x="2124000" y="404640"/>
            <a:ext cx="50468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Лев Николаевич Толстой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8 – 1910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2627280" y="549360"/>
            <a:ext cx="40975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Федор Михайлович Достоевский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1-188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Picture 5" descr="d03022"/>
          <p:cNvPicPr/>
          <p:nvPr/>
        </p:nvPicPr>
        <p:blipFill>
          <a:blip r:embed="rId1"/>
          <a:stretch/>
        </p:blipFill>
        <p:spPr>
          <a:xfrm>
            <a:off x="2411280" y="189000"/>
            <a:ext cx="4546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раматург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греч. drama, букв. действие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дин из основных родов художественной литературы (наряду с эпосом и лирикой). Специфика драмы как рода литературы заключается в том, что она написана в диалогической форме и, как правило, предназначается для постановки на сцен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Николаевич Островский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3 — 1886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1" name="Picture 4" descr="p01156"/>
          <p:cNvPicPr/>
          <p:nvPr/>
        </p:nvPicPr>
        <p:blipFill>
          <a:blip r:embed="rId1"/>
          <a:stretch/>
        </p:blipFill>
        <p:spPr>
          <a:xfrm>
            <a:off x="2700360" y="115920"/>
            <a:ext cx="40132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Васильевич Сухово-Кобылин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7-1903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3" name="Picture 4" descr="ps_222"/>
          <p:cNvPicPr/>
          <p:nvPr/>
        </p:nvPicPr>
        <p:blipFill>
          <a:blip r:embed="rId1"/>
          <a:stretch/>
        </p:blipFill>
        <p:spPr>
          <a:xfrm>
            <a:off x="2124000" y="333360"/>
            <a:ext cx="50468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Николай Алексеевич Некрас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1-1878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5" name="Picture 4" descr="pn_019"/>
          <p:cNvPicPr/>
          <p:nvPr/>
        </p:nvPicPr>
        <p:blipFill>
          <a:blip r:embed="rId1"/>
          <a:stretch/>
        </p:blipFill>
        <p:spPr>
          <a:xfrm>
            <a:off x="2050920" y="189000"/>
            <a:ext cx="5176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фанасий Афанасьевич Фет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0-1892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7" name="Picture 5" descr="pf_044"/>
          <p:cNvPicPr/>
          <p:nvPr/>
        </p:nvPicPr>
        <p:blipFill>
          <a:blip r:embed="rId1"/>
          <a:stretch/>
        </p:blipFill>
        <p:spPr>
          <a:xfrm>
            <a:off x="2124000" y="260280"/>
            <a:ext cx="51786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ЛАССИЦ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от лат. classicus — образцовый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иль и направление в литературе и искусстве 17 — нач. 19 вв., обратившиеся к античному наследию как к норме и идеальному образц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Федор Иванович Тютче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 (1803 – 1873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9" name="Picture 3" descr="pt_130"/>
          <p:cNvPicPr/>
          <p:nvPr/>
        </p:nvPicPr>
        <p:blipFill>
          <a:blip r:embed="rId1"/>
          <a:stretch/>
        </p:blipFill>
        <p:spPr>
          <a:xfrm>
            <a:off x="2411280" y="404640"/>
            <a:ext cx="46594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рити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оциально-историческая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Чернышевский, Добролюбов, Писаре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«органическая»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Григорье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эстетическа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Боткин, Страхо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нтон Павлович Чех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60-1904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3" name="Picture 4" descr="pch_045"/>
          <p:cNvPicPr/>
          <p:nvPr/>
        </p:nvPicPr>
        <p:blipFill>
          <a:blip r:embed="rId1"/>
          <a:stretch/>
        </p:blipFill>
        <p:spPr>
          <a:xfrm>
            <a:off x="2484360" y="333360"/>
            <a:ext cx="44989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сновные темы и проблемы русской литературы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XIX 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е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вобода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духовно-нравственные искания человека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обращение к народу в поисках нравственного идеал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ЕНТИМЕНТАЛ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от франц. sentiment — чувство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чение в европейской и американской литературе и искусстве 2-й пол. 18 — нач. 19 вв. Отталкиваясь от просветительского рационализма, объявил доминантой «человеческой природы» не разум, а чувство, и путь к идеально-нормативной личности искал в высвобождении и совершенствовании «естественных» чувст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ОМАНТ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07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франц. romantism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удожественный метод, сложившийся в начале XIX в. и получивший широкое распространение как направление в искусстве и литературе. Для романтизма характерен особый интерес к личности, характеру ее отношения к окружающей действительности, а также противопоставление реальному миру идеального. Стремление художника выразить свое отношение к изображаемому преобладает над точностью передачи действительных фактов, что придает художественному произведению повышенную эмоциональность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Василий Андреевич Жуковский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83-1852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Picture 5" descr="Жуковский"/>
          <p:cNvPicPr/>
          <p:nvPr/>
        </p:nvPicPr>
        <p:blipFill>
          <a:blip r:embed="rId1"/>
          <a:stretch/>
        </p:blipFill>
        <p:spPr>
          <a:xfrm>
            <a:off x="2195640" y="333360"/>
            <a:ext cx="47210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636264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Константин Николаевич Батюшк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87-1855)</a:t>
            </a:r>
            <a:br>
              <a:rPr sz="4000"/>
            </a:b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5" descr="pb_020"/>
          <p:cNvPicPr/>
          <p:nvPr/>
        </p:nvPicPr>
        <p:blipFill>
          <a:blip r:embed="rId1"/>
          <a:stretch/>
        </p:blipFill>
        <p:spPr>
          <a:xfrm>
            <a:off x="2484360" y="476280"/>
            <a:ext cx="44658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02136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Кондратий Федорович Рылее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5-1826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5" name="Picture 4" descr="r03024i"/>
          <p:cNvPicPr/>
          <p:nvPr/>
        </p:nvPicPr>
        <p:blipFill>
          <a:blip r:embed="rId1"/>
          <a:stretch/>
        </p:blipFill>
        <p:spPr>
          <a:xfrm>
            <a:off x="2340000" y="620640"/>
            <a:ext cx="45943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Евгений Абрамович Баратынский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00-1844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Picture 4" descr="pb_236"/>
          <p:cNvPicPr/>
          <p:nvPr/>
        </p:nvPicPr>
        <p:blipFill>
          <a:blip r:embed="rId1"/>
          <a:stretch/>
        </p:blipFill>
        <p:spPr>
          <a:xfrm>
            <a:off x="2124000" y="333360"/>
            <a:ext cx="50468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6:58:17Z</dcterms:created>
  <dc:creator>User</dc:creator>
  <dc:description/>
  <dc:language>en-US</dc:language>
  <cp:lastModifiedBy>Мама</cp:lastModifiedBy>
  <dcterms:modified xsi:type="dcterms:W3CDTF">2012-10-14T03:12:38Z</dcterms:modified>
  <cp:revision>5</cp:revision>
  <dc:subject/>
  <dc:title>Русская литература XIX века  в контексте  мировой культуры</dc:title>
</cp:coreProperties>
</file>