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7F3-95A7-4057-8DA9-11729F2A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2BF-02F7-479E-9CB4-E9445A95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376-8654-4403-8DA2-06AB4593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104-19B9-4C12-B934-E2A0FD0D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6237-953C-4121-B17D-F6CB63C0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F6D6-B9BD-4AD5-BEF3-7B550E56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74F5-6F80-41A7-A79E-E337B6E1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DC3F-6938-4B20-8029-EC2546DF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09C7-A15C-45B2-95DC-45931D80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4774-0394-474D-BD81-3E4E87E9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54E1-62F5-44F5-ADDA-3A7A0C22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DC7-DC43-4334-A044-76420D14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5BA2-4684-41F3-97FE-AA8C8A0F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A2F5-44A2-4A97-96EA-EEFA86BD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B6CB-8F9D-4DAF-B365-BF2DDD29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3BCE-A9A5-4557-953F-B987D990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9F52-8A42-4B2E-9D8D-9C4B81A4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372-DBCF-4B72-9C9F-6F6F5D46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6B9-241D-4347-94EE-461C88CB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2E4-659E-4ED3-A980-D80496CC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F72-7D8A-4F9D-9B9C-F61364DB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80D-F469-4483-8DF4-CD45CAEA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2C8-7A1D-4717-9926-3F32A3CA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751-467E-4C1F-B960-935F9BF9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8C61-B476-45B2-96AD-248588770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F611-95F3-401D-ACDA-E2661D4CD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1828440"/>
            <a:ext cx="87138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история и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литература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века 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2753280" y="42465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рок литературы в 10 классе. В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932360" y="5589720"/>
            <a:ext cx="38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4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4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т лат. realis — веществен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 нового времени, начало которого ведут либо от Возрождения (ренессансный реализм), либо от Просвещения (просветительский реализм), либо с 30-х гг. XIX 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ущие принципы реализма: объективное изображение жизни в сочетании с высотой авторского идеала; воспроизведение типических характеров в типических обстоятельствах при полноте их индивидуализации; жизненная достоверность изображения наряду с использованием условных и фантастических форм; преобладающий интерес к проблеме личности и об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ндреевич Крыл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69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4" descr="pk_120"/>
          <p:cNvPicPr/>
          <p:nvPr/>
        </p:nvPicPr>
        <p:blipFill>
          <a:blip r:embed="rId1"/>
          <a:stretch/>
        </p:blipFill>
        <p:spPr>
          <a:xfrm>
            <a:off x="2371680" y="549360"/>
            <a:ext cx="4788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Грибоед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0 -1829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g_068i"/>
          <p:cNvPicPr/>
          <p:nvPr/>
        </p:nvPicPr>
        <p:blipFill>
          <a:blip r:embed="rId1"/>
          <a:stretch/>
        </p:blipFill>
        <p:spPr>
          <a:xfrm>
            <a:off x="2124000" y="333360"/>
            <a:ext cx="4981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3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3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3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о безумной гордости волнует не только обилие талантов, рожденных Россией в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ке, но и поражающее разнообразие их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М.Горь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ранц. romans — повествование) — эпический жанр большой формы, раскрывающий историю нескольких, иногда многих человеческих судеб на протяжении длительного време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анр романа позволяет передать наиболее глубокие и сложные процессы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Сергеевич Тургене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8-188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pt_114"/>
          <p:cNvPicPr/>
          <p:nvPr/>
        </p:nvPicPr>
        <p:blipFill>
          <a:blip r:embed="rId1"/>
          <a:stretch/>
        </p:blipFill>
        <p:spPr>
          <a:xfrm>
            <a:off x="2124000" y="476280"/>
            <a:ext cx="49183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лександрович Гончар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2-9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g_048i"/>
          <p:cNvPicPr/>
          <p:nvPr/>
        </p:nvPicPr>
        <p:blipFill>
          <a:blip r:embed="rId1"/>
          <a:stretch/>
        </p:blipFill>
        <p:spPr>
          <a:xfrm>
            <a:off x="2124000" y="40464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Лев Николаевич Толсто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8 – 1910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4097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Михайлович Достое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8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5" descr="d03022"/>
          <p:cNvPicPr/>
          <p:nvPr/>
        </p:nvPicPr>
        <p:blipFill>
          <a:blip r:embed="rId1"/>
          <a:stretch/>
        </p:blipFill>
        <p:spPr>
          <a:xfrm>
            <a:off x="2411280" y="189000"/>
            <a:ext cx="454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раматур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греч. drama, букв. действ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 из основных родов художественной литературы (наряду с эпосом и лирикой). Специфика драмы как рода литературы заключается в том, что она написана в диалогической форме и, как правило, предназначается для постановки на сце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Николаевич Остро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3 — 1886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p01156"/>
          <p:cNvPicPr/>
          <p:nvPr/>
        </p:nvPicPr>
        <p:blipFill>
          <a:blip r:embed="rId1"/>
          <a:stretch/>
        </p:blipFill>
        <p:spPr>
          <a:xfrm>
            <a:off x="2700360" y="115920"/>
            <a:ext cx="4013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Васильевич Сухово-Кобылин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7-190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Picture 4" descr="ps_222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Алексеевич Некрас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78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Picture 4" descr="pn_019"/>
          <p:cNvPicPr/>
          <p:nvPr/>
        </p:nvPicPr>
        <p:blipFill>
          <a:blip r:embed="rId1"/>
          <a:stretch/>
        </p:blipFill>
        <p:spPr>
          <a:xfrm>
            <a:off x="2050920" y="189000"/>
            <a:ext cx="517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фанасий Афанасьевич Фет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0-189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7" name="Picture 5" descr="pf_044"/>
          <p:cNvPicPr/>
          <p:nvPr/>
        </p:nvPicPr>
        <p:blipFill>
          <a:blip r:embed="rId1"/>
          <a:stretch/>
        </p:blipFill>
        <p:spPr>
          <a:xfrm>
            <a:off x="2124000" y="260280"/>
            <a:ext cx="5178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ЛАССИЦ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от лат. classicus — образцовы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ль и направление в литературе и искусстве 17 — нач. 19 вв., обратившиеся к античному наследию как к норме и идеальному образц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Picture 3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ит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циально-историческа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Чернышевский, Добролюбов, Писар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органическая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Григорь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стетическа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Боткин, Страх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нтон Павлович Чех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60-190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Picture 4" descr="pch_045"/>
          <p:cNvPicPr/>
          <p:nvPr/>
        </p:nvPicPr>
        <p:blipFill>
          <a:blip r:embed="rId1"/>
          <a:stretch/>
        </p:blipFill>
        <p:spPr>
          <a:xfrm>
            <a:off x="2484360" y="333360"/>
            <a:ext cx="4498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ные темы и проблемы русской литературы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вобод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уховно-нравственные искания человек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бращение к народу в поисках нравственного иде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НТИМЕНТ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от франц. sentiment — чувств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чение в европейской и американской литературе и искусстве 2-й пол. 18 — нач. 19 вв. Отталкиваясь от просветительского рационализма, объявил доминантой «человеческой природы» не разум, а чувство, и путь к идеально-нормативной личности искал в высвобождении и совершенствовании «естественных» чув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Т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0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франц. romantis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, сложившийся в начале XIX в. и получивший широкое распространение как направление в искусстве и литературе. Для романтизма характерен особый интерес к личности, характеру ее отношения к окружающей действительности, а также противопоставление реальному миру идеального. Стремление художника выразить свое отношение к изображаемому преобладает над точностью передачи действительных фактов, что придает художественному произведению повышенную эмоциональность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Василий Андреевич Жуков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3-1852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5" descr="Жуковский"/>
          <p:cNvPicPr/>
          <p:nvPr/>
        </p:nvPicPr>
        <p:blipFill>
          <a:blip r:embed="rId1"/>
          <a:stretch/>
        </p:blipFill>
        <p:spPr>
          <a:xfrm>
            <a:off x="2195640" y="333360"/>
            <a:ext cx="4721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636264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стантин Николаевич Батюшк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7-1855)</a:t>
            </a:r>
            <a:br>
              <a:rPr sz="4000"/>
            </a:b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5" descr="pb_020"/>
          <p:cNvPicPr/>
          <p:nvPr/>
        </p:nvPicPr>
        <p:blipFill>
          <a:blip r:embed="rId1"/>
          <a:stretch/>
        </p:blipFill>
        <p:spPr>
          <a:xfrm>
            <a:off x="2484360" y="476280"/>
            <a:ext cx="446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дратий Федорович Рыле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5-1826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4" descr="r03024i"/>
          <p:cNvPicPr/>
          <p:nvPr/>
        </p:nvPicPr>
        <p:blipFill>
          <a:blip r:embed="rId1"/>
          <a:stretch/>
        </p:blipFill>
        <p:spPr>
          <a:xfrm>
            <a:off x="2340000" y="620640"/>
            <a:ext cx="4594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Евгений Абрамович Баратын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0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pb_236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58:17Z</dcterms:created>
  <dc:creator>User</dc:creator>
  <dc:description/>
  <dc:language>en-US</dc:language>
  <cp:lastModifiedBy>Мама</cp:lastModifiedBy>
  <dcterms:modified xsi:type="dcterms:W3CDTF">2012-10-14T03:12:38Z</dcterms:modified>
  <cp:revision>5</cp:revision>
  <dc:subject/>
  <dc:title>Русская литература XIX века  в контексте  мировой культуры</dc:title>
</cp:coreProperties>
</file>