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D80-EAA7-482D-A1F6-AC6C86CB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8D3-1D78-4C51-9F0F-F7964577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9AF-BFB9-4D11-B2EE-1F1A7D32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6EF-F9E6-45A4-9A3C-AF576CDB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B99C-D58A-4ADF-8454-4549452D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45A5-ED3A-452A-93A9-91F542B2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CEAF-7239-4B51-8685-E8396BF0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A4D4-D58F-49FE-BEF1-3EDB4D71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CC92-9230-466F-A380-3E361780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8878-018D-4989-A5F1-F4100424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9D16-6BBD-4D08-8F27-43AEED0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E42-4406-4E6B-8A27-7C1DEA2C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1FDE-774F-4056-AAC5-BE0F4C6B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06A0-5C0E-4B94-863F-6EBD54BA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F6D3-CBD7-40C2-8146-A346A49F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11DD-AE89-46A9-831D-A8E16C0F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A6BD-A459-4513-B6F0-F4906FB9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601-9F97-4C21-B909-A33D43A9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C22-DC7A-4315-9663-06ED6715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292-95D7-40F5-AE07-ADDBC6DC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936-1608-4F94-8F13-9466AE29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FC3-BD82-49DC-8B14-9317083D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DC4-8305-4F72-A605-83A91B7A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8CF-9467-4F1D-8E07-64D75B7E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B71B-4046-41F7-A3D3-DB14A2428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26CD-F8CF-4B97-9612-8C864C0242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1828440"/>
            <a:ext cx="8713800" cy="21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история и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русская литература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 века </a:t>
            </a: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TextBox 1"/>
          <p:cNvSpPr/>
          <p:nvPr/>
        </p:nvSpPr>
        <p:spPr>
          <a:xfrm>
            <a:off x="2753280" y="4246560"/>
            <a:ext cx="40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рок литературы в 10 классе. Введ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932360" y="5589720"/>
            <a:ext cx="387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4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4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4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Е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от лат. realis — вещественный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 нового времени, начало которого ведут либо от Возрождения (ренессансный реализм), либо от Просвещения (просветительский реализм), либо с 30-х гг. XIX 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дущие принципы реализма: объективное изображение жизни в сочетании с высотой авторского идеала; воспроизведение типических характеров в типических обстоятельствах при полноте их индивидуализации; жизненная достоверность изображения наряду с использованием условных и фантастических форм; преобладающий интерес к проблеме личности и общ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ндреевич Крыл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69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4" descr="pk_120"/>
          <p:cNvPicPr/>
          <p:nvPr/>
        </p:nvPicPr>
        <p:blipFill>
          <a:blip r:embed="rId1"/>
          <a:stretch/>
        </p:blipFill>
        <p:spPr>
          <a:xfrm>
            <a:off x="2371680" y="549360"/>
            <a:ext cx="4788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Грибоед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0 -1829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4" descr="g_068i"/>
          <p:cNvPicPr/>
          <p:nvPr/>
        </p:nvPicPr>
        <p:blipFill>
          <a:blip r:embed="rId1"/>
          <a:stretch/>
        </p:blipFill>
        <p:spPr>
          <a:xfrm>
            <a:off x="2124000" y="333360"/>
            <a:ext cx="49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Сергеевич Пушкин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9-1837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Picture 3" descr="p_146i"/>
          <p:cNvPicPr/>
          <p:nvPr/>
        </p:nvPicPr>
        <p:blipFill>
          <a:blip r:embed="rId1"/>
          <a:stretch/>
        </p:blipFill>
        <p:spPr>
          <a:xfrm>
            <a:off x="2268360" y="404640"/>
            <a:ext cx="4724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Михаил Юрьевич Лермонт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4-184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3" descr="pl_042"/>
          <p:cNvPicPr/>
          <p:nvPr/>
        </p:nvPicPr>
        <p:blipFill>
          <a:blip r:embed="rId1"/>
          <a:stretch/>
        </p:blipFill>
        <p:spPr>
          <a:xfrm>
            <a:off x="2195640" y="26028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Васильевич Гоголь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9 - 185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7" name="Picture 3" descr="g_040i"/>
          <p:cNvPicPr/>
          <p:nvPr/>
        </p:nvPicPr>
        <p:blipFill>
          <a:blip r:embed="rId1"/>
          <a:stretch/>
        </p:blipFill>
        <p:spPr>
          <a:xfrm>
            <a:off x="2195640" y="333360"/>
            <a:ext cx="4981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55640" y="1599840"/>
            <a:ext cx="8137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о безумной гордости волнует не только обилие талантов, рожденных Россией в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ке, но и поражающее разнообразие их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М.Горьки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франц. romans — повествование) — эпический жанр большой формы, раскрывающий историю нескольких, иногда многих человеческих судеб на протяжении длительного времен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анр романа позволяет передать наиболее глубокие и сложные процессы жизн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Сергеевич Тургене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8-188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Picture 4" descr="pt_114"/>
          <p:cNvPicPr/>
          <p:nvPr/>
        </p:nvPicPr>
        <p:blipFill>
          <a:blip r:embed="rId1"/>
          <a:stretch/>
        </p:blipFill>
        <p:spPr>
          <a:xfrm>
            <a:off x="2124000" y="476280"/>
            <a:ext cx="49183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Иван Александрович Гончаро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2-9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g_048i"/>
          <p:cNvPicPr/>
          <p:nvPr/>
        </p:nvPicPr>
        <p:blipFill>
          <a:blip r:embed="rId1"/>
          <a:stretch/>
        </p:blipFill>
        <p:spPr>
          <a:xfrm>
            <a:off x="2124000" y="40464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Лев Николаевич Толсто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8 – 1910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409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Михайлович Достое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81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5" descr="d03022"/>
          <p:cNvPicPr/>
          <p:nvPr/>
        </p:nvPicPr>
        <p:blipFill>
          <a:blip r:embed="rId1"/>
          <a:stretch/>
        </p:blipFill>
        <p:spPr>
          <a:xfrm>
            <a:off x="2411280" y="189000"/>
            <a:ext cx="454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Драматур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греч. drama, букв. действи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 из основных родов художественной литературы (наряду с эпосом и лирикой). Специфика драмы как рода литературы заключается в том, что она написана в диалогической форме и, как правило, предназначается для постановки на сцен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Николаевич Островский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3 — 1886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1" name="Picture 4" descr="p01156"/>
          <p:cNvPicPr/>
          <p:nvPr/>
        </p:nvPicPr>
        <p:blipFill>
          <a:blip r:embed="rId1"/>
          <a:stretch/>
        </p:blipFill>
        <p:spPr>
          <a:xfrm>
            <a:off x="2700360" y="115920"/>
            <a:ext cx="40132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лександр Васильевич Сухово-Кобылин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17-1903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3" name="Picture 4" descr="ps_222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Николай Алексеевич Некрас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1-1878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Picture 4" descr="pn_019"/>
          <p:cNvPicPr/>
          <p:nvPr/>
        </p:nvPicPr>
        <p:blipFill>
          <a:blip r:embed="rId1"/>
          <a:stretch/>
        </p:blipFill>
        <p:spPr>
          <a:xfrm>
            <a:off x="2050920" y="189000"/>
            <a:ext cx="5176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фанасий Афанасьевич Фет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20-1892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7" name="Picture 5" descr="pf_044"/>
          <p:cNvPicPr/>
          <p:nvPr/>
        </p:nvPicPr>
        <p:blipFill>
          <a:blip r:embed="rId1"/>
          <a:stretch/>
        </p:blipFill>
        <p:spPr>
          <a:xfrm>
            <a:off x="2124000" y="260280"/>
            <a:ext cx="51786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ЛАССИЦ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от лат. classicus — образцовый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иль и направление в литературе и искусстве 17 — нач. 19 вв., обратившиеся к античному наследию как к норме и идеальному образц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Федор Иванович Тютч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 (1803 – 1873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9" name="Picture 3" descr="pt_130"/>
          <p:cNvPicPr/>
          <p:nvPr/>
        </p:nvPicPr>
        <p:blipFill>
          <a:blip r:embed="rId1"/>
          <a:stretch/>
        </p:blipFill>
        <p:spPr>
          <a:xfrm>
            <a:off x="2411280" y="404640"/>
            <a:ext cx="4659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ит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оциально-историческая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Чернышевский, Добролюбов, Писар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«органическая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Григорье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эстетическа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Боткин, Страхов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Антон Павлович Чех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60-190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3" name="Picture 4" descr="pch_045"/>
          <p:cNvPicPr/>
          <p:nvPr/>
        </p:nvPicPr>
        <p:blipFill>
          <a:blip r:embed="rId1"/>
          <a:stretch/>
        </p:blipFill>
        <p:spPr>
          <a:xfrm>
            <a:off x="2484360" y="333360"/>
            <a:ext cx="44989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сновные темы и проблемы русской литературы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XIX 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воб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уховно-нравственные искания человек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обращение к народу в поисках нравственного идеа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ЕНТИМЕНТАЛ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от франц. sentiment — чувство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чение в европейской и американской литературе и искусстве 2-й пол. 18 — нач. 19 вв. Отталкиваясь от просветительского рационализма, объявил доминантой «человеческой природы» не разум, а чувство, и путь к идеально-нормативной личности искал в высвобождении и совершенствовании «естественных» чувст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ОМАНТИЗ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07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франц. romantis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8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удожественный метод, сложившийся в начале XIX в. и получивший широкое распространение как направление в искусстве и литературе. Для романтизма характерен особый интерес к личности, характеру ее отношения к окружающей действительности, а также противопоставление реальному миру идеального. Стремление художника выразить свое отношение к изображаемому преобладает над точностью передачи действительных фактов, что придает художественному произведению повышенную эмоциональность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Василий Андреевич Жуков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3-1852)</a:t>
            </a: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5" descr="Жуковский"/>
          <p:cNvPicPr/>
          <p:nvPr/>
        </p:nvPicPr>
        <p:blipFill>
          <a:blip r:embed="rId1"/>
          <a:stretch/>
        </p:blipFill>
        <p:spPr>
          <a:xfrm>
            <a:off x="2195640" y="333360"/>
            <a:ext cx="4721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36264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стантин Николаевич Батюшков 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87-1855)</a:t>
            </a:r>
            <a:br>
              <a:rPr sz="4000"/>
            </a:br>
            <a:br>
              <a:rPr sz="40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5" descr="pb_020"/>
          <p:cNvPicPr/>
          <p:nvPr/>
        </p:nvPicPr>
        <p:blipFill>
          <a:blip r:embed="rId1"/>
          <a:stretch/>
        </p:blipFill>
        <p:spPr>
          <a:xfrm>
            <a:off x="2484360" y="476280"/>
            <a:ext cx="446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02136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Кондратий Федорович Рылеев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795-1826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4" descr="r03024i"/>
          <p:cNvPicPr/>
          <p:nvPr/>
        </p:nvPicPr>
        <p:blipFill>
          <a:blip r:embed="rId1"/>
          <a:stretch/>
        </p:blipFill>
        <p:spPr>
          <a:xfrm>
            <a:off x="2340000" y="620640"/>
            <a:ext cx="4594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609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Евгений Абрамович Баратынский</a:t>
            </a:r>
            <a:br>
              <a:rPr sz="2400"/>
            </a:b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(1800-1844)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4" descr="pb_236"/>
          <p:cNvPicPr/>
          <p:nvPr/>
        </p:nvPicPr>
        <p:blipFill>
          <a:blip r:embed="rId1"/>
          <a:stretch/>
        </p:blipFill>
        <p:spPr>
          <a:xfrm>
            <a:off x="2124000" y="333360"/>
            <a:ext cx="50468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6:58:17Z</dcterms:created>
  <dc:creator>User</dc:creator>
  <dc:description/>
  <dc:language>en-US</dc:language>
  <cp:lastModifiedBy>Мама</cp:lastModifiedBy>
  <dcterms:modified xsi:type="dcterms:W3CDTF">2012-10-14T03:12:38Z</dcterms:modified>
  <cp:revision>5</cp:revision>
  <dc:subject/>
  <dc:title>Русская литература XIX века  в контексте  мировой культуры</dc:title>
</cp:coreProperties>
</file>