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D16C-2D16-41BF-9362-CF606FEFB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5688-0E62-498C-9CF9-ADE514B9D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5B1A-C669-4E88-BA4B-A842466CE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1C19-E414-4B0B-BB33-1F28634C3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E1B03-2EA1-4B40-BF11-3BE182AF2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8E5FF-13DA-49C4-A375-8C4D9B876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D9BED-8003-42BE-B101-7BB03D3B3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F2BE6-79A3-4EFA-925E-72A37885E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3C700-FD24-42D1-9299-8479050EB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E13BB-A5FD-4218-B359-772A73521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B2CC6-C5F9-4DA9-92FC-385501B24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26F5-D0BE-40E9-9B7E-84DC66204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0D405-7470-4E19-BB51-659D2769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276D7-7D29-44B3-8DE0-FEB1152B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FC93B-0294-4239-9A1D-29848FFCF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C1C34-68E3-4002-818E-C9337B7BD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62BAA-5D9A-4391-84B4-9B637ADF9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F66B-AEE3-4A31-87BA-3ABBF9C7B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8012-AA56-40D5-ADA8-D6515E785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49F0-34FC-4579-A10B-285A7D8FD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EF21-1785-4B11-87F1-7EE33470B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984E-980C-4844-BAE8-17FEDE581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0F2A-9DF7-4C2F-B406-94C858516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AC02-8EB8-4685-BD9D-09A70AFA2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65375-DD45-4BC4-8675-6C5D309ACED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BABC3-1CD0-47AA-A85E-48C0CF88B52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258,3,&#1058;&#1077;&#1084;&#1072; &#1089;&#1090;&#1080;&#1093;&#1086;&#1090;&#1074;&#1086;&#1088;&#1077;&#1085;&#1080;&#1103;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259,5,&#1054;&#1089;&#1085;&#1086;&#1074;&#1085;&#1072;&#1103; &#1084;&#1099;&#1089;&#1083;&#1100; (&#1080;&#1076;&#1077;&#1103;)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260,7,&#1048;&#1079;&#1086;&#1073;&#1088;&#1072;&#1079;&#1080;&#1090;&#1077;&#1083;&#1100;&#1085;&#1086;-&#1074;&#1099;&#1088;&#1072;&#1079;&#1080;&#1090;&#1077;&#1083;&#1100;&#1085;&#1099;&#1077; &#1089;&#1088;&#1077;&#1076;&#1089;&#1090;&#1074;&#1072;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1280" y="1484280"/>
            <a:ext cx="777384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Анализ 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стихотворени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Box 1"/>
          <p:cNvSpPr/>
          <p:nvPr/>
        </p:nvSpPr>
        <p:spPr>
          <a:xfrm>
            <a:off x="4932360" y="5589720"/>
            <a:ext cx="382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Хвощевская Лариса Михайл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учитель русского языка и литер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МОСШ п.Верхнеказым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4"/>
          <p:cNvSpPr/>
          <p:nvPr/>
        </p:nvSpPr>
        <p:spPr>
          <a:xfrm>
            <a:off x="250920" y="258840"/>
            <a:ext cx="8497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РНЫЙ ПЛАН АНАЛИ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ИРИЧЕСКОГО ПРОИЗ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ru-RU" sz="3200" spc="-1" strike="noStrike" u="sng">
                <a:solidFill>
                  <a:srgbClr val="996666"/>
                </a:solidFill>
                <a:uFillTx/>
                <a:latin typeface="Times New Roman"/>
                <a:hlinkClick r:id="rId1"/>
              </a:rPr>
              <a:t>Тем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Идея (основная мысль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Каков основной мотив стихотворения (основное настроение поэта, чувство, которое он испытывал во время его написания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Какими средствами выразительности и изобразительности создается образ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. Что особенно привлекает ваше внимание в произведении? Почему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Тема стихотворения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о чем (или о ком) говорится в стихотворен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чень часто тема отражается в заглав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250920" y="258840"/>
            <a:ext cx="8497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РНЫЙ ПЛАН АНАЛИ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ИРИЧЕСКОГО ПРОИЗ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Те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ru-RU" sz="3200" spc="-1" strike="noStrike" u="sng">
                <a:solidFill>
                  <a:srgbClr val="996666"/>
                </a:solidFill>
                <a:uFillTx/>
                <a:latin typeface="Times New Roman"/>
                <a:hlinkClick r:id="rId1"/>
              </a:rPr>
              <a:t>Идея (основная мысль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Каков основной мотив стихотворения (основное настроение поэта, чувство, которое он испытывал во время его написания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Какими средствами выразительности и изобразительности создается образ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. Что особенно привлекает ваше внимание в произведении? Почему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Основная мысль (идея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а та мысль, которую хотел донести автор стихотворения до читателя (слушател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дея может быть выражена в заглавии или в какой-нибудь строке стихотворения. Но чаще всего её надо «найти» и сформулиро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250920" y="258840"/>
            <a:ext cx="8497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РНЫЙ ПЛАН АНАЛИ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ИРИЧЕСКОГО ПРОИЗ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Те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Идея (основная мысль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Каков основной мотив стихотворения (основное настроение поэта, чувство, которое он испытывал во время его написания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ru-RU" sz="3200" spc="-1" strike="noStrike" u="sng">
                <a:solidFill>
                  <a:srgbClr val="996666"/>
                </a:solidFill>
                <a:uFillTx/>
                <a:latin typeface="Times New Roman"/>
                <a:hlinkClick r:id="rId1"/>
              </a:rPr>
              <a:t>Какими средствами выразительности и изобразительности создается образ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. Что особенно привлекает ваше внимание в произведении? Почему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Изобразительно-выразительные средства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пите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ав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аф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лицетвор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тите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ллитер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иперб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250920" y="258840"/>
            <a:ext cx="8497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РНЫЙ ПЛАН АНАЛИ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ИРИЧЕСКОГО ПРОИЗ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Те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Идея (основная мысль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Каков основной мотив стихотворения (основное настроение поэта, чувство, которое он испытывал во время его написания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Какими средствами выразительности и изобразительности создается образ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. Что особенно привлекает ваше внимание в произведении? Почему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3T17:43:39Z</dcterms:created>
  <dc:creator>User</dc:creator>
  <dc:description/>
  <dc:language>en-US</dc:language>
  <cp:lastModifiedBy>Лариса</cp:lastModifiedBy>
  <dcterms:modified xsi:type="dcterms:W3CDTF">2012-10-14T02:42:57Z</dcterms:modified>
  <cp:revision>3</cp:revision>
  <dc:subject/>
  <dc:title>Анализ  стихотворения</dc:title>
</cp:coreProperties>
</file>