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F188-2C99-4D99-9CF8-8AEABB40B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3245-7E97-454C-9293-1BAC744C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C961-6A3E-48C2-8666-FDB2A4C25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0907-D1D0-4B13-882A-B69726EBC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D83CA-8374-475F-B10E-9C7DFB174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57683-64C4-429F-B05C-D52607634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6DF6-943C-412D-8607-AF1E9F6D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5B2B-77FF-4916-AA82-E4698395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F037-1898-4264-919E-F193AFFA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F6BC-82FB-4E36-A386-84D2E879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DF02-42ED-42C4-B302-87B6C12E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69FD-DF01-43D1-97C7-D4DD0D60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5657-63E2-4771-AFA1-6FFC4321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BD84-E839-4982-8571-E4B954A0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7B69-C21C-423E-9B55-A6192C2A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2DA0-DF75-430E-A7B6-B0484ABA4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283F6-2584-4D7A-91A4-82926E387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7D8D-326C-4AE0-AD95-98C02B5D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9C2A-BA3A-4CD5-8A70-839594BE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2E72-476B-466E-AC73-4D2B60BF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76CC-0D13-45AE-B880-F5D5DB5F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A1FB-7E55-421E-8811-038D3226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DFEE-179D-4BF7-A6C6-16DE3581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988B-3B1D-48F7-95C5-15A42E28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FC46-C1C8-4462-9144-CFBA3E4C910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1057-D76A-4DD8-A979-534FD8BB931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258,3,&#1058;&#1077;&#1084;&#1072; &#1089;&#1090;&#1080;&#1093;&#1086;&#1090;&#1074;&#1086;&#1088;&#1077;&#1085;&#1080;&#1103;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259,5,&#1054;&#1089;&#1085;&#1086;&#1074;&#1085;&#1072;&#1103; &#1084;&#1099;&#1089;&#1083;&#1100; (&#1080;&#1076;&#1077;&#1103;)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260,7,&#1048;&#1079;&#1086;&#1073;&#1088;&#1072;&#1079;&#1080;&#1090;&#1077;&#1083;&#1100;&#1085;&#1086;-&#1074;&#1099;&#1088;&#1072;&#1079;&#1080;&#1090;&#1077;&#1083;&#1100;&#1085;&#1099;&#1077; &#1089;&#1088;&#1077;&#1076;&#1089;&#1090;&#1074;&#1072;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384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Анализ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стихотворен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1"/>
          <p:cNvSpPr/>
          <p:nvPr/>
        </p:nvSpPr>
        <p:spPr>
          <a:xfrm>
            <a:off x="4932360" y="5589720"/>
            <a:ext cx="382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Хвощевская Лариса Михай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учитель русского языка и 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МОСШ п.Верхнеказым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250920" y="258840"/>
            <a:ext cx="8497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НЫЙ ПЛАН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РИЧЕСКОГО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3200" spc="-1" strike="noStrike" u="sng">
                <a:solidFill>
                  <a:srgbClr val="996666"/>
                </a:solidFill>
                <a:uFillTx/>
                <a:latin typeface="Times New Roman"/>
                <a:hlinkClick r:id="rId1"/>
              </a:rPr>
              <a:t>Тем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Идея (основная мысл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Каков основной мотив стихотворения (основное настроение поэта, чувство, которое он испытывал во время его написания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Какими средствами выразительности и изобразительности создается обра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Что особенно привлекает ваше внимание в произведении? Почем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Тема стихотворе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о чем (или о ком) говорится в стихотворен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чень часто тема отражается в заглав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250920" y="258840"/>
            <a:ext cx="8497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НЫЙ ПЛАН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РИЧЕСКОГО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Т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3200" spc="-1" strike="noStrike" u="sng">
                <a:solidFill>
                  <a:srgbClr val="996666"/>
                </a:solidFill>
                <a:uFillTx/>
                <a:latin typeface="Times New Roman"/>
                <a:hlinkClick r:id="rId1"/>
              </a:rPr>
              <a:t>Идея (основная мысл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Каков основной мотив стихотворения (основное настроение поэта, чувство, которое он испытывал во время его написания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Какими средствами выразительности и изобразительности создается обра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Что особенно привлекает ваше внимание в произведении? Почем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сновная мысль (идея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 та мысль, которую хотел донести автор стихотворения до читателя (слушател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дея может быть выражена в заглавии или в какой-нибудь строке стихотворения. Но чаще всего её надо «найти» и сформулир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250920" y="258840"/>
            <a:ext cx="8497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НЫЙ ПЛАН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РИЧЕСКОГО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Т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Идея (основная мысл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Каков основной мотив стихотворения (основное настроение поэта, чувство, которое он испытывал во время его написания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ru-RU" sz="3200" spc="-1" strike="noStrike" u="sng">
                <a:solidFill>
                  <a:srgbClr val="996666"/>
                </a:solidFill>
                <a:uFillTx/>
                <a:latin typeface="Times New Roman"/>
                <a:hlinkClick r:id="rId1"/>
              </a:rPr>
              <a:t>Какими средствами выразительности и изобразительности создается обра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Что особенно привлекает ваше внимание в произведении? Почем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Изобразительно-выразительные средств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пит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аф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лицетво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тит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литер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перб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250920" y="258840"/>
            <a:ext cx="8497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НЫЙ ПЛАН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РИЧЕСКОГО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Т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Идея (основная мысл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Каков основной мотив стихотворения (основное настроение поэта, чувство, которое он испытывал во время его написания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Какими средствами выразительности и изобразительности создается обра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Что особенно привлекает ваше внимание в произведении? Почем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7:43:39Z</dcterms:created>
  <dc:creator>User</dc:creator>
  <dc:description/>
  <dc:language>en-US</dc:language>
  <cp:lastModifiedBy>Лариса</cp:lastModifiedBy>
  <dcterms:modified xsi:type="dcterms:W3CDTF">2012-10-14T02:42:57Z</dcterms:modified>
  <cp:revision>3</cp:revision>
  <dc:subject/>
  <dc:title>Анализ  стихотворения</dc:title>
</cp:coreProperties>
</file>