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E0DC-AECF-41CC-BD8B-ACA6F5511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4FA2-06C1-4BA1-8E31-D17B8FD7E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D0B2-B603-4238-A9A7-A1585FCBF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56A3-1572-4D28-9780-2E0370EFD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404D2-C9C5-47C6-87A9-7767300ED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C10CB-53BF-47AF-ABFD-E9635A74E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D1517-73EF-475A-B3D8-5E8D7637B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D2CCA-21A7-4E24-BCE0-BCF809075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21A49-F5AC-458F-9473-37FE26B54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2A3C9-0DC3-4624-B14B-772A36455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BD541-0162-4CC2-B1A6-15F21255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45A5-F755-486C-B2A1-1F2E3D56C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3B807-C370-44E6-9F23-E6C0160FF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74948-A61F-4B06-A358-5082836C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DEB22-AB86-4B1F-AA31-818F6349E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639EA-72A8-417C-81C1-C295B2FD0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8992B-1D85-42C2-8C75-BCE7CA625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662C-2DCB-4A54-A935-283EB8CB6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4FF3-C82B-412C-9B87-8D1E7381C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42F4-C9D1-4D7B-9C58-4DF06E42D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2750-5228-490F-882E-10E6C5675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3F4A-CD94-4075-BAD7-B76F5522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D316-1ACD-412B-9E3A-FF08350E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A4AC-5FDD-4AF9-9DE9-84330DAB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FF3D9-DA22-4B76-B224-75F34DBF438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C8CD4-1660-4FFF-947D-7BC6EFF6DAC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258,3,&#1058;&#1077;&#1084;&#1072; &#1089;&#1090;&#1080;&#1093;&#1086;&#1090;&#1074;&#1086;&#1088;&#1077;&#1085;&#1080;&#1103;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259,5,&#1054;&#1089;&#1085;&#1086;&#1074;&#1085;&#1072;&#1103; &#1084;&#1099;&#1089;&#1083;&#1100; (&#1080;&#1076;&#1077;&#1103;)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260,7,&#1048;&#1079;&#1086;&#1073;&#1088;&#1072;&#1079;&#1080;&#1090;&#1077;&#1083;&#1100;&#1085;&#1086;-&#1074;&#1099;&#1088;&#1072;&#1079;&#1080;&#1090;&#1077;&#1083;&#1100;&#1085;&#1099;&#1077; &#1089;&#1088;&#1077;&#1076;&#1089;&#1090;&#1074;&#1072;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1484280"/>
            <a:ext cx="777384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Анализ 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стихотворени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Box 1"/>
          <p:cNvSpPr/>
          <p:nvPr/>
        </p:nvSpPr>
        <p:spPr>
          <a:xfrm>
            <a:off x="4932360" y="5589720"/>
            <a:ext cx="382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Хвощевская Лариса Михайл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учитель русского языка и литер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МОСШ п.Верхнеказым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250920" y="258840"/>
            <a:ext cx="8497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НЫЙ ПЛАН АНА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ИРИЧЕСКОГО ПРОИЗ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ru-RU" sz="3200" spc="-1" strike="noStrike" u="sng">
                <a:solidFill>
                  <a:srgbClr val="996666"/>
                </a:solidFill>
                <a:uFillTx/>
                <a:latin typeface="Times New Roman"/>
                <a:hlinkClick r:id="rId1"/>
              </a:rPr>
              <a:t>Тем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Идея (основная мысл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Каков основной мотив стихотворения (основное настроение поэта, чувство, которое он испытывал во время его написания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Какими средствами выразительности и изобразительности создается обра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. Что особенно привлекает ваше внимание в произведении? Почем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Тема стихотворения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о чем (или о ком) говорится в стихотворен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чень часто тема отражается в заглав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250920" y="258840"/>
            <a:ext cx="8497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НЫЙ ПЛАН АНА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ИРИЧЕСКОГО ПРОИЗ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Те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ru-RU" sz="3200" spc="-1" strike="noStrike" u="sng">
                <a:solidFill>
                  <a:srgbClr val="996666"/>
                </a:solidFill>
                <a:uFillTx/>
                <a:latin typeface="Times New Roman"/>
                <a:hlinkClick r:id="rId1"/>
              </a:rPr>
              <a:t>Идея (основная мысл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Каков основной мотив стихотворения (основное настроение поэта, чувство, которое он испытывал во время его написания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Какими средствами выразительности и изобразительности создается обра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. Что особенно привлекает ваше внимание в произведении? Почем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сновная мысль (идея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а та мысль, которую хотел донести автор стихотворения до читателя (слушател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дея может быть выражена в заглавии или в какой-нибудь строке стихотворения. Но чаще всего её надо «найти» и сформулир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250920" y="258840"/>
            <a:ext cx="8497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НЫЙ ПЛАН АНА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ИРИЧЕСКОГО ПРОИЗ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Те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Идея (основная мысл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Каков основной мотив стихотворения (основное настроение поэта, чувство, которое он испытывал во время его написания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ru-RU" sz="3200" spc="-1" strike="noStrike" u="sng">
                <a:solidFill>
                  <a:srgbClr val="996666"/>
                </a:solidFill>
                <a:uFillTx/>
                <a:latin typeface="Times New Roman"/>
                <a:hlinkClick r:id="rId1"/>
              </a:rPr>
              <a:t>Какими средствами выразительности и изобразительности создается обра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. Что особенно привлекает ваше внимание в произведении? Почем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Изобразительно-выразительные средства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пит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ав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аф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лицетво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тите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ллитер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иперб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250920" y="258840"/>
            <a:ext cx="8497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НЫЙ ПЛАН АНА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ИРИЧЕСКОГО ПРОИЗ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Те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Идея (основная мысл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Каков основной мотив стихотворения (основное настроение поэта, чувство, которое он испытывал во время его написания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Какими средствами выразительности и изобразительности создается обра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. Что особенно привлекает ваше внимание в произведении? Почем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3T17:43:39Z</dcterms:created>
  <dc:creator>User</dc:creator>
  <dc:description/>
  <dc:language>en-US</dc:language>
  <cp:lastModifiedBy>Лариса</cp:lastModifiedBy>
  <dcterms:modified xsi:type="dcterms:W3CDTF">2012-10-14T02:42:57Z</dcterms:modified>
  <cp:revision>3</cp:revision>
  <dc:subject/>
  <dc:title>Анализ  стихотворения</dc:title>
</cp:coreProperties>
</file>