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937-B3FB-45DA-8B94-C40124B9F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029-F77D-43B0-BAFF-70C305E5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40B-10DC-4FD3-8DAC-770B4331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1C5-E4F6-4FC3-8EA5-4B56E66A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ABB5-7A82-4D95-BD66-B6EFB023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1ADF-9BEB-496D-91A1-C6DD3E68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FD37-53DA-43C0-995B-1F790CA0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F1B8-77A9-4FBC-8FCB-4956DB1D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F499-BE54-4387-A51E-40AC7161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55FB-F88F-421A-BF77-F6AA667D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3107-60BD-4247-A2DD-3DB0A2C4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AC8-AE0E-403E-BA46-BA58716E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824D-457E-4DE8-8D12-AA963046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4553-59BA-454D-939D-DFB63F2B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81C2-2183-43E2-B297-2233DB0B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AC02-6CEA-49D9-8722-135F2BFC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00E4-0D8A-4F0C-B4C6-60E29D68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CAC-05D0-45C3-AD2A-82182B13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CBA-40F9-4608-B274-8BD589C8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972-8459-4779-9E6C-CCD571F8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316-470D-4212-B5BE-9C9B0960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F0BD-D7CD-4CF3-8BCA-7761E993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DBD-58F5-4868-88E3-BE64F33F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E29-4E16-4436-AA2B-613C5B88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96E1-F5F0-4930-A90B-2D92381BE9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FE21-DD3B-4E49-9156-192849730F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1058;&#1077;&#1084;&#1072; &#1089;&#1090;&#1080;&#1093;&#1086;&#1090;&#1074;&#1086;&#1088;&#1077;&#1085;&#1080;&#1103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9,5,&#1054;&#1089;&#1085;&#1086;&#1074;&#1085;&#1072;&#1103; &#1084;&#1099;&#1089;&#1083;&#1100; (&#1080;&#1076;&#1077;&#1103;)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0,7,&#1048;&#1079;&#1086;&#1073;&#1088;&#1072;&#1079;&#1080;&#1090;&#1077;&#1083;&#1100;&#1085;&#1086;-&#1074;&#1099;&#1088;&#1072;&#1079;&#1080;&#1090;&#1077;&#1083;&#1100;&#1085;&#1099;&#1077; &#1089;&#1088;&#1077;&#1076;&#1089;&#1090;&#1074;&#1072;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3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нализ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тихотвор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4932360" y="55897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читель русского языка и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ма стихотвор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 чем (или о ком) говорится в стихотв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часто тема отражается в заглав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новная мысль (идея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та мысль, которую хотел донести автор стихотворения до читателя (слушате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я может быть выражена в заглавии или в какой-нибудь строке стихотворения. Но чаще всего её надо «найти» и сформу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образительно-выразительные средст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лит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39Z</dcterms:created>
  <dc:creator>User</dc:creator>
  <dc:description/>
  <dc:language>en-US</dc:language>
  <cp:lastModifiedBy>Лариса</cp:lastModifiedBy>
  <dcterms:modified xsi:type="dcterms:W3CDTF">2012-10-14T02:42:57Z</dcterms:modified>
  <cp:revision>3</cp:revision>
  <dc:subject/>
  <dc:title>Анализ  стихотворения</dc:title>
</cp:coreProperties>
</file>