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D5B0-F0AF-41FD-B70D-DD3AA1704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59F0-1FDC-4A7F-9862-BACC4F2F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97B-BAB8-4A67-A21E-164EE8D2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D20-A56D-4E68-A3DE-CBAEAE34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C5E0-47A6-4BEC-8894-0F73B04E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CEB-ED7C-444A-8960-97BC923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262-862F-4E33-8C32-6242C1EC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CA62-CB3E-451B-AD1D-47FF4C2C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7AA-E724-4AD0-83C4-49110F22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9576-CFCD-44EC-B475-246343C0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54CA-A213-4032-A608-588418505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C66-688D-4C81-9CA0-2EB95345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2942-0C2C-40F5-A2FD-1184B541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FF02-3D69-4B24-9AD6-F964CAEC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CD3A-305B-44AC-928A-EFF1F1C4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B2C0-61EC-407A-9960-6982A538A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A08E-FA3B-47B9-A75A-2EE151A5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977-B3D5-4F31-A294-136FF797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E85C-6512-4BEF-8828-A6A48B01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923-6BEF-4027-AB78-3B8E4762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DFA-0FD6-48C5-AE2B-5D3E3C86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E0C-1EBD-4988-900A-92F2FCAA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CB9-1D74-45FA-8B54-5064A09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1DD-6225-4606-8D8C-C9BDEE8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E9BD-2A23-4001-BAC7-051CE619EF7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5C28-E68E-48BF-BE73-9DE5294C70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58,3,&#1058;&#1077;&#1084;&#1072; &#1089;&#1090;&#1080;&#1093;&#1086;&#1090;&#1074;&#1086;&#1088;&#1077;&#1085;&#1080;&#1103;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59,5,&#1054;&#1089;&#1085;&#1086;&#1074;&#1085;&#1072;&#1103; &#1084;&#1099;&#1089;&#1083;&#1100; (&#1080;&#1076;&#1077;&#1103;)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260,7,&#1048;&#1079;&#1086;&#1073;&#1088;&#1072;&#1079;&#1080;&#1090;&#1077;&#1083;&#1100;&#1085;&#1086;-&#1074;&#1099;&#1088;&#1072;&#1079;&#1080;&#1090;&#1077;&#1083;&#1100;&#1085;&#1099;&#1077; &#1089;&#1088;&#1077;&#1076;&#1089;&#1090;&#1074;&#1072;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3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Анализ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стихотворени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1"/>
          <p:cNvSpPr/>
          <p:nvPr/>
        </p:nvSpPr>
        <p:spPr>
          <a:xfrm>
            <a:off x="4932360" y="5589720"/>
            <a:ext cx="382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Хвощевская Ларис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учитель русского языка и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cc"/>
                </a:solidFill>
                <a:latin typeface="Times New Roman"/>
                <a:ea typeface="Times New Roman"/>
              </a:rPr>
              <a:t>МОСШ п.Верхнеказым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Тема стихотворе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о чем (или о ком) говорится в стихотв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чень часто тема отражается в заглав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сновная мысль (идея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та мысль, которую хотел донести автор стихотворения до читателя (слушате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дея может быть выражена в заглавии или в какой-нибудь строке стихотворения. Но чаще всего её надо «найти» и сформу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3200" spc="-1" strike="noStrike" u="sng">
                <a:solidFill>
                  <a:srgbClr val="996666"/>
                </a:solidFill>
                <a:uFillTx/>
                <a:latin typeface="Times New Roman"/>
                <a:hlinkClick r:id="rId1"/>
              </a:rPr>
              <a:t>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Изобразительно-выразительные средства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т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ф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лицетво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лит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50920" y="258840"/>
            <a:ext cx="8497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НЫЙ ПЛАН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Идея (основная мысль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Каков основной мотив стихотворения (основное настроение поэта, чувство, которое он испытывал во время его написания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Какими средствами выразительности и изобразительности создается образ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. Что особенно привлекает ваше внимание в произведении? Почем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7:43:39Z</dcterms:created>
  <dc:creator>User</dc:creator>
  <dc:description/>
  <dc:language>en-US</dc:language>
  <cp:lastModifiedBy>Лариса</cp:lastModifiedBy>
  <dcterms:modified xsi:type="dcterms:W3CDTF">2012-10-14T02:42:57Z</dcterms:modified>
  <cp:revision>3</cp:revision>
  <dc:subject/>
  <dc:title>Анализ  стихотворения</dc:title>
</cp:coreProperties>
</file>