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5FC-10E7-4608-B87E-D4D9B25B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5DE-66BB-4021-80B7-7DDAB2B9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C10-A40A-4289-8F4A-B7580A3E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99D-021A-4F46-8296-275710CE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204D-1160-4B8A-8C33-02EBABCD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C9FD-6605-4F53-B289-D6FC9528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AAFB-D0EF-4C90-A31F-502DF0C0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1B09-67FD-49E8-8ED6-0DB16415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E274-BCCA-4189-BEFF-086EB551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1004-EAA9-4729-B395-EA3297C9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747E-DF02-48CB-B8F5-6257677A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4F4-B6FA-4CFE-9402-EBF76AD5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C60D-837D-4043-A045-3152CA79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0E9A-163E-4310-A8E9-5E7F2F25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4716-D113-486A-BF2C-BD1F2A60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91F3-0DDC-43CA-94AF-07B185A6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0497-2A93-424E-82B9-33A95FFE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325F-3E7E-4624-A722-6A2EA998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DD1F-6A07-4910-AE6F-7140B75A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721C-B0B8-4475-B153-9464AE6E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467C9-35FD-4E73-B378-062D0851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9D867-DD16-4215-A40B-A750E9D1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BEA-AE48-4E6F-BDD3-3572D970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059D-B4D3-4ED3-8001-7C7DE8D8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4DEB-7CE0-4985-8268-34EE7DF6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C6B3-B15F-4931-9F0C-B21F3825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57310-0B93-4031-9AD7-8D5F14DB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B933-DD63-4D37-8AD6-A2A983E8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3041E-2C4A-49DE-B877-367F584A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E434-C8C7-4B43-B1EF-5574A82F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8A498-6908-4B32-B185-145594BF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9C7DB-65D3-4427-81F5-A71D4D1C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2D82-335A-475E-AF74-C587D0C3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611-CF76-4D29-920A-2C3D9608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F1025-19E4-415B-9CCD-9D7BC1EC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2EE36-628F-48DB-8BA4-5DB384AD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743F-BBD7-4BC2-99D2-5311D433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53DF-F965-4BDE-AD37-F7E35D97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6C3DC-A5C8-4B3F-B38C-4D228813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0D222-25BC-4167-A682-0CF2EF2F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C7F0F-C95C-48A5-9508-155BA106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884A2-A4E8-4413-AC48-A03EFCB4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5649C-62A7-46CA-ACCC-4602050D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D52FD-DE35-4989-A436-5309F3B2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791-57DA-42C6-9FE3-470ABA3F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B08E9-60C4-4E8B-B213-0E36CA42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7CD50-133B-4554-9B5C-CF1AD55E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42B95-10AF-4DB0-9133-0916FFFD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91431-8E29-4161-8676-D168F7DD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9D03E-1466-4397-AC85-4C2ADE75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4D6DB-69A2-4BF9-BCB9-A4381AE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1CFE3-58FF-4FDB-9B48-6DF0ADE1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ED3A0-6EC4-4881-AA5A-968C0461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B6952-3B14-4F8B-8F2E-B0281427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047D6-F71E-4D07-B202-AB99C5B0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D21-E4A1-4EC9-BDC4-500B458F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F6393-3706-43FA-B2CA-28F5189E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45E-2BD5-46D6-95BE-1DBAA2A9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12A-6260-492B-9B9B-BEF6709F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315-4A96-4BAD-97D6-69962499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AD7F-7185-485F-8496-AD8F6369D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77B9-12B1-4CDB-80E1-0D6416140AE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B77D-4CCA-45BD-8A7E-9954E127C5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DFD4-B64A-466E-9D51-C4C98C1F3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7381-8A5D-4191-903F-7D9F270CDC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втор: Ошнокова Ася Герихановна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русского языка и литературы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КОУ «СОШ им. Х. Х. Долова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. п. Хатуей Лескенского района КБР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Шутки Гоголя, которых передать нет никакой возможности, были так оригинальны и забавны, что неудержимый смех одолевал всех, кто его слушал; сам же он всегда шутил, не улыбаясь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. Т. Аксаков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ак упоительны, как роскошны, как необыкновенно притягательны повести неведомого в Санкт-Петербурге пасичника Рудого Панька». Они изумили меня. Вот настоящая веселость, искренняя, непринужденная, без жеманства, без чопорности. А все это так необыкновенно в нашей нынешней литературе, что я доселе не образумился», - писал А. С. Пушкин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оль высоко оцененные Пушкиным повести под названием «Вечера на хуторе близ Диканьки» вышли в 1831 году, а их автор обитал в ту пору  в Павловске, неподалеку от Пушкина, проводившего лето в Царском Селе. Было молодому и враз ставшему известным Н. В. Гоголю 22 года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весть Н. В. Гоголя «Ночь перед Рождеством» вошла в цикл ранних его повестей под общим названием «Вечера на хуторе близ Диканьки»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Ночь перед Рождеством» есть целая, полная картина домашней жизни народа, его маленьких горестей, словом, тут вся поэзия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. Г. Белин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5"/>
          <p:cNvSpPr txBox="1"/>
          <p:nvPr/>
        </p:nvSpPr>
        <p:spPr>
          <a:xfrm>
            <a:off x="1619280" y="1125360"/>
            <a:ext cx="61214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 Брейн-ринг 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1. Что ведьма собирала в рукав в ночь перед Рождеством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2. Как ведьма и черт попали в хат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3. Кто и зачем украл месяц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4. За что черт мстил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5. Сколько лет было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6. Какой подарок готовил кузнец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7. Как звали ведьму, и кем она приходилась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00720" y="47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Звезд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ез труб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т, чтобы устроить мелкую пакость кузнецу Вакуле: по темноте Чуб – отец Оксаны никуда не уйдет из дому, и свидание не состоит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Кузнец намалевал в церкви картину Страшного суда, где бедного черта били чем ни попад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6-1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ундук с железной оковкой и роспис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олоха, мать кузнеца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1716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8. Почему из всех своих ухажеров Солоха предпочитала Чуб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9. Как случилось, что кузнец поколотил Чуба, отца Оксаны, и выгнал его из его собственного дом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10. Какое условие кузнецу поставила Оксана, согласившись выйти за него замуж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Чуб был богат, хозяйство содержал в порядке, хоть и не молод был, но еще в добром здравии, а самое главное – был вдов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был раздражен тем, что кто-то помешал его беседе с Оксаной, Чуба он не узнал, а тот, смущённый резкостью тона Вакулы, решил, что попал в чужую х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должен был достать ей «черевики, которые сама царица </a:t>
            </a: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носит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47200" y="5239800"/>
            <a:ext cx="389124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1. Что такое колядование</a:t>
            </a: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27640" y="508428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Праздничный обряд под Рождество: игры, хороводы, пение песен величальных и хождение по дворам, за что хозяева одаривали чем-нибудь вкусны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6" descr="docu0009"/>
          <p:cNvPicPr/>
          <p:nvPr/>
        </p:nvPicPr>
        <p:blipFill>
          <a:blip r:embed="rId2"/>
          <a:stretch/>
        </p:blipFill>
        <p:spPr>
          <a:xfrm>
            <a:off x="2627280" y="71280"/>
            <a:ext cx="3448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2. Кто угодил в мешки в избе Солох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3. Кто такой Пузатый Пацюк, почему именно к нему Вакула пошёл за помощью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4. Что ел Пузатый Пацюк во время разговора с Вакулой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5. Как можно укротить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6. Куда отправился Вакула, попав в Санкт-Петербург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Чёрт, голова, дьяк, Ч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узатый Пацюк был когда-то запорожцем, а  ещё знался, по всеобщему мнению, с нечистой сил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Галушки, вареники со смета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рестным знам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 знакомым запорожцам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95280" y="5589720"/>
            <a:ext cx="403848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7. Почему царица благосклонно отнеслась к просьбе Вакулы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5589720"/>
            <a:ext cx="40388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Ей понравилось простодушие и откровенность кузнеца, да и собой он был статен и пригож.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7" descr="docu0008"/>
          <p:cNvPicPr/>
          <p:nvPr/>
        </p:nvPicPr>
        <p:blipFill>
          <a:blip r:embed="rId2"/>
          <a:stretch/>
        </p:blipFill>
        <p:spPr>
          <a:xfrm>
            <a:off x="2549520" y="189000"/>
            <a:ext cx="40449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8. Как запорожцы называли цариц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9. Какой слух прошёл после исчезновения кузнец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. Что стало с Оксаной, когда кузнец проп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1. Как кузнец сватал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2. Как кузнец  «отблагодарил»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«Мам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ошли слухи о его смер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на «к утру влюбилась в кузнеца по уш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ринёс Чубу новёхонькую шапку и красивый пояс, повалился в ноги и сказал: «Помилуй, батько! Не гневись! Вот тебе и нагайка, бей, сколько душа пожелает…Отдай, батько, за меня Оксану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твесил чёрту три удара хворостиной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457200" y="-122400"/>
            <a:ext cx="8001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рок-игра по повести Н. В. 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 Ночь перед Рождеством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819520" y="46483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 клас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1116000" y="119700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Словарик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п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абл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уб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л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утре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ть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краинский тане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енский головной убо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ен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ре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енняя служба в церк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ое церковное кушанье из риса с изюм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повед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оло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р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локит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манилас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лигиозная нравоучительная 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пой, гурьб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хаж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кетнич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ч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дун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ляниц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в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нноч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юж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моч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равай белого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шм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а из богатой семь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льшой, сильный, крепкого телосл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пелю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ме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ай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оста дерев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а с уш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рт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ну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5"/>
          <p:cNvSpPr txBox="1"/>
          <p:nvPr/>
        </p:nvSpPr>
        <p:spPr>
          <a:xfrm>
            <a:off x="395280" y="692280"/>
            <a:ext cx="799308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Выбери правильный ответ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1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83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ёрт, задумав украсть месяц, перекидывает его «из одной руки в другую, как мужик, доставший голыми руками огонь для своей люльки». «Люлька» - э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900000" y="3068640"/>
            <a:ext cx="3095640" cy="136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колыбель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Скругленный прямоугольник 15"/>
          <p:cNvSpPr/>
          <p:nvPr/>
        </p:nvSpPr>
        <p:spPr>
          <a:xfrm>
            <a:off x="5148360" y="3068640"/>
            <a:ext cx="315252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све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5508720" y="4724280"/>
            <a:ext cx="3024000" cy="1513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рубк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Скругленный прямоугольник 14"/>
          <p:cNvSpPr/>
          <p:nvPr/>
        </p:nvSpPr>
        <p:spPr>
          <a:xfrm>
            <a:off x="466560" y="4653000"/>
            <a:ext cx="3025800" cy="1512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круж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дый Панько в «Вечерах на хуторе близ Диканьки» это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герой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издатель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акого персонажа нет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рассказчик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3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000" y="836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тропы использованы Гоголем в предложении: «Снег загорелся широким серебряным полем и весь обсыпался хрустальными звездами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метафо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гипербол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литота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эпитет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4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у принадлежала «невыразимо приятная усмешка, прожигавшая душу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олохе 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царице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Вакул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Оксане 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07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портрет-шкатулка"/>
          <p:cNvPicPr/>
          <p:nvPr/>
        </p:nvPicPr>
        <p:blipFill>
          <a:blip r:embed="rId1"/>
          <a:stretch/>
        </p:blipFill>
        <p:spPr>
          <a:xfrm>
            <a:off x="0" y="0"/>
            <a:ext cx="92170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ем Вакула отправился к Пузатому Пацюк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хотел попросить денег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в гост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хотел с его помощью найти дорогу к черту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хотел поколядовать около его дома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6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ольше всего поразило Вакулу во дворц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архитекту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картин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наряды придворных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медная ру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91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7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реальные лица действуют в повести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Екатер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Фонвизи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Суворов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Потемкин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61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8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чем состоит грех Вакулы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он хотел погубить свою душу и воспользовался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мощью нечистой сил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почтительно разговаривал с царице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 послушался своей матер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хотел жениться на чужой невест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8"/>
          <p:cNvSpPr txBox="1"/>
          <p:nvPr/>
        </p:nvSpPr>
        <p:spPr>
          <a:xfrm>
            <a:off x="0" y="333360"/>
            <a:ext cx="87901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Узна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пользовал автор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) «Глянули звёзды. Месяц величаво поднялся на небо посветить добрым людям и всему миру, чтобы всем было весело колядовать и славить Христа»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     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302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2) «… месяц один заглядывал в них украдкою»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712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3) «...зато было так тихо, что скрип мороза под сапогом слышался за полверсты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4) «ясная ночь»                      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5) «скрипучий снег»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Цели урока: повторение и закрепление материала по повести Н. В. Гоголя «Ночь перед Рождеством»; развитие интереса к литературе, к творчеству Н. В. Гоголя; обучение навыкам групповой работы; создание положительного настроя, поощрение индивидуального творчества учащихся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84692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) «Тут через трубу одной хаты клубами повалил дым и пошёл тучею по небу, и вместе с дымом поднялась ведьма верхом на метле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ём неожи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7) Пузатый Пацюк: «ел за шестерых косарей и выпивал одним разом почти по целому ведру»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docu0011"/>
          <p:cNvPicPr/>
          <p:nvPr/>
        </p:nvPicPr>
        <p:blipFill>
          <a:blip r:embed="rId2"/>
          <a:stretch/>
        </p:blipFill>
        <p:spPr>
          <a:xfrm>
            <a:off x="2408400" y="115920"/>
            <a:ext cx="42814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5"/>
          <p:cNvSpPr txBox="1"/>
          <p:nvPr/>
        </p:nvSpPr>
        <p:spPr>
          <a:xfrm>
            <a:off x="971640" y="1197000"/>
            <a:ext cx="7056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" Найди фразеологизм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1. «Чуб не без тайного удовольствия видел, как кузнец, который никому на селе в ус не дул, сгибал в руке пятаки и подковы, как гречневые блины, тот самый кузнец лежал у его ног»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03280" y="5661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ус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. «Тут чёрт, подъехавши мелким бесом, подхватил её под руку и пустился нашёптывать на ухо то самое, что обыкновенно нашёптывают на ухо всему женскому роду»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дъехал мелким бес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3. «…Оксана отклонила свои щёки, находившиеся уже на неприметном расстоянии от губ кузнеца, и оттолкнула его.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Чего тебе ещё хочется? Ему когда мёд, так и ложка нужна! Поди прочь, у тебя руки жёстче железа. Да и сам ты пахнешь дымом. Я думаю, меня всю обмарал сажею».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76360" y="6021360"/>
            <a:ext cx="6400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му когда мёд, так и ложка нужн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4. «- Сделай милость, добрый человек, не откажи! – наступал кузнец: - свинины ли, колбас, муки гречневой, ну, полотна, пшена или иного прочего , в случае  потребности… как обыкновенно между добрыми людьми водится… не поскупимся. Расскажи хоть, как, примерно сказать, попасть к нему на дорогу?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- Тому не нужно далеко ходить, у кого чёрт за плечами,- произнёс равнодушно Пацюк, не изменяя своего положения»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76360" y="5805360"/>
            <a:ext cx="6400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ому не нужно далеко ходить, у кого чёрт за плеч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ocu0010"/>
          <p:cNvPicPr/>
          <p:nvPr/>
        </p:nvPicPr>
        <p:blipFill>
          <a:blip r:embed="rId1"/>
          <a:stretch/>
        </p:blipFill>
        <p:spPr>
          <a:xfrm>
            <a:off x="2448000" y="189000"/>
            <a:ext cx="4294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е люди, способные чувствовать искусство, были в полном восторге от Гоголя…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. Т. Аксак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Оборудование: выставка книг Н. В. Гоголя и о нем; материалы из альбома выставки «Н. В. Гоголь»; иллюстрации к повести «Ночь перед Рождеством»; иллюстрации учащихся к повести «Ночь перед Рождеством»; высказывания современников Н. В. Гоголя о нем и о повести «Ночь перед Рождеством»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Знаю, что моё имя после меня будет счастливее  меня и потомки тех же земляков моих, может быть, с глазами, влажными от слёз, произнесут примирение моей тени.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                Н. В. Гоголь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94" name="Picture 5" descr="Гоголь"/>
          <p:cNvPicPr/>
          <p:nvPr/>
        </p:nvPicPr>
        <p:blipFill>
          <a:blip r:embed="rId1"/>
          <a:stretch/>
        </p:blipFill>
        <p:spPr>
          <a:xfrm>
            <a:off x="2700360" y="189000"/>
            <a:ext cx="356544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ние итогов.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счет командных очков и выставление оценок, награждение сувенирами активных участников игры.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омашнее задание: подготовить выступление «Жизнь и творчество Ф. М. Тютчев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Слово учителя.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егодня у нас будет необычный урок ­– урок-игра по повести Н. В. Гоголя «Ночь перед Рождеством».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Игра будет состоять из 5 туров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Брейн - ринг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м туре будут вопросы, на которые вы должны будете дать краткий отв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Словарик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вам предстоит объяснить значения предложенных вам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ыбери правильный ответ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должны будете найти правильный ответ из четырех предложенных вариа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Узнай, какой литературный прием использовал автор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будут вам предложены словосочетания или отрывки из текста, а вы должны будете определить, какой литературный прием использовал Н. В. Гоголь при описании или характеристике данного предмета или персонаж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Найди фразеологизм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постараетесь найти в данных отрывках фразеологиз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За каждый правильный ответ вы получите один балл. Набравшие 10 и более баллов получат «5», 7 – 9 баллов – «4», 5 – 6 баллов – «3». Но если кто-нибудь наберет 20 баллов, я обещаю поставить две «5»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 сейчас вашему вниманию предлагается инсценировка отрывка из повести «Свидание Вакулы с Оксаной», подготовленный нашими учащимися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жалуйста!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пиграф к уроку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Не потому, что особой причуде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ань отдаю в этом тихом кра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о – мне дорого все, что и людям,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Все, что мне дорого, то и по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А. Т. Твардовский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го длинные  каштановые волосы прямыми космами спадали ниже ушей, слегка загибаясь над ними. Тонкие, тёмные, шёлковые усики чуть прикрывали полные красивые губы… Небольшие карие глаза глядели ласково, но осторожно и не улыбаясь, даже тогда, когда он говорил что-либо весёлое и смешное. Длинный, сухой нос придавал этому лицу и этим сидевшим по его сторонам осторожным глазам что-то птичье, наблюдавшее и вместе добродушно-горделивое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Г. П. Данилев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1:46:28Z</dcterms:created>
  <dc:creator>User</dc:creator>
  <dc:description/>
  <dc:language>en-US</dc:language>
  <cp:lastModifiedBy>Мама</cp:lastModifiedBy>
  <dcterms:modified xsi:type="dcterms:W3CDTF">2012-08-11T14:50:33Z</dcterms:modified>
  <cp:revision>27</cp:revision>
  <dc:subject/>
  <dc:title>Слайд 1</dc:title>
</cp:coreProperties>
</file>