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E4D-5479-41C6-BD5C-E0EA5D76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0D4-7CB2-4663-B685-CCC49BC5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2F9-DBDB-4044-9998-7FA2C611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B6A-998F-4DCF-9AB5-3BE6351E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1A90-6B0E-47BD-8692-6C90D4A3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ABB6-E176-445C-8C62-1E636C2E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C561-D003-43BB-B1B7-D7006F85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291C-C528-4FD0-BB9E-1B78FCD9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B539-6A82-4EE1-9299-7C979ECD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094A-C411-4FFF-9120-A5E9697D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432B-CB0C-4935-99AD-BA3535C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4A2-CB29-4607-BC1C-E8535349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E339-97AE-44F4-A707-1088ED78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A22C-D766-48C2-B82B-FDCE6772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A077-9C24-4C44-9B17-80B49BFA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F9F3-8D6A-4649-AA82-F189D157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9C4C-91FB-4E72-9867-EE4E474C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D157-AFFB-43E9-9A6D-9CE2C841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61E07-B930-47F1-8860-585C5C72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9171-1219-4BFD-8603-79652F47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BA5C-6193-42A8-BCA4-CDC8E103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F00D-739B-477D-99A6-A1D56F0B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D31-5FEB-4048-B398-00EC6878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4D41-6F2C-4120-8822-F770EC8F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8E9FE-71AE-4276-8AE3-95C58E83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E4E0-8C40-45A9-895F-058A475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3583-505A-4325-804E-DB2455AA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E7DB-9114-4E0C-9C08-2A0B712C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B1D3-7A50-4150-BD09-0632BF3B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826B-9BDB-4B50-9FCC-40BD94B2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C58C-CAA1-484F-9064-07D38A8D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5D9C-A2EC-4B23-9B59-BED4D5AE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CD6A-1DE1-44C8-9426-3DB80E7A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16C-B26D-427E-A347-EB106FC0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1133-5686-4B3B-B3CD-C67A9A9E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1D997-0986-4609-B5BC-217EA79F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CCCB6-E398-4399-A7EE-80840232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29A7A-93AC-407F-AC94-4972B81F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68244-8FE8-43EC-AC6B-EEEB3FF7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5DA8-68B0-48D3-A218-52F13F4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9EE01-5057-4C9B-B0DB-0CD4EBF1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23B5-AB64-4786-9C17-10C346BC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7802-18DD-409D-B591-EC125612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1802B-572B-4122-947A-27015173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995-F75A-4496-AE44-EA35403F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BAC49-C789-41F2-8019-D28B50F4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C875-1509-42CB-BE48-FE7103E3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C3030-EFD6-47D2-AF3D-8B95BABB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EF454-03F8-4108-9CA0-EB2F5A6C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05F02-8598-49DB-8F7A-493FEC72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D9FE-1052-491E-AC7E-796750F6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9FF21-3D52-4625-8054-9F3BED28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5CF10-883D-48EA-9FEA-264D76D7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1C01F-991F-441D-A252-5152F8BF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B803B-EBEF-4C24-9821-B6DADF96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1DE-BC53-486F-8633-71496DF3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DBC99-3811-4480-933E-9D555F3B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6D0-8D62-4739-ABDE-5121B98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947-29DE-4CAB-985D-1BADF5A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906-7BF4-4D2F-A4A7-2EA3B3E8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C86-4E57-4AEF-9816-547D062BC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D5F1-15E8-42B5-A2BA-6113F72795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4771-F884-4FA5-ABF2-F41F80764F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66FE-7428-4652-9438-BFCDB0843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565D-E0B5-48C7-B3A1-B68010305AA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: Ошнокова Ася Герихановна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рус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КОУ «СОШ им. Х. Х. Долова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. п. Хатуей Лескенского района КБР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Шутки Гоголя, которых передать нет никакой возможности, были так оригинальны и забавны, что неудержимый смех одолевал всех, кто его слушал; сам же он всегда шутил, не улыбаясь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. Т. Аксак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ак упоительны, как роскошны, как необыкновенно притягательны повести неведомого в Санкт-Петербурге пасичника Рудого Панька». Они изумили меня. Вот настоящая веселость, искренняя, непринужденная, без жеманства, без чопорности. А все это так необыкновенно в нашей нынешней литературе, что я доселе не образумился», - писал А. С. Пушкин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оль высоко оцененные Пушкиным повести под названием «Вечера на хуторе близ Диканьки» вышли в 1831 году, а их автор обитал в ту пору  в Павловске, неподалеку от Пушкина, проводившего лето в Царском Селе. Было молодому и враз ставшему известным Н. В. Гоголю 22 год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весть Н. В. Гоголя «Ночь перед Рождеством» вошла в цикл ранних его повестей под общим названием «Вечера на хуторе близ Диканьки»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Ночь перед Рождеством» есть целая, полная картина домашней жизни народа, его маленьких горестей, словом, тут вся поэзия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. Г. Белин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1619280" y="1125360"/>
            <a:ext cx="6121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 Брейн-ринг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1. Что ведьма собирала в рукав в ночь перед Рождество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2. Как ведьма и черт попали в хат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3. Кто и зачем украл месяц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4. За что черт мстил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5. Сколько лет было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6. Какой подарок готовил кузнец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7. Как звали ведьму, и кем она приходилась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Зв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ез труб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т, чтобы устроить мелкую пакость кузнецу Вакуле: по темноте Чуб – отец Оксаны никуда не уйдет из дому, и свидание не состои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Кузнец намалевал в церкви картину Страшного суда, где бедного черта били чем ни попад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6-1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ундук с железной оковкой и роспис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олоха, мать кузнеца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171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8. Почему из всех своих ухажеров Солоха предпочитала Чуб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9. Как случилось, что кузнец поколотил Чуба, отца Оксаны, и выгнал его из его собственного дом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10. Какое условие кузнецу поставила Оксана, согласившись выйти за него замуж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Чуб был богат, хозяйство содержал в порядке, хоть и не молод был, но еще в добром здравии, а самое главное – был вдов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был раздражен тем, что кто-то помешал его беседе с Оксаной, Чуба он не узнал, а тот, смущённый резкостью тона Вакулы, решил, что попал в чужую х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должен был достать ей «черевики, которые сама царица </a:t>
            </a: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носит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7200" y="5239800"/>
            <a:ext cx="38912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1. Что такое колядование</a:t>
            </a: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Праздничный обряд под Рождество: игры, хороводы, пение песен величальных и хождение по дворам, за что хозяева одаривали чем-нибудь вкус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6" descr="docu0009"/>
          <p:cNvPicPr/>
          <p:nvPr/>
        </p:nvPicPr>
        <p:blipFill>
          <a:blip r:embed="rId2"/>
          <a:stretch/>
        </p:blipFill>
        <p:spPr>
          <a:xfrm>
            <a:off x="2627280" y="71280"/>
            <a:ext cx="3448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2. Кто угодил в мешки в избе Солох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3. Кто такой Пузатый Пацюк, почему именно к нему Вакула пошёл за помощью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4. Что ел Пузатый Пацюк во время разговора с Вакулой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5. Как можно укротить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6. Куда отправился Вакула, попав в Санкт-Петербург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Чёрт, голова, дьяк, Ч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узатый Пацюк был когда-то запорожцем, а  ещё знался, по всеобщему мнению, с нечистой сил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Галушки, вареники со смета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рестным знам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 знакомым запорожцам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5280" y="5589720"/>
            <a:ext cx="4038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7. Почему царица благосклонно отнеслась к просьбе Вакул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5589720"/>
            <a:ext cx="40388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Ей понравилось простодушие и откровенность кузнеца, да и собой он был статен и пригож.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docu0008"/>
          <p:cNvPicPr/>
          <p:nvPr/>
        </p:nvPicPr>
        <p:blipFill>
          <a:blip r:embed="rId2"/>
          <a:stretch/>
        </p:blipFill>
        <p:spPr>
          <a:xfrm>
            <a:off x="2549520" y="189000"/>
            <a:ext cx="40449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8. Как запорожцы называли цар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9. Какой слух прошёл после исчезновения кузнец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. Что стало с Оксаной, когда кузнец проп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1. Как кузнец сватал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2. Как кузнец  «отблагодарил»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«Мам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ошли слухи о его смер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на «к утру влюбилась в кузнеца по уш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ринёс Чубу новёхонькую шапку и красивый пояс, повалился в ноги и сказал: «Помилуй, батько! Не гневись! Вот тебе и нагайка, бей, сколько душа пожелает…Отдай, батько, за меня Оксану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твесил чёрту три удара хворостиной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457200" y="-122400"/>
            <a:ext cx="8001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-игра по повести Н. В. 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 Ночь перед Рождеством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819520" y="46483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клас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1116000" y="119700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Словарик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п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абл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л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утре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ть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раинский тане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нский головной убо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ен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ре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енняя служба в церк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ое церковное кушанье из риса с изю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ове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оло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р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локи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манилас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лигиозная нравоучительная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пой, гурьб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хаж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етнич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ч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у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яниц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в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нноч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юж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авай белого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шм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а из богатой сем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льшой, сильный, крепкого телосл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пелю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ай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оста дерев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а с уш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н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5"/>
          <p:cNvSpPr txBox="1"/>
          <p:nvPr/>
        </p:nvSpPr>
        <p:spPr>
          <a:xfrm>
            <a:off x="395280" y="692280"/>
            <a:ext cx="799308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Выбери правильный ответ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ё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900000" y="3068640"/>
            <a:ext cx="3095640" cy="136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колыбель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5"/>
          <p:cNvSpPr/>
          <p:nvPr/>
        </p:nvSpPr>
        <p:spPr>
          <a:xfrm>
            <a:off x="5148360" y="3068640"/>
            <a:ext cx="315252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све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5508720" y="4724280"/>
            <a:ext cx="3024000" cy="151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рубк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14"/>
          <p:cNvSpPr/>
          <p:nvPr/>
        </p:nvSpPr>
        <p:spPr>
          <a:xfrm>
            <a:off x="466560" y="4653000"/>
            <a:ext cx="3025800" cy="1512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круж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дый Панько в «Вечерах на хуторе близ Диканьки» эт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герой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издатель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акого персонажа нет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рассказчик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000" y="836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тропы использованы Гоголем в предложении: «Снег загорелся широким серебряным полем и весь обсыпался хрустальными звездами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метафо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гипербол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литота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эпитет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4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у принадлежала «невыразимо приятная усмешка, прожигавшая душу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олохе 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царице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Вакул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Оксане 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портрет-шкатулка"/>
          <p:cNvPicPr/>
          <p:nvPr/>
        </p:nvPicPr>
        <p:blipFill>
          <a:blip r:embed="rId1"/>
          <a:stretch/>
        </p:blipFill>
        <p:spPr>
          <a:xfrm>
            <a:off x="0" y="0"/>
            <a:ext cx="9217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Вакула отправился к Пузатому Пацюк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хотел попросить денег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в г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хотел с его помощью найти дорогу к черту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хотел поколядовать около его дома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6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ольше всего поразило Вакулу во дворц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архитекту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карти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наряды придворных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медная ру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9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7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реальные лица действуют в повест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Фонвизи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Суворо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Потемкин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8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чем состоит грех Вакулы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он хотел погубить свою душу и воспользовался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мощью нечистой сил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почтительно разговаривал с цариц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 послушался своей мате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хотел жениться на чужой невест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8"/>
          <p:cNvSpPr txBox="1"/>
          <p:nvPr/>
        </p:nvSpPr>
        <p:spPr>
          <a:xfrm>
            <a:off x="0" y="333360"/>
            <a:ext cx="87901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Узна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пользовал автор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) «Глянули звёзды. Месяц величаво поднялся на небо посветить добрым людям и всему миру, чтобы всем было весело колядовать и славить Христа»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     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30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2) «… месяц один заглядывал в них украдкою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71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3) «...зато было так тихо, что скрип мороза под сапогом слышался за полверсты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4) «ясная ночь»                      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5) «скрипучий снег»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Цели урока: повторение и закрепление материала по повести Н. В. Гоголя «Ночь перед Рождеством»; развитие интереса к литературе, к творчеству Н. В. Гоголя; обучение навыкам групповой работы; создание положительного настроя, поощрение индивидуального творчества учащихс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) «Тут через трубу одной хаты клубами повалил дым и пошёл тучею по небу, и вместе с дымом поднялась ведьма верхом на метле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ём неожи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7) Пузатый Пацюк: «ел за шестерых косарей и выпивал одним разом почти по целому ведру»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docu0011"/>
          <p:cNvPicPr/>
          <p:nvPr/>
        </p:nvPicPr>
        <p:blipFill>
          <a:blip r:embed="rId2"/>
          <a:stretch/>
        </p:blipFill>
        <p:spPr>
          <a:xfrm>
            <a:off x="2408400" y="115920"/>
            <a:ext cx="4281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971640" y="1197000"/>
            <a:ext cx="7056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" Найди фразеологизм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. «Чуб не без тайного удовольствия видел, как кузнец, который никому на селе в ус не дул, сгибал в руке пятаки и подковы, как гречневые блины, тот самый кузнец лежал у его ног»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у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. «Тут чёрт, подъехавши мелким бесом, подхватил её под руку и пустился нашёптывать на ухо то самое, что обыкновенно нашёптывают на ухо всему женскому роду»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дъехал мелким бес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. «…Оксана отклонила свои щёки, находившиеся уже на неприметном расстоянии от губ кузнеца, и оттолкнула его.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Чего тебе ещё хочется? Ему когда мёд, так и ложка нужна! Поди прочь, у тебя руки жёстче железа. Да и сам ты пахнешь дымом. Я думаю, меня всю обмарал сажею»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76360" y="6021360"/>
            <a:ext cx="6400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у когда мёд, так и ложка нужн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4. «- Сделай милость, добрый человек, не откажи! – наступал кузнец: - свинины ли, колбас, муки гречневой, ну, полотна, пшена или иного прочего , в случае  потребности… как обыкновенно между добрыми людьми водится… не поскупимся. Расскажи хоть, как, примерно сказать, попасть к нему на дорогу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 Тому не нужно далеко ходить, у кого чёрт за плечами,- произнёс равнодушно Пацюк, не изменяя своего положения»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76360" y="580536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му не нужно далеко ходить, у кого чёрт за пле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ocu0010"/>
          <p:cNvPicPr/>
          <p:nvPr/>
        </p:nvPicPr>
        <p:blipFill>
          <a:blip r:embed="rId1"/>
          <a:stretch/>
        </p:blipFill>
        <p:spPr>
          <a:xfrm>
            <a:off x="2448000" y="189000"/>
            <a:ext cx="4294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люди, способные чувствовать искусство, были в полном восторге от Гоголя…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. Т. Акса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борудование: выставка книг Н. В. Гоголя и о нем; материалы из альбома выставки «Н. В. Гоголь»; иллюстрации к повести «Ночь перед Рождеством»; иллюстрации учащихся к повести «Ночь перед Рождеством»; высказывания современников Н. В. Гоголя о нем и о повести «Ночь перед Рождеством»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Знаю, что моё имя после меня будет счастливее  меня и потомки тех же земляков моих, может быть, с глазами, влажными от слёз, произнесут примирение моей тени.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               Н. В. Гогол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94" name="Picture 5" descr="Гоголь"/>
          <p:cNvPicPr/>
          <p:nvPr/>
        </p:nvPicPr>
        <p:blipFill>
          <a:blip r:embed="rId1"/>
          <a:stretch/>
        </p:blipFill>
        <p:spPr>
          <a:xfrm>
            <a:off x="2700360" y="189000"/>
            <a:ext cx="35654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ние итогов.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счет командных очков и выставление оценок, награждение сувенирами активных участников игры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омашнее задание: подготовить выступление «Жизнь и творчество Ф. М. Тютчев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лово учителя.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егодня у нас будет необычный урок ­– урок-игра по повести Н. В. Гоголя «Ночь перед Рождеством».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Игра будет состоять из 5 туров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Брейн - ринг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м туре будут вопросы, на которые вы должны будете дать кратки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ловарик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вам предстоит объяснить значения предложенных вам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ыбери правильный ответ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должны будете найти правильный ответ из четырех предложенных вари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Узнай, какой литературный прием использовал автор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будут вам предложены словосочетания или отрывки из текста, а вы должны будете определить, какой литературный прием использовал Н. В. Гоголь при описании или характеристике данного предмета или персонаж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йди фразеологизм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постараетесь найти в данных отрывках фразеологиз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 каждый правильный ответ вы получите один балл. Набравшие 10 и более баллов получат «5», 7 – 9 баллов – «4», 5 – 6 баллов – «3». Но если кто-нибудь наберет 20 баллов, я обещаю поставить две «5»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 сейчас вашему вниманию предлагается инсценировка отрывка из повести «Свидание Вакулы с Оксаной», подготовленный нашими учащимися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жалуйста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пиграф к уроку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Не потому, что особой причуде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ань отдаю в этом тихом кра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о – мне дорого все, что и людям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Все, что мне дорого, то и по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А. Т. Твардовский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го длинные  каштановые волосы прямыми космами спадали ниже ушей, слегка загибаясь над ними. Тонкие, тёмные, шёлковые усики чуть прикрывали полные красивые губы… Небольшие карие глаза глядели ласково, но осторожно и не улыбаясь, даже тогда, когда он говорил что-либо весёлое и смешное. Длинный, сухой нос придавал этому лицу и этим сидевшим по его сторонам осторожным глазам что-то птичье, наблюдавшее и вместе добродушно-горделивое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Г. П. Данилев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6:28Z</dcterms:created>
  <dc:creator>User</dc:creator>
  <dc:description/>
  <dc:language>en-US</dc:language>
  <cp:lastModifiedBy>Мама</cp:lastModifiedBy>
  <dcterms:modified xsi:type="dcterms:W3CDTF">2012-08-11T14:50:33Z</dcterms:modified>
  <cp:revision>27</cp:revision>
  <dc:subject/>
  <dc:title>Слайд 1</dc:title>
</cp:coreProperties>
</file>