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75D-7C3B-4BAD-9CC9-63DD6D62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7A6-1A47-4C65-8CCF-2EEE81D7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245-6A7D-44E7-9B73-B0185B02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EED-F632-4BE2-890E-235BFD1E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F680-0387-4D70-964B-F7963C42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4E6C-1308-4C90-9881-56651894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BF42-387C-4075-BE32-886B44EF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5071-4627-449D-861A-BAE78077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407D-B0C2-4D1A-8417-AA8171BF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FFF8-A062-4C13-BBD3-A3B0CC2A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C21B-FBF8-4290-A4C4-B7F00927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CB48-100F-4675-BA32-FCBC24BE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4BCA-9B0A-4D8F-BB56-13BAA583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BF75-A6BD-4613-8D65-486EF7E8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BD19-1518-4850-A0D1-E7D8AB85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50F7-2D0C-4D4A-9BBF-2A0D862E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6ADB-D222-4A34-BD59-DE26A55F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48892-CDE5-4EBB-A98D-7A1932B9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4B531-6D91-44FC-9FFB-EEA91E2A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4A3B0-4574-4943-A298-5DDE06A1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D7F47-9C66-4778-A349-79C1DB2F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B43FB-C612-4323-8A36-11015F23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893-AB48-497E-B5FC-92F0322F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31C00-1EA9-47A2-9E27-850B588C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959B3-24BC-43F8-8906-D20146A6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DCA08-6451-47F5-BE78-BF864818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ED1D1-A401-421F-BBB0-1295149C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17E4D-0A9F-4D52-B1E7-C10F4F82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8BA73-12E3-4ADC-AEDB-6FC8CA2F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32125-0171-4AC4-9F68-B6D84F7D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42BEE-4008-43FF-8F7D-F286AC97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CE4D2-DE87-40B4-94CF-513941B8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9A7B0-30AC-4F97-AE82-D9B77B2F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3C2-79A7-4330-93B1-A96AFF0C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2244F-C520-40FA-8E71-8E6DB6BE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8F971-E313-492A-9CEB-FD0E227E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FCA79-6C8D-4E0C-87A5-B079F22C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352E6-3D73-4FD0-B9D7-E7C20ECB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8D8D3-2933-4838-99F8-A825D107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7A189-0761-432A-9706-D328ED06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2BE36-DA18-495F-8C2B-0A797637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07893-33ED-4F29-83AE-C4196B12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23565-7504-4977-B25A-57918CDC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3932A-A3A9-4831-8ABC-1DFAEA70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7A73-FCE5-460F-9D43-9C82674D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44F69-35F4-4EF0-960F-BD95DE42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09974-4D59-476E-837C-D8BBFE2F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69D1F-E316-4838-B202-B12A14DA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A7367-184C-4733-A345-A89ED81F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6FF91-E3D2-448F-B6CE-7A504E83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1C23B-68BC-41CA-983A-395C8788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79F6A-BF52-44BF-B8DA-C1F6368D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1EA68-B328-48F4-B5A1-719E7E4A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C48DC-89E6-48AE-A7FE-DF45E6DE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EF7D4-49D0-4323-9965-1595505E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5AA5-7803-4EDE-9A64-F72BB563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40F2E-6FFB-4B29-B33B-DB1A1316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CDB-8294-49EE-B1C1-41AAB38A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A86B-6CE1-4788-B13C-67B65F9F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9C9-86BC-452C-98B9-14DCE2C4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5F78-A632-4EEA-9398-0580B3540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26A4-25BE-4E38-9405-B9635D082A7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2219-DA4F-4959-AB8F-09DCB75A04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AD82-97E3-4700-A253-10764EA70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1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759C-7ACD-407D-9585-5766F692CA4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втор: Ошнокова Ася Герихановна,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учитель русского языка и литературы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МКОУ «СОШ им. Х. Х. Долова»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. п. Хатуей Лескенского района КБР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Шутки Гоголя, которых передать нет никакой возможности, были так оригинальны и забавны, что неудержимый смех одолевал всех, кто его слушал; сам же он всегда шутил, не улыбаясь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. Т. Аксаков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Как упоительны, как роскошны, как необыкновенно притягательны повести неведомого в Санкт-Петербурге пасичника Рудого Панька». Они изумили меня. Вот настоящая веселость, искренняя, непринужденная, без жеманства, без чопорности. А все это так необыкновенно в нашей нынешней литературе, что я доселе не образумился», - писал А. С. Пушкин.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толь высоко оцененные Пушкиным повести под названием «Вечера на хуторе близ Диканьки» вышли в 1831 году, а их автор обитал в ту пору  в Павловске, неподалеку от Пушкина, проводившего лето в Царском Селе. Было молодому и враз ставшему известным Н. В. Гоголю 22 года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Повесть Н. В. Гоголя «Ночь перед Рождеством» вошла в цикл ранних его повестей под общим названием «Вечера на хуторе близ Диканьки»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«Ночь перед Рождеством» есть целая, полная картина домашней жизни народа, его маленьких горестей, словом, тут вся поэзия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. Г. Белинс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5"/>
          <p:cNvSpPr txBox="1"/>
          <p:nvPr/>
        </p:nvSpPr>
        <p:spPr>
          <a:xfrm>
            <a:off x="1619280" y="1125360"/>
            <a:ext cx="61214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 Брейн-ринг 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1. Что ведьма собирала в рукав в ночь перед Рождеством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2. Как ведьма и черт попали в хат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3. Кто и зачем украл месяц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4. За что черт мстил кузнец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5. Сколько лет было Оксане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6. Какой подарок готовил кузнец Оксане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7. Как звали ведьму, и кем она приходилась кузнец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00720" y="475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Звезд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Через труб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Черт, чтобы устроить мелкую пакость кузнецу Вакуле: по темноте Чуб – отец Оксаны никуда не уйдет из дому, и свидание не состоитс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Кузнец намалевал в церкви картину Страшного суда, где бедного черта били чем ни попад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16-1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Сундук с железной оковкой и роспись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Солоха, мать кузнеца.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2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41716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8. Почему из всех своих ухажеров Солоха предпочитала Чуб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9. Как случилось, что кузнец поколотил Чуба, отца Оксаны, и выгнал его из его собственного дом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10. Какое условие кузнецу поставила Оксана, согласившись выйти за него замуж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0" y="475920"/>
            <a:ext cx="41148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Чуб был богат, хозяйство содержал в порядке, хоть и не молод был, но еще в добром здравии, а самое главное – был вдовец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Кузнец был раздражен тем, что кто-то помешал его беседе с Оксаной, Чуба он не узнал, а тот, смущённый резкостью тона Вакулы, решил, что попал в чужую хат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Кузнец должен был достать ей «черевики, которые сама царица </a:t>
            </a: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носит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47200" y="5239800"/>
            <a:ext cx="3891240" cy="5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11. Что такое колядование</a:t>
            </a: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427640" y="5084280"/>
            <a:ext cx="40384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Праздничный обряд под Рождество: игры, хороводы, пение песен величальных и хождение по дворам, за что хозяева одаривали чем-нибудь вкусны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Picture 6" descr="docu0009"/>
          <p:cNvPicPr/>
          <p:nvPr/>
        </p:nvPicPr>
        <p:blipFill>
          <a:blip r:embed="rId2"/>
          <a:stretch/>
        </p:blipFill>
        <p:spPr>
          <a:xfrm>
            <a:off x="2627280" y="71280"/>
            <a:ext cx="344808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40384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2. Кто угодил в мешки в избе Солох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3. Кто такой Пузатый Пацюк, почему именно к нему Вакула пошёл за помощью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4. Что ел Пузатый Пацюк во время разговора с Вакулой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5. Как можно укротить чёр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6. Куда отправился Вакула, попав в Санкт-Петербург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48320" y="98100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Чёрт, голова, дьяк, Чу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узатый Пацюк был когда-то запорожцем, а  ещё знался, по всеобщему мнению, с нечистой сил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Галушки, вареники со сметан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Крестным знамен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К знакомым запорожцам. </a:t>
            </a: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95280" y="5589720"/>
            <a:ext cx="403848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7. Почему царица благосклонно отнеслась к просьбе Вакулы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2920" y="5589720"/>
            <a:ext cx="403884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Ей понравилось простодушие и откровенность кузнеца, да и собой он был статен и пригож.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Picture 7" descr="docu0008"/>
          <p:cNvPicPr/>
          <p:nvPr/>
        </p:nvPicPr>
        <p:blipFill>
          <a:blip r:embed="rId2"/>
          <a:stretch/>
        </p:blipFill>
        <p:spPr>
          <a:xfrm>
            <a:off x="2549520" y="189000"/>
            <a:ext cx="404496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18. Как запорожцы называли царицу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19. Какой слух прошёл после исчезновения кузнец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0. Что стало с Оксаной, когда кузнец пропал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1. Как кузнец сватался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2. Как кузнец  «отблагодарил» чёр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4832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«Мамо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ошли слухи о его смер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Она «к утру влюбилась в кузнеца по уши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ринёс Чубу новёхонькую шапку и красивый пояс, повалился в ноги и сказал: «Помилуй, батько! Не гневись! Вот тебе и нагайка, бей, сколько душа пожелает…Отдай, батько, за меня Оксану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Отвесил чёрту три удара хворостиной.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457200" y="-122400"/>
            <a:ext cx="8001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Урок-игра по повести Н. В. Гого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 Ночь перед Рождеством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77" name="WordArt 3"/>
          <p:cNvSpPr txBox="1"/>
          <p:nvPr/>
        </p:nvSpPr>
        <p:spPr>
          <a:xfrm>
            <a:off x="2819520" y="4648320"/>
            <a:ext cx="2971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 клас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6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4"/>
          <p:cNvSpPr txBox="1"/>
          <p:nvPr/>
        </p:nvSpPr>
        <p:spPr>
          <a:xfrm>
            <a:off x="1116000" y="1197000"/>
            <a:ext cx="69850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Словарик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па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рабл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рубо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ал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утре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уть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краинский тане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енский головной убор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рен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арени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тренняя служба в церкв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рядовое церковное кушанье из риса с изюм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повед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е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колот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урто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локитств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еманилас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лигиозная нравоучительная реч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ис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крест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олпой, гурьб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хаж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кетнича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вча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дун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ляниц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реви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нноч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юж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в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умоч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равай белого хлеб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шма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вушка из богатой семь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льшой, сильный, крепкого телослож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лов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пелю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умен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вец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гай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роста дерев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апка с уш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струмен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рт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ну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3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6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5"/>
          <p:cNvSpPr txBox="1"/>
          <p:nvPr/>
        </p:nvSpPr>
        <p:spPr>
          <a:xfrm>
            <a:off x="395280" y="692280"/>
            <a:ext cx="799308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Выбери правильный ответ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1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836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ёрт, задумав украсть месяц, перекидывает его «из одной руки в другую, как мужик, доставший голыми руками огонь для своей люльки». «Люлька» - это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Скругленный прямоугольник 3"/>
          <p:cNvSpPr/>
          <p:nvPr/>
        </p:nvSpPr>
        <p:spPr>
          <a:xfrm>
            <a:off x="900000" y="3068640"/>
            <a:ext cx="3095640" cy="1366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колыбель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Скругленный прямоугольник 15"/>
          <p:cNvSpPr/>
          <p:nvPr/>
        </p:nvSpPr>
        <p:spPr>
          <a:xfrm>
            <a:off x="5148360" y="3068640"/>
            <a:ext cx="3152520" cy="1368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свеч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Скругленный прямоугольник 16"/>
          <p:cNvSpPr/>
          <p:nvPr/>
        </p:nvSpPr>
        <p:spPr>
          <a:xfrm>
            <a:off x="5508720" y="4724280"/>
            <a:ext cx="3024000" cy="1513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) трубка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Скругленный прямоугольник 14"/>
          <p:cNvSpPr/>
          <p:nvPr/>
        </p:nvSpPr>
        <p:spPr>
          <a:xfrm>
            <a:off x="466560" y="4653000"/>
            <a:ext cx="3025800" cy="1512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круж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521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529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37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45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2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83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дый Панько в «Вечерах на хуторе близ Диканьки» это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герой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издатель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) такого персонажа нет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рассказчик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591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599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3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68000" y="83664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тропы использованы Гоголем в предложении: «Снег загорелся широким серебряным полем и весь обсыпался хрустальными звездами»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метафор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гипербол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литота.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эпитет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629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37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645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4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му принадлежала «невыразимо приятная усмешка, прожигавшая душу»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Солохе 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царице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 Вакуле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Оксане 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683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07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портрет-шкатулка"/>
          <p:cNvPicPr/>
          <p:nvPr/>
        </p:nvPicPr>
        <p:blipFill>
          <a:blip r:embed="rId1"/>
          <a:stretch/>
        </p:blipFill>
        <p:spPr>
          <a:xfrm>
            <a:off x="0" y="0"/>
            <a:ext cx="921708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5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ем Вакула отправился к Пузатому Пацюку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хотел попросить денег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в гост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хотел с его помощью найти дорогу к черту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хотел поколядовать около его дома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73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45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5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1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6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больше всего поразило Вакулу во дворц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архитектур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картин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наряды придворных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медная руч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91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807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815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2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7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реальные лица действуют в повести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Екатери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Фонвизи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Суворов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Потемкин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8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45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861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869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8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чем состоит грех Вакулы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он хотел погубить свою душу и воспользовался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мощью нечистой силы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непочтительно разговаривал с царицей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не послушался своей матер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хотел жениться на чужой невест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907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15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923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8"/>
          <p:cNvSpPr txBox="1"/>
          <p:nvPr/>
        </p:nvSpPr>
        <p:spPr>
          <a:xfrm>
            <a:off x="0" y="333360"/>
            <a:ext cx="879012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Узнай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итературны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е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пользовал автор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415280" cy="46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) «Глянули звёзды. Месяц величаво поднялся на небо посветить добрым людям и всему миру, чтобы всем было весело колядовать и славить Христа»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     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476360" y="5105520"/>
            <a:ext cx="640080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лицетво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6920" cy="3029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2) «… месяц один заглядывал в них украдкою»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лицетво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0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17120" cy="367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3) «...зато было так тихо, что скрип мороза под сапогом слышался за полверсты»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иперб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2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4) «ясная ночь»                                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п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9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4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5) «скрипучий снег»          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п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6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Цели урока: повторение и закрепление материала по повести Н. В. Гоголя «Ночь перед Рождеством»; развитие интереса к литературе, к творчеству Н. В. Гоголя; обучение навыкам групповой работы; создание положительного настроя, поощрение индивидуального творчества учащихся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846920" cy="475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6) «Тут через трубу одной хаты клубами повалил дым и пошёл тучею по небу, и вместе с дымом поднялась ведьма верхом на метле»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32000" y="5229000"/>
            <a:ext cx="640080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ём неожи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84692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7) Пузатый Пацюк: «ел за шестерых косарей и выпивал одним разом почти по целому ведру»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00800" cy="12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иперб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docu0011"/>
          <p:cNvPicPr/>
          <p:nvPr/>
        </p:nvPicPr>
        <p:blipFill>
          <a:blip r:embed="rId2"/>
          <a:stretch/>
        </p:blipFill>
        <p:spPr>
          <a:xfrm>
            <a:off x="2408400" y="115920"/>
            <a:ext cx="42814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WordArt 5"/>
          <p:cNvSpPr txBox="1"/>
          <p:nvPr/>
        </p:nvSpPr>
        <p:spPr>
          <a:xfrm>
            <a:off x="971640" y="1197000"/>
            <a:ext cx="705636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" Найди фразеологизм 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1. «Чуб не без тайного удовольствия видел, как кузнец, который никому на селе в ус не дул, сгибал в руке пятаки и подковы, как гречневые блины, тот самый кузнец лежал у его ног».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403280" y="5661000"/>
            <a:ext cx="64008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ус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ду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9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2. «Тут чёрт, подъехавши мелким бесом, подхватил её под руку и пустился нашёптывать на ухо то самое, что обыкновенно нашёптывают на ухо всему женскому роду».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дъехал мелким бес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1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3. «…Оксана отклонила свои щёки, находившиеся уже на неприметном расстоянии от губ кузнеца, и оттолкнула его.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Чего тебе ещё хочется? Ему когда мёд, так и ложка нужна! Поди прочь, у тебя руки жёстче железа. Да и сам ты пахнешь дымом. Я думаю, меня всю обмарал сажею».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76360" y="6021360"/>
            <a:ext cx="6400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му когда мёд, так и ложка нужн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3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4. «- Сделай милость, добрый человек, не откажи! – наступал кузнец: - свинины ли, колбас, муки гречневой, ну, полотна, пшена или иного прочего , в случае  потребности… как обыкновенно между добрыми людьми водится… не поскупимся. Расскажи хоть, как, примерно сказать, попасть к нему на дорогу?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- Тому не нужно далеко ходить, у кого чёрт за плечами,- произнёс равнодушно Пацюк, не изменяя своего положения»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76360" y="5805360"/>
            <a:ext cx="64008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ому не нужно далеко ходить, у кого чёрт за плеч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docu0010"/>
          <p:cNvPicPr/>
          <p:nvPr/>
        </p:nvPicPr>
        <p:blipFill>
          <a:blip r:embed="rId1"/>
          <a:stretch/>
        </p:blipFill>
        <p:spPr>
          <a:xfrm>
            <a:off x="2448000" y="189000"/>
            <a:ext cx="42940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589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…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се люди, способные чувствовать искусство, были в полном восторге от Гоголя…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. Т. Аксаков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Оборудование: выставка книг Н. В. Гоголя и о нем; материалы из альбома выставки «Н. В. Гоголь»; иллюстрации к повести «Ночь перед Рождеством»; иллюстрации учащихся к повести «Ночь перед Рождеством»; высказывания современников Н. В. Гоголя о нем и о повести «Ночь перед Рождеством»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128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Знаю, что моё имя после меня будет счастливее  меня и потомки тех же земляков моих, может быть, с глазами, влажными от слёз, произнесут примирение моей тени.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                 Н. В. Гоголь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394" name="Picture 5" descr="Гоголь"/>
          <p:cNvPicPr/>
          <p:nvPr/>
        </p:nvPicPr>
        <p:blipFill>
          <a:blip r:embed="rId1"/>
          <a:stretch/>
        </p:blipFill>
        <p:spPr>
          <a:xfrm>
            <a:off x="2700360" y="189000"/>
            <a:ext cx="3565440" cy="47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ние итогов. 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счет командных очков и выставление оценок, награждение сувенирами активных участников игры.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омашнее задание: подготовить выступление «Жизнь и творчество Ф. М. Тютчева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Слово учителя.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Сегодня у нас будет необычный урок ­– урок-игра по повести Н. В. Гоголя «Ночь перед Рождеством».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Игра будет состоять из 5 туров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Брейн - ринг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этом туре будут вопросы, на которые вы должны будете дать краткий отв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Словарик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десь вам предстоит объяснить значения предложенных вам с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Выбери правильный ответ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 должны будете найти правильный ответ из четырех предложенных вариан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Узнай, какой литературный прием использовал автор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десь будут вам предложены словосочетания или отрывки из текста, а вы должны будете определить, какой литературный прием использовал Н. В. Гоголь при описании или характеристике данного предмета или персонаж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Найди фразеологизм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 постараетесь найти в данных отрывках фразеологиз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За каждый правильный ответ вы получите один балл. Набравшие 10 и более баллов получат «5», 7 – 9 баллов – «4», 5 – 6 баллов – «3». Но если кто-нибудь наберет 20 баллов, я обещаю поставить две «5»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 сейчас вашему вниманию предлагается инсценировка отрывка из повести «Свидание Вакулы с Оксаной», подготовленный нашими учащимися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ожалуйста!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64072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Эпиграф к уроку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Не потому, что особой причуде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Дань отдаю в этом тихом краю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сто – мне дорого все, что и людям,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Все, что мне дорого, то и пою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                               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А. Т. Твардовский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Его длинные  каштановые волосы прямыми космами спадали ниже ушей, слегка загибаясь над ними. Тонкие, тёмные, шёлковые усики чуть прикрывали полные красивые губы… Небольшие карие глаза глядели ласково, но осторожно и не улыбаясь, даже тогда, когда он говорил что-либо весёлое и смешное. Длинный, сухой нос придавал этому лицу и этим сидевшим по его сторонам осторожным глазам что-то птичье, наблюдавшее и вместе добродушно-горделивое…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Г. П. Данилевс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1:46:28Z</dcterms:created>
  <dc:creator>User</dc:creator>
  <dc:description/>
  <dc:language>en-US</dc:language>
  <cp:lastModifiedBy>Мама</cp:lastModifiedBy>
  <dcterms:modified xsi:type="dcterms:W3CDTF">2012-08-11T14:50:33Z</dcterms:modified>
  <cp:revision>27</cp:revision>
  <dc:subject/>
  <dc:title>Слайд 1</dc:title>
</cp:coreProperties>
</file>