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AAC-7B98-4D3F-8261-E2D180CC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3E3-644A-41FB-8D3E-17B82601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8B0-DF6A-4ED5-B84D-F70BC59D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6FE-7549-41D0-AB5B-6A1DF9B2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2561-9B14-4A24-BC87-A1812D44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C4FE-1298-41EF-8E76-97A84ED2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A942-78BF-4C69-8591-7A0136FD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7FC6-004A-402D-BA2F-A97A0213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6962-C4B4-4A49-912F-2EB4E05B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9708-D10A-4C51-BBBF-74B35E45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2F49-534D-46A9-A4BF-8F83FCCD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3238-D4E8-4301-80B9-92561745E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8442-BAAF-4CB4-9144-BE929643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A778-53FE-4982-8C78-D3383D25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C8B7-7C66-442B-8286-A27DDA13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00757-8B7E-42BE-BE0A-14B91DCD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CA84-1B8C-4C26-B599-6DA9C897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65260-335E-4727-AC62-E872039D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E73AE-2E45-4271-926D-7C7CBF0E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AEAC-454D-45F8-8205-B742286D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0A3F5-0EA7-49DE-B15E-BD440F12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30EA-BEF3-4C85-9305-E247FB3A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0A8-D88F-488F-85D6-E4F6A405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7998-41A6-44E7-94A3-674B98F2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9311-D43F-48B2-866A-1D452CE8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3EFC-E80C-498C-B7F9-E3AF943E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7C00-17C0-4B78-8805-5616A150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146F-A576-4A49-A6AA-17BC3E69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7AA1-87DC-47E8-AFC3-69B0B2A9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3CC97-1104-4104-BC22-ECD19CEC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45F7C-55C5-4793-A02D-FBB38EA1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25F2-FE59-443A-BF6D-714F4DDA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AFF3E-BBD0-43E0-BEFD-CCEAB85EA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9B7-8CDD-41E5-A3F5-56A0FBF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44C67-0E8E-4189-94CE-C856974B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DDC59-9AC3-4D69-A04B-AD2772D7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D3D5C-7868-4867-8E1A-8C3753D7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B03E-02B3-4F03-9FE1-D6F85D7B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8BF0-E12E-4329-821A-5239AC97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86E31-4377-4288-A133-7A6F93B6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51051-E6D4-4957-970F-DB23BFC0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25763-1306-4EC6-B644-52D4C176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6264-2392-48DE-B05B-0174DBC9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EF046-F5F6-4564-ABDC-FCFF8377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53A9-ED0B-4FB5-B171-A065158D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226D3-50CC-402F-9C65-312B4002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CF3DF-1200-438B-B075-C2D1EAEC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C5D95-9F02-48F3-B395-DD0394CB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9CFAF-AF2D-4FEC-87E0-8B12A025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14197-D87B-4BA8-8460-5307B06C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40765-A5BD-4189-B565-F5BFC0F2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06C1-CFB7-4DBE-986A-563A41A6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49876-9DAB-4375-98B4-6D69E1CD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4EFBA-0099-4EE8-902E-3C464D75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20C6-50A0-4152-BBB7-030EEAC3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766-5E2F-4012-86ED-8D34099E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6BAE2-7E19-4A5B-A616-FBBBBF55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E6C-4425-4ABD-873B-ACA60018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37C6-353A-4188-ADBD-F56517D2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0FDB-4F91-4B96-BCA5-80435F4E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C65F-FE9D-4BE1-8432-F27908A0A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D6C2-E513-4C5A-87DA-A484E1F2AD1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C62A-10A0-49B9-8208-70395D66A9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71BC-B5B5-43D9-834F-E53155096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1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E30F-254E-44C7-8EFB-58D325C847C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: Ошнокова Ася Герихановна,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учитель русского языка и литературы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МКОУ «СОШ им. Х. Х. Долова»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. п. Хатуей Лескенского района КБР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Шутки Гоголя, которых передать нет никакой возможности, были так оригинальны и забавны, что неудержимый смех одолевал всех, кто его слушал; сам же он всегда шутил, не улыбаясь.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 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. Т. Аксаков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Как упоительны, как роскошны, как необыкновенно притягательны повести неведомого в Санкт-Петербурге пасичника Рудого Панька». Они изумили меня. Вот настоящая веселость, искренняя, непринужденная, без жеманства, без чопорности. А все это так необыкновенно в нашей нынешней литературе, что я доселе не образумился», - писал А. С. Пушкин.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Столь высоко оцененные Пушкиным повести под названием «Вечера на хуторе близ Диканьки» вышли в 1831 году, а их автор обитал в ту пору  в Павловске, неподалеку от Пушкина, проводившего лето в Царском Селе. Было молодому и враз ставшему известным Н. В. Гоголю 22 года. 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овесть Н. В. Гоголя «Ночь перед Рождеством» вошла в цикл ранних его повестей под общим названием «Вечера на хуторе близ Диканьки»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«Ночь перед Рождеством» есть целая, полная картина домашней жизни народа, его маленьких горестей, словом, тут вся поэзия.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                   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В. Г. Белин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WordArt 5"/>
          <p:cNvSpPr txBox="1"/>
          <p:nvPr/>
        </p:nvSpPr>
        <p:spPr>
          <a:xfrm>
            <a:off x="1619280" y="1125360"/>
            <a:ext cx="612144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 Брейн-ринг 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1. Что ведьма собирала в рукав в ночь перед Рождеством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2. Как ведьма и черт попали в хат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3. Кто и зачем украл месяц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4. За что черт мстил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5. Сколько лет было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6. Какой подарок готовил кузнец Оксане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7. Как звали ведьму, и кем она приходилась кузнецу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0072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Звезд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ез труб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Черт, чтобы устроить мелкую пакость кузнецу Вакуле: по темноте Чуб – отец Оксаны никуда не уйдет из дому, и свидание не состоитс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Кузнец намалевал в церкви картину Страшного суда, где бедного черта били чем ни попад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6-1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ундук с железной оковкой и роспись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Солоха, мать кузнеца.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2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2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41716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8. Почему из всех своих ухажеров Солоха предпочитала Чуб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9. Как случилось, что кузнец поколотил Чуба, отца Оксаны, и выгнал его из его собственного дома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10. Какое условие кузнецу поставила Оксана, согласившись выйти за него замуж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Чуб был богат, хозяйство содержал в порядке, хоть и не молод был, но еще в добром здравии, а самое главное – был вдовец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был раздражен тем, что кто-то помешал его беседе с Оксаной, Чуба он не узнал, а тот, смущённый резкостью тона Вакулы, решил, что попал в чужую х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Кузнец должен был достать ей «черевики, которые сама царица </a:t>
            </a:r>
            <a:r>
              <a:rPr b="0" lang="ru-RU" sz="2400" spc="-1" strike="noStrike">
                <a:solidFill>
                  <a:srgbClr val="1c1c1c"/>
                </a:solidFill>
                <a:latin typeface="Times New Roman"/>
              </a:rPr>
              <a:t>носит»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547200" y="5239800"/>
            <a:ext cx="38912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11. Что такое колядование</a:t>
            </a:r>
            <a:r>
              <a:rPr b="1" lang="ru-RU" sz="1800" spc="-1" strike="noStrike">
                <a:solidFill>
                  <a:srgbClr val="1c1c1c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427640" y="5084280"/>
            <a:ext cx="40384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Times New Roman"/>
              </a:rPr>
              <a:t>Праздничный обряд под Рождество: игры, хороводы, пение песен величальных и хождение по дворам, за что хозяева одаривали чем-нибудь вкусны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Picture 6" descr="docu0009"/>
          <p:cNvPicPr/>
          <p:nvPr/>
        </p:nvPicPr>
        <p:blipFill>
          <a:blip r:embed="rId2"/>
          <a:stretch/>
        </p:blipFill>
        <p:spPr>
          <a:xfrm>
            <a:off x="2627280" y="71280"/>
            <a:ext cx="344808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0384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2. Кто угодил в мешки в избе Солохи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3. Кто такой Пузатый Пацюк, почему именно к нему Вакула пошёл за помощью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4. Что ел Пузатый Пацюк во время разговора с Вакулой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5. Как можно укротить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6. Куда отправился Вакула, попав в Санкт-Петербург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038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Чёрт, голова, дьяк, Чуб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узатый Пацюк был когда-то запорожцем, а  ещё знался, по всеобщему мнению, с нечистой сил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Галушки, вареники со смета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рестным знамени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К знакомым запорожцам. 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395280" y="5589720"/>
            <a:ext cx="403848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17. Почему царица благосклонно отнеслась к просьбе Вакулы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5589720"/>
            <a:ext cx="40388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Ей понравилось простодушие и откровенность кузнеца, да и собой он был статен и пригож.</a:t>
            </a: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Picture 7" descr="docu0008"/>
          <p:cNvPicPr/>
          <p:nvPr/>
        </p:nvPicPr>
        <p:blipFill>
          <a:blip r:embed="rId2"/>
          <a:stretch/>
        </p:blipFill>
        <p:spPr>
          <a:xfrm>
            <a:off x="2549520" y="189000"/>
            <a:ext cx="404496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8. Как запорожцы называли царицу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19. Какой слух прошёл после исчезновения кузнец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0. Что стало с Оксаной, когда кузнец пропал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1. Как кузнец сватался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Times New Roman"/>
              </a:rPr>
              <a:t>22. Как кузнец  «отблагодарил» чёрта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«Мамо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ошли слухи о его смерт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на «к утру влюбилась в кузнеца по уши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Принёс Чубу новёхонькую шапку и красивый пояс, повалился в ноги и сказал: «Помилуй, батько! Не гневись! Вот тебе и нагайка, бей, сколько душа пожелает…Отдай, батько, за меня Оксану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Times New Roman"/>
              </a:rPr>
              <a:t>Отвесил чёрту три удара хворостиной.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7" dur="2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3" dur="2000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457200" y="-122400"/>
            <a:ext cx="8001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Урок-игра по повести Н. В. Гогол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" Ночь перед Рождеством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77" name="WordArt 3"/>
          <p:cNvSpPr txBox="1"/>
          <p:nvPr/>
        </p:nvSpPr>
        <p:spPr>
          <a:xfrm>
            <a:off x="2819520" y="4648320"/>
            <a:ext cx="2971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 клас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6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1116000" y="1197000"/>
            <a:ext cx="698508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Словарик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опа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абл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убо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ал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утрен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уть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краинский тане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енский головной убор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арень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ареник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тренняя служба в церкв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брядовое церковное кушанье из риса с изюм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овед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але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колото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урто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локитств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Жеманилас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лигиозная нравоучительная реч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исо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рестно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пой, гурьб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хажива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кетнича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9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5" dur="20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вча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дун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ляниц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ревик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нноч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юж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умоч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равай белого хлеб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шма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вушка из богатой семь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ольшой, сильный, крепкого телослож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8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пелю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умент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Швец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гай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роста деревн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шапка с уш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нструмен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рт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ну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бъяснить значения слов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2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5"/>
          <p:cNvSpPr txBox="1"/>
          <p:nvPr/>
        </p:nvSpPr>
        <p:spPr>
          <a:xfrm>
            <a:off x="395280" y="692280"/>
            <a:ext cx="7993080" cy="51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 Выбери правильный ответ 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83628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ёрт, задумав украсть месяц, перекидывает его «из одной руки в другую, как мужик, доставший голыми руками огонь для своей люльки». «Люлька» - это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Скругленный прямоугольник 3"/>
          <p:cNvSpPr/>
          <p:nvPr/>
        </p:nvSpPr>
        <p:spPr>
          <a:xfrm>
            <a:off x="900000" y="3068640"/>
            <a:ext cx="3095640" cy="13669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колыбель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Скругленный прямоугольник 15"/>
          <p:cNvSpPr/>
          <p:nvPr/>
        </p:nvSpPr>
        <p:spPr>
          <a:xfrm>
            <a:off x="5148360" y="3068640"/>
            <a:ext cx="3152520" cy="13683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све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Скругленный прямоугольник 16"/>
          <p:cNvSpPr/>
          <p:nvPr/>
        </p:nvSpPr>
        <p:spPr>
          <a:xfrm>
            <a:off x="5508720" y="4724280"/>
            <a:ext cx="3024000" cy="15130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рубка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Скругленный прямоугольник 14"/>
          <p:cNvSpPr/>
          <p:nvPr/>
        </p:nvSpPr>
        <p:spPr>
          <a:xfrm>
            <a:off x="466560" y="4653000"/>
            <a:ext cx="3025800" cy="15127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круж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9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521" nodeType="clickEffect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529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37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545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2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83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дый Панько в «Вечерах на хуторе близ Диканьки» это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герой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издатель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) такого персонажа нет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рассказчик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5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59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3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68000" y="836640"/>
            <a:ext cx="8218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тропы использованы Гоголем в предложении: «Снег загорелся широким серебряным полем и весь обсыпался хрустальными звездами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метафо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гипербола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литота.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эпитет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1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7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629" nodeType="clickEffect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37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645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53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4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му принадлежала «невыразимо приятная усмешка, прожигавшая душу»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Солохе 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царице 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Вакуле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Оксане 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683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9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0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07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портрет-шкатулка"/>
          <p:cNvPicPr/>
          <p:nvPr/>
        </p:nvPicPr>
        <p:blipFill>
          <a:blip r:embed="rId1"/>
          <a:stretch/>
        </p:blipFill>
        <p:spPr>
          <a:xfrm>
            <a:off x="0" y="0"/>
            <a:ext cx="9217080" cy="68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5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ем Вакула отправился к Пузатому Пацюку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хотел попросить денег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в гост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хотел с его помощью найти дорогу к черту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хотел поколядовать около его дома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0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73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4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5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61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6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то больше всего поразило Вакулу во дворце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 архитектур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картин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наряды придворных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медная ручка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0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91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7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0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815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2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7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реальные лица действуют в повести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Екатери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Фонвизи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Суворов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Потемкин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4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5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861" nodeType="clickEffect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69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8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  <a:ea typeface="Arial"/>
              </a:rPr>
              <a:t>Вопрос 8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68000" y="836640"/>
            <a:ext cx="8218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чем состоит грех Вакулы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1258920" y="2924280"/>
            <a:ext cx="2735280" cy="1438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он хотел погубить свою душу и воспользовался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мощью нечистой сил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Скругленный прямоугольник 15"/>
          <p:cNvSpPr/>
          <p:nvPr/>
        </p:nvSpPr>
        <p:spPr>
          <a:xfrm>
            <a:off x="5076720" y="2927520"/>
            <a:ext cx="2649600" cy="150948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почтительно разговаривал с царице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Скругленный прямоугольник 16"/>
          <p:cNvSpPr/>
          <p:nvPr/>
        </p:nvSpPr>
        <p:spPr>
          <a:xfrm>
            <a:off x="5508720" y="4653000"/>
            <a:ext cx="2792160" cy="165564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не послушался своей матери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Скругленный прямоугольник 14"/>
          <p:cNvSpPr/>
          <p:nvPr/>
        </p:nvSpPr>
        <p:spPr>
          <a:xfrm>
            <a:off x="828720" y="4581360"/>
            <a:ext cx="2735280" cy="16560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 хотел жениться на чужой невест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6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7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4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915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923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92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WordArt 8"/>
          <p:cNvSpPr txBox="1"/>
          <p:nvPr/>
        </p:nvSpPr>
        <p:spPr>
          <a:xfrm>
            <a:off x="0" y="333360"/>
            <a:ext cx="8790120" cy="58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«Узна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о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итературны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спользовал автор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415280" cy="4680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1) «Глянули звёзды. Месяц величаво поднялся на небо посветить добрым людям и всему миру, чтобы всем было весело колядовать и славить Христа»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      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47636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3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8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6920" cy="302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2) «… месяц один заглядывал в них украдкою»</a:t>
            </a:r>
            <a:br>
              <a:rPr sz="4800"/>
            </a:b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лицетвор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7120" cy="367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3) «...зато было так тихо, что скрип мороза под сапогом слышался за полверсты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2" dur="2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4) «ясная ночь»                      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4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5) «скрипучий снег»          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Эпите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6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Цели урока: повторение и закрепление материала по повести Н. В. Гоголя «Ночь перед Рождеством»; развитие интереса к литературе, к творчеству Н. В. Гоголя; обучение навыкам групповой работы; создание положительного настроя, поощрение индивидуального творчества учащихся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55280" y="404280"/>
            <a:ext cx="7846920" cy="475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6) «Тут через трубу одной хаты клубами повалил дым и пошёл тучею по небу, и вместе с дымом поднялась ведьма верхом на метле»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32000" y="5229000"/>
            <a:ext cx="6400800" cy="69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ём неожи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46920" cy="424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7) Пузатый Пацюк: «ел за шестерых косарей и выпивал одним разом почти по целому ведру»      </a:t>
            </a:r>
            <a:br>
              <a:rPr sz="54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008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Гиперб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docu0011"/>
          <p:cNvPicPr/>
          <p:nvPr/>
        </p:nvPicPr>
        <p:blipFill>
          <a:blip r:embed="rId2"/>
          <a:stretch/>
        </p:blipFill>
        <p:spPr>
          <a:xfrm>
            <a:off x="2408400" y="115920"/>
            <a:ext cx="4281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5"/>
          <p:cNvSpPr txBox="1"/>
          <p:nvPr/>
        </p:nvSpPr>
        <p:spPr>
          <a:xfrm>
            <a:off x="971640" y="1197000"/>
            <a:ext cx="705636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Black"/>
              </a:rPr>
              <a:t>" Найди фразеологизм 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1. «Чуб не без тайного удовольствия видел, как кузнец, который никому на селе в ус не дул, сгибал в руке пятаки и подковы, как гречневые блины, тот самый кузнец лежал у его ног»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03280" y="5661000"/>
            <a:ext cx="640080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ус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4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2. «Тут чёрт, подъехавши мелким бесом, подхватил её под руку и пустился нашёптывать на ухо то самое, что обыкновенно нашёптывают на ухо всему женскому роду»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одъехал мелким бесо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. «…Оксана отклонила свои щёки, находившиеся уже на неприметном расстоянии от губ кузнеца, и оттолкнула его.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Чего тебе ещё хочется? Ему когда мёд, так и ложка нужна! Поди прочь, у тебя руки жёстче железа. Да и сам ты пахнешь дымом. Я думаю, меня всю обмарал сажею».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76360" y="6021360"/>
            <a:ext cx="6400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му когда мёд, так и ложка нужн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8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56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4. «- Сделай милость, добрый человек, не откажи! – наступал кузнец: - свинины ли, колбас, муки гречневой, ну, полотна, пшена или иного прочего , в случае  потребности… как обыкновенно между добрыми людьми водится… не поскупимся. Расскажи хоть, как, примерно сказать, попасть к нему на дорогу?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- Тому не нужно далеко ходить, у кого чёрт за плечами,- произнёс равнодушно Пацюк, не изменяя своего положения»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76360" y="5805360"/>
            <a:ext cx="64008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ому не нужно далеко ходить, у кого чёрт за плеч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5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docu0010"/>
          <p:cNvPicPr/>
          <p:nvPr/>
        </p:nvPicPr>
        <p:blipFill>
          <a:blip r:embed="rId1"/>
          <a:stretch/>
        </p:blipFill>
        <p:spPr>
          <a:xfrm>
            <a:off x="2448000" y="189000"/>
            <a:ext cx="42940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589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…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все люди, способные чувствовать искусство, были в полном восторге от Гоголя…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С. Т. Аксаков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9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Оборудование: выставка книг Н. В. Гоголя и о нем; материалы из альбома выставки «Н. В. Гоголь»; иллюстрации к повести «Ночь перед Рождеством»; иллюстрации учащихся к повести «Ночь перед Рождеством»; высказывания современников Н. В. Гоголя о нем и о повести «Ночь перед Рождеством».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66"/>
            </a:gs>
            <a:gs pos="100000">
              <a:srgbClr val="6ab4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Знаю, что моё имя после меня будет счастливее  меня и потомки тех же земляков моих, может быть, с глазами, влажными от слёз, произнесут примирение моей тени.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b9efee"/>
                </a:solidFill>
                <a:latin typeface="Garamond"/>
              </a:rPr>
              <a:t>                 Н. В. Гоголь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394" name="Picture 5" descr="Гоголь"/>
          <p:cNvPicPr/>
          <p:nvPr/>
        </p:nvPicPr>
        <p:blipFill>
          <a:blip r:embed="rId1"/>
          <a:stretch/>
        </p:blipFill>
        <p:spPr>
          <a:xfrm>
            <a:off x="2700360" y="189000"/>
            <a:ext cx="3565440" cy="47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ведение итогов. </a:t>
            </a:r>
            <a:br>
              <a:rPr sz="4400"/>
            </a:b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Подсчет командных очков и выставление оценок, награждение сувенирами активных участников игры.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Домашнее задание: подготовить выступление «Жизнь и творчество Ф. М. Тютчева»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eec94"/>
                </a:solidFill>
                <a:uFillTx/>
                <a:latin typeface="Times New Roman"/>
              </a:rPr>
              <a:t>Слово учителя.</a:t>
            </a: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Сегодня у нас будет необычный урок ­– урок-игра по повести Н. В. Гоголя «Ночь перед Рождеством».</a:t>
            </a:r>
            <a:br>
              <a:rPr sz="2000"/>
            </a:br>
            <a:r>
              <a:rPr b="1" lang="en-US" sz="2000" spc="-1" strike="noStrike">
                <a:solidFill>
                  <a:srgbClr val="feec94"/>
                </a:solidFill>
                <a:latin typeface="Times New Roman"/>
              </a:rPr>
              <a:t>Игра будет состоять из 5 туров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Брейн - ринг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этом туре будут вопросы, на которые вы должны будете дать краткий отв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Словарик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вам предстоит объяснить значения предложенных вам сл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Выбери правильный ответ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должны будете найти правильный ответ из четырех предложенных вариант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Узнай, какой литературный прием использовал автор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десь будут вам предложены словосочетания или отрывки из текста, а вы должны будете определить, какой литературный прием использовал Н. В. Гоголь при описании или характеристике данного предмета или персонаж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88400" indent="-7884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Найди фразеологизм»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ы постараетесь найти в данных отрывках фразеологиз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За каждый правильный ответ вы получите один балл. Набравшие 10 и более баллов получат «5», 7 – 9 баллов – «4», 5 – 6 баллов – «3». Но если кто-нибудь наберет 20 баллов, я обещаю поставить две «5»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 сейчас вашему вниманию предлагается инсценировка отрывка из повести «Свидание Вакулы с Оксаной», подготовленный нашими учащимися.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Пожалуйста!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51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Эпиграф к уроку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Не потому, что особой причуде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Дань отдаю в этом тихом кра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Просто – мне дорого все, что и людям,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Все, что мне дорого, то и пою.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                                </a:t>
            </a:r>
            <a:br>
              <a:rPr sz="3600"/>
            </a:b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А. Т. Твардовский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Его длинные  каштановые волосы прямыми космами спадали ниже ушей, слегка загибаясь над ними. Тонкие, тёмные, шёлковые усики чуть прикрывали полные красивые губы… Небольшие карие глаза глядели ласково, но осторожно и не улыбаясь, даже тогда, когда он говорил что-либо весёлое и смешное. Длинный, сухой нос придавал этому лицу и этим сидевшим по его сторонам осторожным глазам что-то птичье, наблюдавшее и вместе добродушно-горделивое…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Г. П. Данилевский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1:46:28Z</dcterms:created>
  <dc:creator>User</dc:creator>
  <dc:description/>
  <dc:language>en-US</dc:language>
  <cp:lastModifiedBy>Мама</cp:lastModifiedBy>
  <dcterms:modified xsi:type="dcterms:W3CDTF">2012-08-11T14:50:33Z</dcterms:modified>
  <cp:revision>27</cp:revision>
  <dc:subject/>
  <dc:title>Слайд 1</dc:title>
</cp:coreProperties>
</file>