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84E-AFB2-4A5E-AB1D-99C0E692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FB7-C846-4FE1-997A-F5B959CA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6FC-5B67-4492-B280-AEBFBD16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756-598A-4E79-AEEB-3B037E8D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4321-FA26-4239-A820-C9090A92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5789-4EEC-4C61-ABBB-4B1B24DF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DB57-9263-4C60-9AFA-FEEE3FFE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9E8A-FD00-4730-A4AA-0796BAF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29F2-E0AD-40CD-9F0B-0401777F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802B-7FA0-4B6A-93C9-FBFEE747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A0F8-E35D-49BC-BE82-0C728FE7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A51-5231-4228-BECD-1D02E494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95CC-C071-4D4B-85B5-10E6D2D3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CBE2-BEAE-4B0E-BE46-DBEF9ED0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9208-092A-4937-9CA9-BA2E6CD0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E950-2334-4A07-A812-1A8709D8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9F38-0989-4923-843B-A7E2766C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D18-CB9F-40CA-951D-12DDCA70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386-47C5-4657-B370-28693071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589-EE62-4D62-8D23-CEA8D4CD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A3A-01C7-4D88-B384-703E242D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8BA-31A5-41F7-9C8F-53675C22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818-BF83-463B-8241-C337A8CC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815-D46F-49B3-8E0E-62FDA607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9505-1EC3-438E-9EC3-7072EFE47B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E2D8-9A69-4533-951B-998CB97ACF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01760" y="-1085760"/>
            <a:ext cx="7920000" cy="268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8640" y="1752480"/>
            <a:ext cx="5715000" cy="47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В мире художественного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слова Жозеф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Рони – Старшег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8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j0090386"/>
          <p:cNvPicPr/>
          <p:nvPr/>
        </p:nvPicPr>
        <p:blipFill>
          <a:blip r:embed="rId2"/>
          <a:stretch/>
        </p:blipFill>
        <p:spPr>
          <a:xfrm>
            <a:off x="0" y="2205000"/>
            <a:ext cx="3492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17г-  «Загадка драгоценного камн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2г - «Удивительное путешествие Гертона Айронкастл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4г - «Сверхъестественный убийц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7г - «Навигаторы бесконечности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4г - «Спутники Вселенной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5г - «Вампир Бетнал Гр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м направлением творчества писателя оставалась научная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нтастик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4000" spc="-1" strike="noStrike">
                <a:solidFill>
                  <a:srgbClr val="0000ff"/>
                </a:solidFill>
                <a:latin typeface="Vivaldi"/>
              </a:rPr>
              <a:t>разновидность художественной литературы, отражающая мир причудливых, нереальных образов, событий, герое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780000" y="1844640"/>
            <a:ext cx="1439640" cy="1440000"/>
          </a:xfrm>
          <a:prstGeom prst="downArrow">
            <a:avLst>
              <a:gd name="adj1" fmla="val 42009"/>
              <a:gd name="adj2" fmla="val 2503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Жозеф Рони-Старший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агражден Орденом Почётного Легиона (1897г.), с 1926 года стал президентом Гонкуровской академ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с 1980 года  во Франции вручается премия Жозефа Рони-Старшего за лучшее произведение в жанре научной фантастики по двум номинациям - роман и новелл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Борьба за огонь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ши впечатления от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аткое изложение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был опасен именно серый медвед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лагодаря чему юношам удалось одержать победу над сильным и опасным хищнико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шите повадки, движения Нао. О каких качествах юноши они говоря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е в тексте отрывок о поединке и подготовьтесь к выразительному чтению фраг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ы 8-9 после повести (с. 222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готовиться к тесту по содержанию повести «Борьба за огонь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дивидуально- подготовить сообщения о биографии и творчестве Джека Лондо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ведение итог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биографией какого зарубежного автора вы познакомились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каким произведением вы познакомилис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Пушок"/>
          <p:cNvPicPr/>
          <p:nvPr/>
        </p:nvPicPr>
        <p:blipFill>
          <a:blip r:embed="rId1"/>
          <a:stretch/>
        </p:blipFill>
        <p:spPr>
          <a:xfrm>
            <a:off x="2843280" y="227664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7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8000" spc="-1" strike="noStrike">
                <a:solidFill>
                  <a:srgbClr val="0000ff"/>
                </a:solidFill>
                <a:latin typeface="Vivaldi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56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Книга- всегда погружение в    удивительную тайну. Она готова   открыться вам – приложите усилия. Она готова беседовать с вами – найдите душевные силы для этого разговора. Она готова служить вам- откройте для неё сердце и ум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. С. Мерк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481120" y="-6480"/>
            <a:ext cx="7491600" cy="120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биографией Ж. Рони-Старшег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произведением Ж. Рони- Старшего «Борьба за огонь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ирование навыков работы с текстом,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55420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280" y="1557360"/>
            <a:ext cx="842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роверка домашнего задания (терминологическая размин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Изучение нового материал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Доклады учащихся о биографии и творчестве Жозефа Рони-Старш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Изучение произведения «Борьба за огон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Домашнее 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Подведение итог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-585720"/>
            <a:ext cx="8588160" cy="22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Vivaldi"/>
              </a:rPr>
              <a:t>Раскройте значение термин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тите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гуме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ха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фор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521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 Герой литерату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Гипербо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Гроте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 Деталь художественна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3. Диало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4. Жан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5. Завяз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6. Загад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. Идея художественна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.Инверс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9. Интон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ранцузский писатель Жозеф Рони-Старший (1856-1940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Содержимое 3" descr="Roni-starshiy_J__A_-P002_.jpg"/>
          <p:cNvPicPr/>
          <p:nvPr/>
        </p:nvPicPr>
        <p:blipFill>
          <a:blip r:embed="rId1"/>
          <a:stretch/>
        </p:blipFill>
        <p:spPr>
          <a:xfrm>
            <a:off x="250920" y="1844640"/>
            <a:ext cx="324144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0" y="1752120"/>
            <a:ext cx="536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Жозеф Анри Рони-старший — это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псевдоним</a:t>
            </a: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 французского  писателя Жозефа Анри Бёкса.  Писатель  творил свои произведения  вместе с младшим братом Серафеном Жюстеном Франсуа, взявшим позднее псевдоним Рони-младший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6516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87г- «Ксипехузы», «Манифест пят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2г- «Вамирэ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6г- «Эйрима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8г- «Смерть Земл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9г– «Борьба за огонь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20г-«Гигантская кошка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30г -«Хельевор с Голубой рек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Содержимое 3" descr="Zhozef_RoniStarshij.jpg"/>
          <p:cNvPicPr/>
          <p:nvPr/>
        </p:nvPicPr>
        <p:blipFill>
          <a:blip r:embed="rId1"/>
          <a:stretch/>
        </p:blipFill>
        <p:spPr>
          <a:xfrm>
            <a:off x="514836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2:37:59Z</dcterms:created>
  <dc:creator>ШКОЛЬНИК</dc:creator>
  <dc:description/>
  <dc:language>en-US</dc:language>
  <cp:lastModifiedBy>Физика</cp:lastModifiedBy>
  <dcterms:modified xsi:type="dcterms:W3CDTF">2012-04-14T02:39:59Z</dcterms:modified>
  <cp:revision>14</cp:revision>
  <dc:subject/>
  <dc:title>Урок литературы в 5 классе</dc:title>
</cp:coreProperties>
</file>