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06B-08CA-4EE5-BC8C-15828A4B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4B1-7AD9-4A70-B877-9A31C225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CF6-1F62-45F9-B84F-E43D7095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F3A-8573-436B-A89F-865CF9E3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0996-1249-4DA5-B243-9541F3CB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267F-DF7A-4E49-9278-BA925D51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CBD7-4F15-486E-BCE2-BB57B9E8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961D-5608-4218-B68A-6A621E40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65DC-3DBD-411F-BA6C-3DEE6C09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CB21-6DCB-4A95-8EDD-0DF539E1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D150-515B-4DCB-BE96-AB3AEDFA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716-AA7F-4114-96B2-66EB22EA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F3F1-C13E-4BD6-8D6B-7BA0566D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46D4-56B3-4AE6-8426-EFC551A7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D9F5-8579-4F1A-BA6D-D35E2374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C4B0-C22D-4AAB-B553-D303533E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451B-1B29-4560-8177-BAC30E82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67F-59EF-4BE8-9920-5D2503BF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E25-F43C-431A-BDC9-B7009464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591-CD1F-415B-8F23-BE61DA6F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031-8C43-4DF8-B5C4-30E2AF72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132-2038-43F0-BEA5-6B9FBF38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AA2-C128-4CE2-AC8E-2E9A99C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FA5-AB16-406A-98EC-A2E6C2EA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220F-C81D-47A5-AEAB-2AA2CED59DA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E71A-570A-4FD8-9EBD-5CF792654B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01760" y="-1085760"/>
            <a:ext cx="7920000" cy="2689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428640" y="1752480"/>
            <a:ext cx="5715000" cy="4772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В мире художественного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слова Жозефа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Рони – Старшег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4800" spc="-1" strike="noStrike">
                <a:solidFill>
                  <a:srgbClr val="0000ff"/>
                </a:solidFill>
                <a:latin typeface="Vivald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lnSpc>
                <a:spcPct val="8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8" descr="j0090386"/>
          <p:cNvPicPr/>
          <p:nvPr/>
        </p:nvPicPr>
        <p:blipFill>
          <a:blip r:embed="rId2"/>
          <a:stretch/>
        </p:blipFill>
        <p:spPr>
          <a:xfrm>
            <a:off x="0" y="2205000"/>
            <a:ext cx="3492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17г-  «Загадка драгоценного камн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2г - «Удивительное путешествие Гертона Айронкастля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4г - «Сверхъестественный убийц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27г - «Навигаторы бесконечности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4г - «Спутники Вселенной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935г - «Вампир Бетнал Грина»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6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лавным направлением творчества писателя оставалась научная </a:t>
            </a: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фантастик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84428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4000" spc="-1" strike="noStrike">
                <a:solidFill>
                  <a:srgbClr val="0000ff"/>
                </a:solidFill>
                <a:latin typeface="Vivaldi"/>
              </a:rPr>
              <a:t>разновидность художественной литературы, отражающая мир причудливых, нереальных образов, событий, герое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3780000" y="1844640"/>
            <a:ext cx="1439640" cy="1440000"/>
          </a:xfrm>
          <a:prstGeom prst="downArrow">
            <a:avLst>
              <a:gd name="adj1" fmla="val 42009"/>
              <a:gd name="adj2" fmla="val 2503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Жозеф Рони-Старший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агражден Орденом Почётного Легиона (1897г.), с 1926 года стал президентом Гонкуровской академ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с 1980 года  во Франции вручается премия Жозефа Рони-Старшего за лучшее произведение в жанре научной фантастики по двум номинациям - роман и новелл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Борьба за огонь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аши впечатления от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аткое изложение повест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ем был опасен именно серый медведь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лагодаря чему юношам удалось одержать победу над сильным и опасным хищнико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шите повадки, движения Нао. О каких качествах юноши они говорят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е в тексте отрывок о поединке и подготовьтесь к выразительному чтению фраг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ить на вопросы 8-9 после повести (с. 222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дготовиться к тесту по содержанию повести «Борьба за огонь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дивидуально- подготовить сообщения о биографии и творчестве Джека Лондо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дведение итог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биографией какого зарубежного автора вы познакомились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 каким произведением вы познакомилис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Пушок"/>
          <p:cNvPicPr/>
          <p:nvPr/>
        </p:nvPicPr>
        <p:blipFill>
          <a:blip r:embed="rId1"/>
          <a:stretch/>
        </p:blipFill>
        <p:spPr>
          <a:xfrm>
            <a:off x="2843280" y="227664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7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Vivaldi"/>
              </a:rPr>
              <a:t>Учитель: Тетерко Ю. А., МКОУ СОШ с. Осиновая Речка</a:t>
            </a:r>
            <a:r>
              <a:rPr b="1" i="1" lang="ru-RU" sz="8000" spc="-1" strike="noStrike">
                <a:solidFill>
                  <a:srgbClr val="0000ff"/>
                </a:solidFill>
                <a:latin typeface="Vivaldi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56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Книга- всегда погружение в    удивительную тайну. Она готова   открыться вам – приложите усилия. Она готова беседовать с вами – найдите душевные силы для этого разговора. Она готова служить вам- откройте для неё сердце и ум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. С. Мерки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481120" y="-6480"/>
            <a:ext cx="7491600" cy="1202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биографией Ж. Рони-Старшег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комство с произведением Ж. Рони- Старшего «Борьба за огонь»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ирование навыков работы с текстом, выразительного чтен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554200" y="-6480"/>
            <a:ext cx="74916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39280" y="1557360"/>
            <a:ext cx="842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роверка домашнего задания (терминологическая размин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Изучение нового материал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Доклады учащихся о биографии и творчестве Жозефа Рони-Старшег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Изучение произведения «Борьба за огон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Домашнее зад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Подведение итогов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74680" y="-585720"/>
            <a:ext cx="8588160" cy="221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Vivaldi"/>
              </a:rPr>
              <a:t>Раскройте значение термин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втобиограф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тите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гумен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ха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фориз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асн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4000" y="1752120"/>
            <a:ext cx="8496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9. Герой литератур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0.Гипербол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1.Гротес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2. Деталь художественна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3. Диало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4. Жан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5. Завяз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6. Загад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Bradley Hand ITC"/>
              </a:rPr>
              <a:t>Раскройте значение термин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7. Идея художественна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8.Инверс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9. Интон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ранцузский писатель Жозеф Рони-Старший (1856-1940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Содержимое 3" descr="Roni-starshiy_J__A_-P002_.jpg"/>
          <p:cNvPicPr/>
          <p:nvPr/>
        </p:nvPicPr>
        <p:blipFill>
          <a:blip r:embed="rId1"/>
          <a:stretch/>
        </p:blipFill>
        <p:spPr>
          <a:xfrm>
            <a:off x="250920" y="1844640"/>
            <a:ext cx="3241440" cy="439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80000" y="1752120"/>
            <a:ext cx="536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Жозеф Анри Рони-старший — это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псевдоним</a:t>
            </a: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 французского  писателя Жозефа Анри Бёкса.  Писатель  творил свои произведения  вместе с младшим братом Серафеном Жюстеном Франсуа, взявшим позднее псевдоним Рони-младший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0"/>
            <a:ext cx="80010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оизведения писателя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565164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87г- «Ксипехузы», «Манифест пят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2г- «Вамирэ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896г- «Эйримах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8г- «Смерть Земл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09г– «Борьба за огонь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20г-«Гигантская кошка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Verdana"/>
              </a:rPr>
              <a:t>1930г -«Хельевор с Голубой реки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Содержимое 3" descr="Zhozef_RoniStarshij.jpg"/>
          <p:cNvPicPr/>
          <p:nvPr/>
        </p:nvPicPr>
        <p:blipFill>
          <a:blip r:embed="rId1"/>
          <a:stretch/>
        </p:blipFill>
        <p:spPr>
          <a:xfrm>
            <a:off x="5148360" y="162864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02:37:59Z</dcterms:created>
  <dc:creator>ШКОЛЬНИК</dc:creator>
  <dc:description/>
  <dc:language>en-US</dc:language>
  <cp:lastModifiedBy>Физика</cp:lastModifiedBy>
  <dcterms:modified xsi:type="dcterms:W3CDTF">2012-04-14T02:39:59Z</dcterms:modified>
  <cp:revision>14</cp:revision>
  <dc:subject/>
  <dc:title>Урок литературы в 5 классе</dc:title>
</cp:coreProperties>
</file>