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17.png" ContentType="image/png"/>
  <Override PartName="/ppt/media/image26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3D90-6369-4B7E-9F25-A419F2F50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D53C-D38E-4FB5-95A0-6998E425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F3D-A6EE-4F68-9DB9-44450581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794A-C8F0-4AE5-A238-E9F5FA6BF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1186D-1426-41AC-80CE-7E251AC99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FDC97-281A-4D17-91A6-DB20AA6D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D7C0E-6871-4FB4-AB1E-2F9FEB4E7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74BE44-D3BA-4B95-8370-87AEDA43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F4CD7E-1E44-4B5B-AF5C-435E9399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02BE9-447D-4713-95DD-3372ABF4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2AA80-2FAD-40BE-ADE8-035ABF474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6E1F-5FFB-45F1-9550-A1CE0561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41BED-B2BC-4C31-BF06-D412E1EF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CC4B94-3155-4D3A-8F49-390F8324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93E1D6-3FC1-4ED9-90F7-E0FE0017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2F4B4-1691-4736-965E-8CDABA6D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D6159-C64E-4102-BAE6-09D59A1B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7E709-ACEB-46F4-98D8-6D90D224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D446D-AD13-4F72-8C42-F432C96A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CE26F-281A-4C89-8F9B-9267C1DB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C6A15-B468-4D99-8006-3B1BEF05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5DBCC-1101-488A-BD28-7AB2CCBE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23D6-FB24-45F8-9C89-36C71E77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EDC83-C3B2-4E7E-B301-96BEDFEB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933E6-C1E0-44F8-A781-EBB0774F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25A9E-2439-40D0-82CE-38EA0DA2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10378-A1BC-46DB-AF7B-C7907EA6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8F749-0F2B-4C28-9B15-CBBCC0E5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F13A3-B7FB-4490-96B6-C31203BE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C811D-D2E2-4F2F-A6AF-ECEB9148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500AF-1766-456C-B607-DDB2CBD0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D0FA3-9F0F-47A1-A2FE-F0CF5BC2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D5055-6B5B-4801-9F8F-7A0E0CE9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8C47-0D97-4D1C-8D4D-C0918550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42C63-FF47-4083-A8D0-5963884F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1B8B2-19F9-4ED5-91D2-93D0AAC5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2DA24-E787-425E-BB15-5D4B28AF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42C22-17AD-46BA-A29B-8FF26410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16676A-F55B-4512-9FAC-FACA42AE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274DF-B366-4C09-B0D4-99D5E322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B13B9-6671-4F21-9502-C0342BD6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762CE-BE2D-46D5-B50F-26B19DD26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FDBAF-61CC-4D75-9964-05982D4A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8C21-F5F3-4DB9-886D-52B4B116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174E-548F-49BF-BA4E-784677D0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C142-2CCD-4B02-8F89-01AECF3F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24C3-C2EB-4629-ACC6-C5F7D70D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AA29-DEBC-4E0E-8130-D299D77A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AD87-0AD4-4C7E-B0AC-1DD65EB3FF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7F85C-F234-4DC9-A2AD-8F8E2651DB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2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FDD0-E611-4A86-9409-90D21BABFCD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8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C0CE-0625-41DB-9A8D-EB8C550ED2A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68360" y="836640"/>
            <a:ext cx="784872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резентац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к уроку внеклассного чтен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по литературе в 6 класс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Работа выполнена     Селивановой Галиной Геннадьевно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учителем  русского языка и литературы    Яренской  муниципальной средней    общеобразовательной школ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Ленского района     Архангельской  области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2011 г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Arial Black"/>
              </a:rPr>
              <a:t>«Умница – головка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48956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а повесть рассказывает о приключениях маленькой  девочк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арго рано потеряла родителей. Пережив горечь потерь, пройдя через нелегкие испытания, Марго находит друзей и наставни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 время войны она становится сестрой милосердия. Это бесстрашная героиня, которую любят, которой гордятся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940360" y="1484280"/>
            <a:ext cx="2448000" cy="22543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87" name=""/>
          <p:cNvSpPr/>
          <p:nvPr/>
        </p:nvSpPr>
        <p:spPr>
          <a:xfrm flipH="1" flipV="1">
            <a:off x="467640" y="2061360"/>
            <a:ext cx="237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5292720" y="4149720"/>
            <a:ext cx="3240000" cy="217800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3000"/>
                            </p:stCondLst>
                            <p:childTnLst>
                              <p:par>
                                <p:cTn id="3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2268360" cy="3025440"/>
          </a:xfrm>
          <a:prstGeom prst="rect">
            <a:avLst/>
          </a:prstGeom>
          <a:ln w="57240">
            <a:solidFill>
              <a:srgbClr val="ff33cc"/>
            </a:solidFill>
            <a:miter/>
          </a:ln>
        </p:spPr>
      </p:pic>
      <p:sp>
        <p:nvSpPr>
          <p:cNvPr id="290" name=""/>
          <p:cNvSpPr txBox="1"/>
          <p:nvPr/>
        </p:nvSpPr>
        <p:spPr>
          <a:xfrm>
            <a:off x="1476360" y="476280"/>
            <a:ext cx="72723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cc"/>
                    </a:gs>
                    <a:gs pos="100000">
                      <a:srgbClr val="ffff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Сибирочка"</a:t>
            </a:r>
            <a:endParaRPr b="0" i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cc"/>
                  </a:gs>
                  <a:gs pos="100000">
                    <a:srgbClr val="ffff00"/>
                  </a:gs>
                </a:gsLst>
                <a:lin ang="81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1" name=""/>
          <p:cNvSpPr/>
          <p:nvPr/>
        </p:nvSpPr>
        <p:spPr>
          <a:xfrm>
            <a:off x="3132000" y="1341360"/>
            <a:ext cx="5688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В невероятных и полных драматизма историях предстоит участвовать Сибирочке – юной княжне и героине  приключенческой повести Лидии Чарс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</a:rPr>
              <a:t>Избежав смертельной опасности, оставшись без родителей , девочка оказывается в логове разбойников. Вот  тут-то  и разворачиваются захватывающие приключени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4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364000" y="907920"/>
            <a:ext cx="2795760" cy="323856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293" name=""/>
          <p:cNvSpPr/>
          <p:nvPr/>
        </p:nvSpPr>
        <p:spPr>
          <a:xfrm>
            <a:off x="324000" y="189000"/>
            <a:ext cx="439236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Много суровых испытаний пережила Сибирочка у разбойников.   Страшно и одиноко ей было без друзей и от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Горькую несправедливость, обиды и унижения переживала девочка в эти дни. Жизнь была жестока   к  ней.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Только знакомство с Андрюшей скрасило её жизн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537372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                    </a:t>
            </a:r>
            <a:r>
              <a:rPr b="1" i="1" lang="en-US" sz="2400" spc="-1" strike="noStrike">
                <a:solidFill>
                  <a:srgbClr val="a50021"/>
                </a:solidFill>
                <a:latin typeface="Times New Roman"/>
              </a:rPr>
              <a:t>Вдвоем   они   убегают от  жестокого  главаря Зуба  и его разбойников  и     торопятся в Петербу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4800"/>
                            </p:stCondLst>
                            <p:childTnLst>
                              <p:par>
                                <p:cTn id="3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3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68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8800"/>
                            </p:stCondLst>
                            <p:childTnLst>
                              <p:par>
                                <p:cTn id="3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3800"/>
                            </p:stCondLst>
                            <p:childTnLst>
                              <p:par>
                                <p:cTn id="37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animClr clrSpc="rgb">
                                      <p:cBhvr>
                                        <p:cTn id="379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3300"/>
                                      </p:to>
                                    </p:animClr>
                                    <p:set>
                                      <p:cBhvr>
                                        <p:cTn id="380" dur="250" autoRev="1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4300"/>
                            </p:stCondLst>
                            <p:childTnLst>
                              <p:par>
                                <p:cTn id="3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8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24000" y="1268280"/>
            <a:ext cx="3687480" cy="43927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296" name=""/>
          <p:cNvSpPr/>
          <p:nvPr/>
        </p:nvSpPr>
        <p:spPr>
          <a:xfrm flipH="1">
            <a:off x="5887440" y="981000"/>
            <a:ext cx="257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40360" y="404640"/>
            <a:ext cx="4787640" cy="55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Оказавшись в цирке,Сибирочка становится дрессировщицей львов. Автор пишет: </a:t>
            </a:r>
            <a:r>
              <a:rPr b="0" lang="ru-RU" sz="2400" spc="-1" strike="noStrike">
                <a:solidFill>
                  <a:srgbClr val="990033"/>
                </a:solidFill>
                <a:latin typeface="Times New Roman"/>
              </a:rPr>
              <a:t>«Страшно было видеть эту детскую головку, бес-печно распевающую в огромной пасти великана-льва».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Девочку все полюбили: и зрители, и работники цирка.Здесь они с Андрюшей нашли настоящих друз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</a:rPr>
              <a:t>Этой книгой Л .Чарская учит, что друзья на то и существуют, чтобы  в трудные минуты помогать друг друг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77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770" fill="hold"/>
                                        <p:tgtEl>
                                          <p:spTgt spid="2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6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98" dur="77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119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1440"/>
                            </p:stCondLst>
                            <p:childTnLst>
                              <p:par>
                                <p:cTn id="4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3440"/>
                            </p:stCondLst>
                            <p:childTnLst>
                              <p:par>
                                <p:cTn id="4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 rot="195600">
            <a:off x="6372000" y="1196640"/>
            <a:ext cx="2259000" cy="29541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99" name=""/>
          <p:cNvSpPr/>
          <p:nvPr/>
        </p:nvSpPr>
        <p:spPr>
          <a:xfrm>
            <a:off x="1116000" y="260280"/>
            <a:ext cx="7416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en-US" sz="3200" spc="-1" strike="noStrike">
                <a:solidFill>
                  <a:srgbClr val="000066"/>
                </a:solidFill>
                <a:latin typeface="Arial Black"/>
              </a:rPr>
              <a:t>«Записки  гимназистки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24000" y="907920"/>
            <a:ext cx="540036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Отношение к бедным людям -главное мерило человеческого достоинства 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Times New Roman"/>
              </a:rPr>
              <a:t>Об  этом  повесть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«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З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аписки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гимназистк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Times New Roman"/>
              </a:rPr>
              <a:t>Леночка осталась без родителей, ей пришлось поехать в незнакомый Петербург, жить у родственников , которые не любили девочку. В гимназии Лена переживала оскорбления, насмешки , издевательства ,с ней никто не дружи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6156360"/>
            <a:ext cx="8569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 Black"/>
              </a:rPr>
              <a:t>Умение терпеть несправедливость , вера в то, что зло потерпит поражение, –вот ценные качества  герои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900"/>
                            </p:stCondLst>
                            <p:childTnLst>
                              <p:par>
                                <p:cTn id="4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4900"/>
                            </p:stCondLst>
                            <p:childTnLst>
                              <p:par>
                                <p:cTn id="43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6900"/>
                            </p:stCondLst>
                            <p:childTnLst>
                              <p:par>
                                <p:cTn id="4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9900"/>
                            </p:stCondLst>
                            <p:childTnLst>
                              <p:par>
                                <p:cTn id="4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9" dur="2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1900"/>
                            </p:stCondLst>
                            <p:childTnLst>
                              <p:par>
                                <p:cTn id="4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2790720" cy="3600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303" name=""/>
          <p:cNvSpPr/>
          <p:nvPr/>
        </p:nvSpPr>
        <p:spPr>
          <a:xfrm>
            <a:off x="4500720" y="189000"/>
            <a:ext cx="4321080" cy="55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Именно так и складывается судьба бедной гимназистки.</a:t>
            </a:r>
            <a:r>
              <a:rPr b="1" lang="ru-RU" sz="2000" spc="-1" strike="noStrike">
                <a:solidFill>
                  <a:srgbClr val="990099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33cc"/>
                </a:solidFill>
                <a:latin typeface="Times New Roman"/>
              </a:rPr>
              <a:t>Сначала на её сторону переходит маленький Толик, потом исправ-ляется горбунья Жю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 гимназии Леночку любят учителя за её старание в учебе, аккуратность и вежливость. О ней с благодарностью отзываются графиня Анна, тетя Нелли, дядя ...Вскоре девочку полюбили не только в семье Икониных, но и в гимназии.  Даже самый злостный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враг, Жюли, сказала о Лене : «   </a:t>
            </a:r>
            <a:r>
              <a:rPr b="1" lang="ru-RU" sz="2000" spc="-1" strike="noStrike" u="sng">
                <a:solidFill>
                  <a:srgbClr val="990033"/>
                </a:solidFill>
                <a:uFillTx/>
                <a:latin typeface="Times New Roman"/>
              </a:rPr>
              <a:t>Глядя на тебя, мы учимся хорошему. Ты нужна нам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4000" y="414972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</a:rPr>
              <a:t>Мы должны быть внимательнее друг к друг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50920" y="59500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Этой повестью Л Чарская учит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маленьких читателей, что такие добрые, милосердные люди ,как Леночка, нам  нужны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500" autoRev="1" fill="hold"/>
                                        <p:tgtEl>
                                          <p:spTgt spid="3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000"/>
                            </p:stCondLst>
                            <p:childTnLst>
                              <p:par>
                                <p:cTn id="4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8000"/>
                            </p:stCondLst>
                            <p:childTnLst>
                              <p:par>
                                <p:cTn id="4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rcRect l="0" t="13120" r="401" b="0"/>
          <a:stretch/>
        </p:blipFill>
        <p:spPr>
          <a:xfrm>
            <a:off x="468360" y="1341360"/>
            <a:ext cx="2087640" cy="28098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07" name=""/>
          <p:cNvSpPr/>
          <p:nvPr/>
        </p:nvSpPr>
        <p:spPr>
          <a:xfrm>
            <a:off x="250920" y="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1" i="1" lang="en-US" sz="2400" spc="-1" strike="noStrike">
                <a:solidFill>
                  <a:srgbClr val="000066"/>
                </a:solidFill>
                <a:latin typeface="Arial Black"/>
              </a:rPr>
              <a:t>Смелая жизнь</a:t>
            </a: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»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- историческая повесть 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о судьбе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 легендарной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кавалерист -  девицы</a:t>
            </a: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 Black"/>
              </a:rPr>
              <a:t>Надежды Дуровой </a:t>
            </a:r>
            <a:r>
              <a:rPr b="1" lang="en-US" sz="1800" spc="-1" strike="noStrike">
                <a:solidFill>
                  <a:srgbClr val="0000cc"/>
                </a:solidFill>
                <a:latin typeface="Arial Black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876360" y="1197000"/>
            <a:ext cx="33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43280" y="1052640"/>
            <a:ext cx="6049800" cy="37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С детства воспитанная по – мальчишески, Надежда в годы Отечественной войны  1812 года прославила свое имя целым рядом подвиг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Надежду отличают бесстрашие, дисциплинированность, чувство товарище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В Бородинском сражении она участвовала наравне со взросл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Эта повесть – урок любви к родной истории, к Роди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5940360" y="4365720"/>
            <a:ext cx="2448000" cy="2036520"/>
          </a:xfrm>
          <a:prstGeom prst="rect">
            <a:avLst/>
          </a:prstGeom>
          <a:ln w="57240">
            <a:solidFill>
              <a:srgbClr val="d60093"/>
            </a:solidFill>
            <a:miter/>
          </a:ln>
        </p:spPr>
      </p:pic>
      <p:sp>
        <p:nvSpPr>
          <p:cNvPr id="311" name=""/>
          <p:cNvSpPr/>
          <p:nvPr/>
        </p:nvSpPr>
        <p:spPr>
          <a:xfrm>
            <a:off x="468360" y="472428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История жизни Надежды Дуровой послужила основой для создания кинофильма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66"/>
                </a:solidFill>
                <a:latin typeface="Times New Roman"/>
              </a:rPr>
              <a:t>«Гусарская баллад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4600"/>
                            </p:stCondLst>
                            <p:childTnLst>
                              <p:par>
                                <p:cTn id="4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6600"/>
                            </p:stCondLst>
                            <p:childTnLst>
                              <p:par>
                                <p:cTn id="50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8600"/>
                            </p:stCondLst>
                            <p:childTnLst>
                              <p:par>
                                <p:cTn id="50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600"/>
                            </p:stCondLst>
                            <p:childTnLst>
                              <p:par>
                                <p:cTn id="5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4400"/>
                            </p:stCondLst>
                            <p:childTnLst>
                              <p:par>
                                <p:cTn id="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6400"/>
                            </p:stCondLst>
                            <p:childTnLst>
                              <p:par>
                                <p:cTn id="5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7400"/>
                            </p:stCondLst>
                            <p:childTnLst>
                              <p:par>
                                <p:cTn id="5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9400"/>
                            </p:stCondLst>
                            <p:childTnLst>
                              <p:par>
                                <p:cTn id="53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3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1400"/>
                            </p:stCondLst>
                            <p:childTnLst>
                              <p:par>
                                <p:cTn id="5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0" dur="25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1900"/>
                            </p:stCondLst>
                            <p:childTnLst>
                              <p:par>
                                <p:cTn id="5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2184480" cy="29527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313" name=""/>
          <p:cNvSpPr/>
          <p:nvPr/>
        </p:nvSpPr>
        <p:spPr>
          <a:xfrm>
            <a:off x="468360" y="26028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 Black"/>
              </a:rPr>
              <a:t>О  жизни   Лидии    Чарско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71640" y="1341360"/>
            <a:ext cx="5869080" cy="30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ё сын Юрий  служил в</a:t>
            </a: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расной Армии и погиб в Гражданскую войн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1924 году она была уволена из  театра. Чарская очень нуждалась в заработке. Но несколько лет не могла писа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ела её были очень плохи. Мальчики и девочки жалели  писательницу, приходили к ней, помогали  убирать комнату, мыть полы и рассказывали  о своих любимых героях её книг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4000" y="907920"/>
            <a:ext cx="89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О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жизни писательницы после революции известно очень   мал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68360" y="4937040"/>
            <a:ext cx="849636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Лидия Чарская прожила не так много -  всего 62 г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ледние двадцать лет жизни обернулись   для неё  трагеди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то были годы забвения: целые поколения читателей не слышали её имени, не читали её кни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40"/>
                            </p:stCondLst>
                            <p:childTnLst>
                              <p:par>
                                <p:cTn id="5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8760"/>
                            </p:stCondLst>
                            <p:childTnLst>
                              <p:par>
                                <p:cTn id="57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73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760"/>
                            </p:stCondLst>
                            <p:childTnLst>
                              <p:par>
                                <p:cTn id="5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7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2760"/>
                            </p:stCondLst>
                            <p:childTnLst>
                              <p:par>
                                <p:cTn id="5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4480"/>
                            </p:stCondLst>
                            <p:childTnLst>
                              <p:par>
                                <p:cTn id="5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7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6480"/>
                            </p:stCondLst>
                            <p:childTnLst>
                              <p:par>
                                <p:cTn id="5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476360" y="-243000"/>
            <a:ext cx="482616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Наследие      Чарской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 rot="388800">
            <a:off x="7164360" y="475920"/>
            <a:ext cx="1566720" cy="223200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 rot="21264600">
            <a:off x="395280" y="907920"/>
            <a:ext cx="1406520" cy="201456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2843280" y="981000"/>
            <a:ext cx="1546200" cy="1916280"/>
          </a:xfrm>
          <a:prstGeom prst="rect">
            <a:avLst/>
          </a:prstGeom>
          <a:ln w="57240">
            <a:solidFill>
              <a:srgbClr val="0000cc"/>
            </a:solidFill>
            <a:miter/>
          </a:ln>
        </p:spPr>
      </p:pic>
      <p:sp>
        <p:nvSpPr>
          <p:cNvPr id="321" name=""/>
          <p:cNvSpPr/>
          <p:nvPr/>
        </p:nvSpPr>
        <p:spPr>
          <a:xfrm>
            <a:off x="395280" y="3573360"/>
            <a:ext cx="856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льше восьмидесяти  книг написала Л Чарская. В её сказках и  повес-тях  всегда счастливый конец.Её герои, пройдя путь испытаний, горя и разочарований, побеждаю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5003640" y="907920"/>
            <a:ext cx="1575000" cy="1944720"/>
          </a:xfrm>
          <a:prstGeom prst="rect">
            <a:avLst/>
          </a:prstGeom>
          <a:ln w="57240">
            <a:solidFill>
              <a:srgbClr val="0033cc"/>
            </a:solidFill>
            <a:miter/>
          </a:ln>
        </p:spPr>
      </p:pic>
      <p:sp>
        <p:nvSpPr>
          <p:cNvPr id="323" name=""/>
          <p:cNvSpPr/>
          <p:nvPr/>
        </p:nvSpPr>
        <p:spPr>
          <a:xfrm>
            <a:off x="250920" y="45813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е победила только сама писательница. Она умерла в бедности и одиночестве и похоронена неизвестно кем на Смоленском кладбище в Ленингра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920" y="573408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Очевидцы утверждают, что за просторной могилой Лидии Чарской кто-то постоянно ухаживает. Здесь часто видят живые цветы, а ведь после смерти писательницы прощло уже много л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5"/>
          <a:stretch/>
        </p:blipFill>
        <p:spPr>
          <a:xfrm>
            <a:off x="1476360" y="1844640"/>
            <a:ext cx="1174680" cy="16542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326" name="" descr=""/>
          <p:cNvPicPr/>
          <p:nvPr/>
        </p:nvPicPr>
        <p:blipFill>
          <a:blip r:embed="rId6"/>
          <a:stretch/>
        </p:blipFill>
        <p:spPr>
          <a:xfrm>
            <a:off x="6156360" y="1844640"/>
            <a:ext cx="1314360" cy="17254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6560"/>
                            </p:stCondLst>
                            <p:childTnLst>
                              <p:par>
                                <p:cTn id="609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1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8560"/>
                            </p:stCondLst>
                            <p:childTnLst>
                              <p:par>
                                <p:cTn id="6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15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0560"/>
                            </p:stCondLst>
                            <p:childTnLst>
                              <p:par>
                                <p:cTn id="6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560"/>
                            </p:stCondLst>
                            <p:childTnLst>
                              <p:par>
                                <p:cTn id="622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2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9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3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186920" y="2924280"/>
            <a:ext cx="6409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 rot="450600">
            <a:off x="542880" y="-860400"/>
            <a:ext cx="8007480" cy="299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5000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5000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5000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Лидия    Алексеевна  Чарская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5000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"/>
          <p:cNvSpPr/>
          <p:nvPr/>
        </p:nvSpPr>
        <p:spPr>
          <a:xfrm rot="20908800">
            <a:off x="395280" y="213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66ff"/>
                </a:solidFill>
                <a:latin typeface="Times New Roman"/>
              </a:rPr>
              <a:t>Личност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54920" y="3860640"/>
            <a:ext cx="50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i="1" lang="en-US" sz="7200" spc="-1" strike="noStrike">
                <a:solidFill>
                  <a:srgbClr val="990099"/>
                </a:solidFill>
                <a:latin typeface="Times New Roman"/>
              </a:rPr>
              <a:t>Судьба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43280" y="5157720"/>
            <a:ext cx="504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i="1" lang="en-US" sz="7200" spc="-1" strike="noStrike">
                <a:solidFill>
                  <a:srgbClr val="3366ff"/>
                </a:solidFill>
                <a:latin typeface="Times New Roman"/>
              </a:rPr>
              <a:t>Творчество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84360" y="5589720"/>
            <a:ext cx="1152360" cy="968400"/>
          </a:xfrm>
          <a:prstGeom prst="rect">
            <a:avLst/>
          </a:prstGeom>
          <a:ln w="57240">
            <a:solidFill>
              <a:srgbClr val="990099"/>
            </a:solidFill>
            <a:miter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5299200" y="2060640"/>
            <a:ext cx="3208320" cy="338436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70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200"/>
                            </p:stCondLst>
                            <p:childTnLst>
                              <p:par>
                                <p:cTn id="2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7100"/>
                            </p:stCondLst>
                            <p:childTnLst>
                              <p:par>
                                <p:cTn id="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000" y="369360"/>
            <a:ext cx="821844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 Её почитают гением прошлого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443640" y="1773360"/>
            <a:ext cx="1903320" cy="288108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sp>
        <p:nvSpPr>
          <p:cNvPr id="252" name=""/>
          <p:cNvSpPr/>
          <p:nvPr/>
        </p:nvSpPr>
        <p:spPr>
          <a:xfrm>
            <a:off x="2987640" y="3068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1484280"/>
            <a:ext cx="5472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cc"/>
                </a:solidFill>
                <a:latin typeface="Times New Roman"/>
              </a:rPr>
              <a:t>Её  книги читали при свече, керосинке, при огне буржуйки, при свете ярких ламп, даже на скамейке под липами. Над ее книгами счастливо забывались девочки и девушки,  героев ее повестей навсегда полюбили мальчишки, познающие жизнь. Над ними плакали русские изгнан-ники, увозившие книги своего детства за границу. Л Чарская  часто получала письма от детей с выражением восторга и любви, с просьбами достать  продолжение  любимой книги .«Как хорошо сознавать, что ты можешь делать добро людям. « Это лучшая  радость королей , это счастье выпало мне.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5580360" cy="31464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 flipH="1">
            <a:off x="399240" y="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2410560" y="835920"/>
            <a:ext cx="631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24000" y="-819000"/>
            <a:ext cx="8640720" cy="24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bb5f03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bb5f03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ffff99"/>
                    </a:gs>
                    <a:gs pos="100000">
                      <a:srgbClr val="bb5f03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а   виражах   судьб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ffff99"/>
                  </a:gs>
                  <a:gs pos="100000">
                    <a:srgbClr val="bb5f03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59800" y="5877000"/>
            <a:ext cx="797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-1045440" y="5305320"/>
            <a:ext cx="1094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дия Чарская окончила Павловский  женский институ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етербурге, многие героини её романов тоже учатс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этом институте. Здесь они дружат, влюбляют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сорятся и очень скучают без род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840"/>
                            </p:stCondLst>
                            <p:childTnLst>
                              <p:par>
                                <p:cTn id="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64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932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03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33,0,-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8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468360" y="476280"/>
            <a:ext cx="1881000" cy="3600360"/>
          </a:xfrm>
          <a:prstGeom prst="rect">
            <a:avLst/>
          </a:prstGeom>
          <a:ln w="76320">
            <a:solidFill>
              <a:srgbClr val="bb5f03"/>
            </a:solidFill>
            <a:miter/>
          </a:ln>
        </p:spPr>
      </p:pic>
      <p:sp>
        <p:nvSpPr>
          <p:cNvPr id="262" name=""/>
          <p:cNvSpPr/>
          <p:nvPr/>
        </p:nvSpPr>
        <p:spPr>
          <a:xfrm>
            <a:off x="611280" y="1125360"/>
            <a:ext cx="4537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211640" y="1700280"/>
            <a:ext cx="2879640" cy="22035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 rot="21019800">
            <a:off x="2700000" y="-316080"/>
            <a:ext cx="5761080" cy="184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 Александринке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25440" y="4005360"/>
            <a:ext cx="23572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Закончив институт, Чарская попала на сцену  петербургского  Александринского теат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00360" y="4005360"/>
            <a:ext cx="619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кончив театральные курсы, она стала профессиональной актрисой театра. Но знаменитой и   блистательной стать не могл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2843280" y="551232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новата оказалась её страсть к литературному творчеству. Она писала стихи, сказки, повести.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63416"/>
            </a:gs>
            <a:gs pos="50000">
              <a:srgbClr val="ffff00"/>
            </a:gs>
            <a:gs pos="100000">
              <a:srgbClr val="46341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 rot="20968200">
            <a:off x="539280" y="1569600"/>
            <a:ext cx="1728720" cy="2448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 rot="603000">
            <a:off x="6227640" y="1341360"/>
            <a:ext cx="2160720" cy="2879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3132000" y="1197000"/>
            <a:ext cx="2160720" cy="3095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826920" y="260280"/>
            <a:ext cx="6309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икл кавказских повестей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4292640"/>
            <a:ext cx="8280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Эти повести посвящены славному княжескому роду Джаваха, его юным представительницам. Смелая Нина, маленький Юлико, преданная Люда Влассовская, Бэлла – герои этих кни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В самые невероятные истории попадают герои ,они учат нас смелости, честности и милосерд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3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" dur="3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3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2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012000" y="1844640"/>
            <a:ext cx="2149200" cy="26305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274" name=""/>
          <p:cNvSpPr txBox="1"/>
          <p:nvPr/>
        </p:nvSpPr>
        <p:spPr>
          <a:xfrm>
            <a:off x="900000" y="476280"/>
            <a:ext cx="7128000" cy="9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3300"/>
                    </a:gs>
                    <a:gs pos="100000">
                      <a:srgbClr val="ffff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Вторая  Нина"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3300"/>
                  </a:gs>
                  <a:gs pos="100000">
                    <a:srgbClr val="ffff00"/>
                  </a:gs>
                </a:gsLst>
                <a:lin ang="135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1484280"/>
            <a:ext cx="5616360" cy="51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нилой климат Петербурга ока-зался гибельным для Нины  Джава-хи. Девочка умерл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ная памяти любимой подруги, Люда Влассовская приезжает на Кавказ в Гори.    Здесь она обретает названого отца , маленькую сестру Нину.   Так в честь Нины Джавахи назвали свою дочь Бэлла и Израэ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вы! Злой рок преследует семью Джаваха, и вскоре погибают в горах родители малыш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еоргий Джаваха и Люда становятся родителями  второй Н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95640" y="558972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 Black"/>
              </a:rPr>
              <a:t>Прочитайте повесть</a:t>
            </a:r>
            <a:r>
              <a:rPr b="1" i="1" lang="en-US" sz="2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 Black"/>
              </a:rPr>
              <a:t>, и  вы узнаете о жизни второй Нины много интересн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500"/>
                            </p:stCondLst>
                            <p:childTnLst>
                              <p:par>
                                <p:cTn id="1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500"/>
                            </p:stCondLst>
                            <p:childTnLst>
                              <p:par>
                                <p:cTn id="1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3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95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2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юбимые романы девоче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038480" cy="453060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К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яжна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жавах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В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орая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ин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66"/>
                </a:solidFill>
                <a:latin typeface="Times New Roman"/>
              </a:rPr>
              <a:t>З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писки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нститутки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« </a:t>
            </a:r>
            <a:r>
              <a:rPr b="1" lang="ru-RU" sz="3200" spc="-1" strike="noStrike">
                <a:solidFill>
                  <a:srgbClr val="990033"/>
                </a:solidFill>
                <a:latin typeface="Times New Roman"/>
              </a:rPr>
              <a:t>С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бирочка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 rot="940800">
            <a:off x="5363640" y="1700280"/>
            <a:ext cx="2665440" cy="45306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20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2000"/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2000"/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2000"/>
                                        <p:tgtEl>
                                          <p:spTgt spid="2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bb5f03"/>
            </a:gs>
            <a:gs pos="50000">
              <a:srgbClr val="ffff00"/>
            </a:gs>
            <a:gs pos="100000">
              <a:srgbClr val="bb5f0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юбимые  книги мальчиков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284360" y="1196640"/>
            <a:ext cx="468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800" spc="-1" strike="noStrike">
                <a:solidFill>
                  <a:srgbClr val="ff33cc"/>
                </a:solidFill>
                <a:latin typeface="Monotype Corsiva"/>
              </a:rPr>
              <a:t>С</a:t>
            </a:r>
            <a:r>
              <a:rPr b="1" i="1" lang="ru-RU" sz="4800" spc="-1" strike="noStrike">
                <a:solidFill>
                  <a:srgbClr val="3399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мелая</a:t>
            </a:r>
            <a:r>
              <a:rPr b="1" i="1" lang="ru-RU" sz="3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жизнь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lang="ru-RU" sz="4400" spc="-1" strike="noStrike">
                <a:solidFill>
                  <a:srgbClr val="ff33cc"/>
                </a:solidFill>
                <a:latin typeface="Monotype Corsiva"/>
              </a:rPr>
              <a:t>Щ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елчок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ff33cc"/>
                </a:solidFill>
                <a:latin typeface="Monotype Corsiva"/>
              </a:rPr>
              <a:t>К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няжна</a:t>
            </a:r>
            <a:r>
              <a:rPr b="1" i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Джаваха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400" spc="-1" strike="noStrike">
                <a:solidFill>
                  <a:srgbClr val="ff33cc"/>
                </a:solidFill>
                <a:latin typeface="Monotype Corsiva"/>
              </a:rPr>
              <a:t>П</a:t>
            </a:r>
            <a:r>
              <a:rPr b="1" i="1" lang="ru-RU" sz="4400" spc="-1" strike="noStrike">
                <a:solidFill>
                  <a:srgbClr val="3366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аж</a:t>
            </a:r>
            <a:r>
              <a:rPr b="1" i="1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цесаревны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«</a:t>
            </a:r>
            <a:r>
              <a:rPr b="1" i="1" lang="ru-RU" sz="4800" spc="-1" strike="noStrike">
                <a:solidFill>
                  <a:srgbClr val="ff33cc"/>
                </a:solidFill>
                <a:latin typeface="Monotype Corsiva"/>
              </a:rPr>
              <a:t>Р</a:t>
            </a:r>
            <a:r>
              <a:rPr b="1" i="1" lang="ru-RU" sz="4800" spc="-1" strike="noStrike">
                <a:solidFill>
                  <a:srgbClr val="3399ff"/>
                </a:solidFill>
                <a:latin typeface="Monotype Corsiva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ади</a:t>
            </a:r>
            <a:r>
              <a:rPr b="1" i="1" lang="ru-RU" sz="24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66"/>
                </a:solidFill>
                <a:latin typeface="Times New Roman"/>
              </a:rPr>
              <a:t>семь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0" t="12700" r="-2427" b="0"/>
          <a:stretch/>
        </p:blipFill>
        <p:spPr>
          <a:xfrm rot="21230400">
            <a:off x="1187280" y="1844640"/>
            <a:ext cx="2448000" cy="3575160"/>
          </a:xfrm>
          <a:prstGeom prst="rect">
            <a:avLst/>
          </a:prstGeom>
          <a:ln w="76320">
            <a:solidFill>
              <a:srgbClr val="ffff66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7667640" y="5775480"/>
            <a:ext cx="865080" cy="7268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000"/>
                            </p:stCondLst>
                            <p:childTnLst>
                              <p:par>
                                <p:cTn id="2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2000" fill="hold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16:24:34Z</dcterms:created>
  <dc:creator>USER</dc:creator>
  <dc:description/>
  <dc:language>en-US</dc:language>
  <cp:lastModifiedBy>Billy</cp:lastModifiedBy>
  <dcterms:modified xsi:type="dcterms:W3CDTF">2012-02-23T18:34:14Z</dcterms:modified>
  <cp:revision>51</cp:revision>
  <dc:subject/>
  <dc:title>Лидия Чарская</dc:title>
</cp:coreProperties>
</file>