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678-77E8-4EBE-9326-6C195857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B0D-7187-41B5-A4A7-AFB8875D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B05C-5756-466F-B233-77C71677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352A-12DD-4033-B2A1-8E31B45A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05179-327B-4D9A-8ABB-A2A50E0E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B8EA1-6FF4-4C4C-AFCD-E04D5FB7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CD053-2133-41EF-AD92-7ACF6BED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61D66-89B1-4C7B-8AEB-B2B9EE84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AA076-A69C-4520-993D-962E02B9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6FBF8-985E-41B6-9A00-3488ABA9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296F8-F1A4-449A-9DA4-8EBA3D4D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219-9B36-4979-9D7C-D1652C93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F8C71-6463-418A-AF31-D8DC0635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9F97C-0776-478A-AA2C-90897CCA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04607-A516-4BC3-AE07-3DFAAA96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87E0C-3C96-4022-A50F-BD6A4D08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3EE36-128D-4D8F-82D2-F9960306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2E177-7BD3-4559-AAFD-0CBD7406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801B0-2EC5-48DC-973F-CA0FD2CA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7A5CD-7435-4B7C-A333-7B3EEBE3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89CF1-AFD9-40FC-A82D-70F05174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58399-9615-4352-B177-6996F05F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EFF-4EF4-4424-920B-C3983DF6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438D8-6A9B-4CAB-843C-6793E7C2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4D578-20FF-4337-BF32-0C54E6D1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46CF9-5B3A-4071-AC3E-43E892D5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AF2E8-0D52-4BF0-825B-1A2E6777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8DA05-1D3F-4D67-A255-9208DB67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ACE81-C32A-4A46-BD36-34B6740D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BEB1B-D9F4-461A-84BC-D3F7F038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85519-DF74-44D1-8712-1481B7CB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F42EC-3524-4D57-9156-1FBC71CE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31060-7076-47B1-9A01-9EAD719C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15D2-BAD9-4E6E-984D-8D152BCB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F4C90-4744-4BC6-B75C-F174C562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30BFC-E798-4767-B034-6734CF8B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9DEC1-2976-4EC8-8DA8-9BECD103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C1E37-005C-465E-975D-F3EF018F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6C077-C302-4898-BE60-FCF13D45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A879C-772B-4C08-A512-2F84BA9A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620B1-878C-465A-906A-E1B50FE9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C801B-EEDB-4E3B-ABCD-EEE3A8B0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1F427-F7F0-4C2F-AD8E-C2AE2911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56D-3AD3-414E-8965-BC43AF2C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5CF-48B3-4646-A4C8-B3C2F10D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B58-3C25-4942-A1FB-52EE414A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E3E9-9B2A-4851-94F6-8664AF76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7510-D119-4B62-858D-E7E7C4B5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D3C6-A869-4C25-8F50-095C6B43A5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04AA-AD8A-437F-8BD4-037CDB5C36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D89D-B139-49D7-BDB8-09B77A3F736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7B4F-E777-4533-B37D-83C0116060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836640"/>
            <a:ext cx="784872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зентац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 уроку внеклассного чт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литературе в 6 клас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бота выполнена     Селивановой Галиной Геннадьевн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чителем  русского языка и литературы    Яренской  муниципальной средней    общеобразовательной школ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Ленского района     Архангельской  област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2011 г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Arial Black"/>
              </a:rPr>
              <a:t>«Умница – головка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489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а повесть рассказывает о приключениях маленькой  девоч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рго рано потеряла родителей. Пережив горечь потерь, пройдя через нелегкие испытания, Марго находит друзей и настав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 время войны она становится сестрой милосердия. Это бесстрашная героиня, которую любят, которой гордятся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940360" y="1484280"/>
            <a:ext cx="2448000" cy="2254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87" name=""/>
          <p:cNvSpPr/>
          <p:nvPr/>
        </p:nvSpPr>
        <p:spPr>
          <a:xfrm flipH="1" flipV="1">
            <a:off x="467640" y="206136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240000" cy="21780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2268360" cy="3025440"/>
          </a:xfrm>
          <a:prstGeom prst="rect">
            <a:avLst/>
          </a:prstGeom>
          <a:ln w="57240">
            <a:solidFill>
              <a:srgbClr val="ff33cc"/>
            </a:solidFill>
            <a:miter/>
          </a:ln>
        </p:spPr>
      </p:pic>
      <p:sp>
        <p:nvSpPr>
          <p:cNvPr id="290" name=""/>
          <p:cNvSpPr txBox="1"/>
          <p:nvPr/>
        </p:nvSpPr>
        <p:spPr>
          <a:xfrm>
            <a:off x="1476360" y="476280"/>
            <a:ext cx="7272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cc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ибирочка"</a:t>
            </a:r>
            <a:endParaRPr b="0" i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cc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/>
          <p:cNvSpPr/>
          <p:nvPr/>
        </p:nvSpPr>
        <p:spPr>
          <a:xfrm>
            <a:off x="3132000" y="1341360"/>
            <a:ext cx="5688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невероятных и полных драматизма историях предстоит участвовать Сибирочке – юной княжне и героине  приключенческой повести Лидии Чарс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збежав смертельной опасности, оставшись без родителей , девочка оказывается в логове разбойников. Вот  тут-то  и разворачиваются захватывающие приключени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2795760" cy="32385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293" name=""/>
          <p:cNvSpPr/>
          <p:nvPr/>
        </p:nvSpPr>
        <p:spPr>
          <a:xfrm>
            <a:off x="324000" y="189000"/>
            <a:ext cx="43923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ного суровых испытаний пережила Сибирочка у разбойников.   Страшно и одиноко ей было без друзей и от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Горькую несправедливость, обиды и унижения переживала девочка в эти дни. Жизнь была жестока   к  ней.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Только знакомство с Андрюшей скрасило её жиз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537372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                    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Вдвоем   они   убегают от  жестокого  главаря Зуба  и его разбойников  и     торопятся в Петербу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800"/>
                            </p:stCondLst>
                            <p:childTnLst>
                              <p:par>
                                <p:cTn id="3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8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800"/>
                            </p:stCondLst>
                            <p:childTnLst>
                              <p:par>
                                <p:cTn id="3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3800"/>
                            </p:stCondLst>
                            <p:childTnLst>
                              <p:par>
                                <p:cTn id="37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animClr clrSpc="rgb">
                                      <p:cBhvr>
                                        <p:cTn id="379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380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430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24000" y="1268280"/>
            <a:ext cx="3687480" cy="43927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296" name=""/>
          <p:cNvSpPr/>
          <p:nvPr/>
        </p:nvSpPr>
        <p:spPr>
          <a:xfrm flipH="1">
            <a:off x="5887440" y="981000"/>
            <a:ext cx="257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40360" y="404640"/>
            <a:ext cx="4787640" cy="55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Оказавшись в цирке,Сибирочка становится дрессировщицей львов. Автор пишет: 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«Страшно было видеть эту детскую головку, бес-печно распевающую в огромной пасти великана-льва».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евочку все полюбили: и зрители, и работники цирка.Здесь они с Андрюшей нашли настоящих друз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Этой книгой Л .Чарская учит, что друзья на то и существуют, чтобы  в трудные минуты помогать друг друг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119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1440"/>
                            </p:stCondLst>
                            <p:childTnLst>
                              <p:par>
                                <p:cTn id="4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3440"/>
                            </p:stCondLst>
                            <p:childTnLst>
                              <p:par>
                                <p:cTn id="4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 rot="195600">
            <a:off x="6372000" y="1196640"/>
            <a:ext cx="2259000" cy="2954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99" name=""/>
          <p:cNvSpPr/>
          <p:nvPr/>
        </p:nvSpPr>
        <p:spPr>
          <a:xfrm>
            <a:off x="1116000" y="260280"/>
            <a:ext cx="741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«Записки  гимназист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907920"/>
            <a:ext cx="540036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Отношение к бедным людям -главное мерило человеческого достоинства 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Об  этом  повесть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З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аписки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гимназистк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Леночка осталась без родителей, ей пришлось поехать в незнакомый Петербург, жить у родственников , которые не любили девочку. В гимназии Лена переживала оскорбления, насмешки , издевательства ,с ней никто не друж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6156360"/>
            <a:ext cx="856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 Black"/>
              </a:rPr>
              <a:t>Умение терпеть несправедливость , вера в то, что зло потерпит поражение, –вот ценные качества  герои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900"/>
                            </p:stCondLst>
                            <p:childTnLst>
                              <p:par>
                                <p:cTn id="4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900"/>
                            </p:stCondLst>
                            <p:childTnLst>
                              <p:par>
                                <p:cTn id="4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900"/>
                            </p:stCondLst>
                            <p:childTnLst>
                              <p:par>
                                <p:cTn id="4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9900"/>
                            </p:stCondLst>
                            <p:childTnLst>
                              <p:par>
                                <p:cTn id="4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19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790720" cy="3600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303" name=""/>
          <p:cNvSpPr/>
          <p:nvPr/>
        </p:nvSpPr>
        <p:spPr>
          <a:xfrm>
            <a:off x="4500720" y="189000"/>
            <a:ext cx="43210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Именно так и складывается судьба бедной гимназистки.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Сначала на её сторону переходит маленький Толик, потом исправ-ляется горбунья Жю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 гимназии Леночку любят учителя за её старание в учебе, аккуратность и вежливость. О ней с благодарностью отзываются графиня Анна, тетя Нелли, дядя ...Вскоре девочку полюбили не только в семье Икониных, но и в гимназии.  Даже самый злостный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раг, Жюли, сказала о Лене : «  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Глядя на тебя, мы учимся хорошему. Ты нужна на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414972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Мы должны быть внимательнее друг к дру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0920" y="59500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Этой повестью Л Чарская учит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маленьких читателей, что такие добрые, милосердные люди ,как Леночка, нам  нужны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50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rcRect l="0" t="13120" r="401" b="0"/>
          <a:stretch/>
        </p:blipFill>
        <p:spPr>
          <a:xfrm>
            <a:off x="468360" y="1341360"/>
            <a:ext cx="2087640" cy="2809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250920" y="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i="1" lang="en-US" sz="2400" spc="-1" strike="noStrike">
                <a:solidFill>
                  <a:srgbClr val="000066"/>
                </a:solidFill>
                <a:latin typeface="Arial Black"/>
              </a:rPr>
              <a:t>Смелая жизнь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»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- историческая повесть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о судьбе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 легендарной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кавалерист -  девицы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Надежды Дуровой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876360" y="119700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1052640"/>
            <a:ext cx="60498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С детства воспитанная по – мальчишески, Надежда в годы Отечественной войны  1812 года прославила свое имя целым рядом подвиг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Надежду отличают бесстрашие, дисциплинированность, чувство товари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В Бородинском сражении она участвовала наравне со взрос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Эта повесть – урок любви к родной истории, к Роди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2448000" cy="203652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sp>
        <p:nvSpPr>
          <p:cNvPr id="311" name=""/>
          <p:cNvSpPr/>
          <p:nvPr/>
        </p:nvSpPr>
        <p:spPr>
          <a:xfrm>
            <a:off x="468360" y="472428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стория жизни Надежды Дуровой послужила основой для создания кинофильма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«Гусарская баллад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600"/>
                            </p:stCondLst>
                            <p:childTnLst>
                              <p:par>
                                <p:cTn id="4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600"/>
                            </p:stCondLst>
                            <p:childTnLst>
                              <p:par>
                                <p:cTn id="5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8600"/>
                            </p:stCondLst>
                            <p:childTnLst>
                              <p:par>
                                <p:cTn id="50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600"/>
                            </p:stCondLst>
                            <p:childTnLst>
                              <p:par>
                                <p:cTn id="5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440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6400"/>
                            </p:stCondLst>
                            <p:childTnLst>
                              <p:par>
                                <p:cTn id="5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740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9400"/>
                            </p:stCondLst>
                            <p:childTnLst>
                              <p:par>
                                <p:cTn id="53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1400"/>
                            </p:stCondLst>
                            <p:childTnLst>
                              <p:par>
                                <p:cTn id="5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1900"/>
                            </p:stCondLst>
                            <p:childTnLst>
                              <p:par>
                                <p:cTn id="5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184480" cy="2952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13" name=""/>
          <p:cNvSpPr/>
          <p:nvPr/>
        </p:nvSpPr>
        <p:spPr>
          <a:xfrm>
            <a:off x="468360" y="260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 Black"/>
              </a:rPr>
              <a:t>О  жизни   Лидии    Чарс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71640" y="1341360"/>
            <a:ext cx="5869080" cy="30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ё сын Юрий  служил в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асной Армии и погиб в Гражданскую вой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1924 году она была уволена из  театра. Чарская очень нуждалась в заработке. Но несколько лет не могла пис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ла её были очень плохи. Мальчики и девочки жалели  писательницу, приходили к ней, помогали  убирать комнату, мыть полы и рассказывали  о своих любимых героях её книг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907920"/>
            <a:ext cx="89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О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жизни писательницы после революции известно очень   ма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8360" y="4937040"/>
            <a:ext cx="8496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дия Чарская прожила не так много -  всего 6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ледние двадцать лет жизни обернулись   для неё  трагед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о были годы забвения: целые поколения читателей не слышали её имени, не читали её кни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4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8760"/>
                            </p:stCondLst>
                            <p:childTnLst>
                              <p:par>
                                <p:cTn id="5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73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760"/>
                            </p:stCondLst>
                            <p:childTnLst>
                              <p:par>
                                <p:cTn id="5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2760"/>
                            </p:stCondLst>
                            <p:childTnLst>
                              <p:par>
                                <p:cTn id="5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448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6480"/>
                            </p:stCondLst>
                            <p:childTnLst>
                              <p:par>
                                <p:cTn id="5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476360" y="-243000"/>
            <a:ext cx="482616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аследие      Чарской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 rot="388800">
            <a:off x="7164360" y="475920"/>
            <a:ext cx="1566720" cy="223200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 rot="21264600">
            <a:off x="395280" y="907920"/>
            <a:ext cx="1406520" cy="201456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2843280" y="981000"/>
            <a:ext cx="1546200" cy="191628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sp>
        <p:nvSpPr>
          <p:cNvPr id="321" name=""/>
          <p:cNvSpPr/>
          <p:nvPr/>
        </p:nvSpPr>
        <p:spPr>
          <a:xfrm>
            <a:off x="395280" y="357336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е восьмидесяти  книг написала Л Чарская. В её сказках и  повес-тях  всегда счастливый конец.Её герои, пройдя путь испытаний, горя и разочарований, побежд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5003640" y="907920"/>
            <a:ext cx="1575000" cy="194472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  <p:sp>
        <p:nvSpPr>
          <p:cNvPr id="323" name=""/>
          <p:cNvSpPr/>
          <p:nvPr/>
        </p:nvSpPr>
        <p:spPr>
          <a:xfrm>
            <a:off x="250920" y="4581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е победила только сама писательница. Она умерла в бедности и одиночестве и похоронена неизвестно кем на Смоленском кладбище в Ленингра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573408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Очевидцы утверждают, что за просторной могилой Лидии Чарской кто-то постоянно ухаживает. Здесь часто видят живые цветы, а ведь после смерти писательницы прощло уже много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1476360" y="1844640"/>
            <a:ext cx="1174680" cy="16542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6156360" y="1844640"/>
            <a:ext cx="1314360" cy="17254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6560"/>
                            </p:stCondLst>
                            <p:childTnLst>
                              <p:par>
                                <p:cTn id="60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8560"/>
                            </p:stCondLst>
                            <p:childTnLst>
                              <p:par>
                                <p:cTn id="6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560"/>
                            </p:stCondLst>
                            <p:childTnLst>
                              <p:par>
                                <p:cTn id="6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560"/>
                            </p:stCondLst>
                            <p:childTnLst>
                              <p:par>
                                <p:cTn id="6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9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186920" y="2924280"/>
            <a:ext cx="640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 rot="450600">
            <a:off x="542880" y="-860400"/>
            <a:ext cx="8007480" cy="29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дия    Алексеевна  Чарская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/>
          <p:nvPr/>
        </p:nvSpPr>
        <p:spPr>
          <a:xfrm rot="20908800">
            <a:off x="395280" y="213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ff"/>
                </a:solidFill>
                <a:latin typeface="Times New Roman"/>
              </a:rPr>
              <a:t>Личност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54920" y="3860640"/>
            <a:ext cx="50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7200" spc="-1" strike="noStrike">
                <a:solidFill>
                  <a:srgbClr val="990099"/>
                </a:solidFill>
                <a:latin typeface="Times New Roman"/>
              </a:rPr>
              <a:t>Судьб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5157720"/>
            <a:ext cx="50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7200" spc="-1" strike="noStrike">
                <a:solidFill>
                  <a:srgbClr val="3366ff"/>
                </a:solidFill>
                <a:latin typeface="Times New Roman"/>
              </a:rPr>
              <a:t>Творчеств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84360" y="5589720"/>
            <a:ext cx="1152360" cy="968400"/>
          </a:xfrm>
          <a:prstGeom prst="rect">
            <a:avLst/>
          </a:prstGeom>
          <a:ln w="57240">
            <a:solidFill>
              <a:srgbClr val="990099"/>
            </a:solidFill>
            <a:miter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299200" y="2060640"/>
            <a:ext cx="3208320" cy="33843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70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20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1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69360"/>
            <a:ext cx="821844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 Её почитают гением прошлого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443640" y="1773360"/>
            <a:ext cx="1903320" cy="28810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2987640" y="306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1484280"/>
            <a:ext cx="5472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Её  книги читали при свече, керосинке, при огне буржуйки, при свете ярких ламп, даже на скамейке под липами. Над ее книгами счастливо забывались девочки и девушки,  героев ее повестей навсегда полюбили мальчишки, познающие жизнь. Над ними плакали русские изгнан-ники, увозившие книги своего детства за границу. Л Чарская  часто получала письма от детей с выражением восторга и любви, с просьбами достать  продолжение  любимой книги .«Как хорошо сознавать, что ты можешь делать добро людям. « Это лучшая  радость королей , это счастье выпало мне.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580360" cy="31464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 flipH="1">
            <a:off x="399240" y="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410560" y="835920"/>
            <a:ext cx="631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4000" y="-819000"/>
            <a:ext cx="864072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bb5f0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bb5f03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bb5f0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   виражах   судьб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bb5f03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9800" y="5877000"/>
            <a:ext cx="797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-1045440" y="5305320"/>
            <a:ext cx="1094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дия Чарская окончила Павловский  женский институ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етербурге, многие героини её романов тоже уча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этом институте. Здесь они дружат, влюбляю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сорятся и очень скучают без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84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64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32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8360" y="476280"/>
            <a:ext cx="1881000" cy="3600360"/>
          </a:xfrm>
          <a:prstGeom prst="rect">
            <a:avLst/>
          </a:prstGeom>
          <a:ln w="76320">
            <a:solidFill>
              <a:srgbClr val="bb5f03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611280" y="1125360"/>
            <a:ext cx="453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2879640" cy="2203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 rot="21019800">
            <a:off x="2700000" y="-316080"/>
            <a:ext cx="5761080" cy="18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Александринке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25440" y="4005360"/>
            <a:ext cx="235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акончив институт, Чарская попала на сцену  петербургского  Александринского теа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00360" y="4005360"/>
            <a:ext cx="619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чив театральные курсы, она стала профессиональной актрисой театра. Но знаменитой и   блистательной стать не мог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2843280" y="551232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новата оказалась её страсть к литературному творчеству. Она писала стихи, сказки, повести.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 rot="20968200">
            <a:off x="539280" y="1569600"/>
            <a:ext cx="1728720" cy="2448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 rot="603000">
            <a:off x="6227640" y="134136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2160720" cy="3095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826920" y="260280"/>
            <a:ext cx="6309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икл кавказских повестей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4292640"/>
            <a:ext cx="8280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Эти повести посвящены славному княжескому роду Джаваха, его юным представительницам. Смелая Нина, маленький Юлико, преданная Люда Влассовская, Бэлла – герои этих кни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самые невероятные истории попадают герои ,они учат нас смелости, честности и милосерд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3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3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149200" cy="2630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74" name=""/>
          <p:cNvSpPr txBox="1"/>
          <p:nvPr/>
        </p:nvSpPr>
        <p:spPr>
          <a:xfrm>
            <a:off x="900000" y="476280"/>
            <a:ext cx="71280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торая  Нина"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484280"/>
            <a:ext cx="561636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нилой климат Петербурга ока-зался гибельным для Нины  Джава-хи. Девочка умер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ая памяти любимой подруги, Люда Влассовская приезжает на Кавказ в Гори.    Здесь она обретает названого отца , маленькую сестру Нину.   Так в честь Нины Джавахи назвали свою дочь Бэлла и Израэ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вы! Злой рок преследует семью Джаваха, и вскоре погибают в горах родители малыш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оргий Джаваха и Люда становятся родителями  второй Н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95640" y="558972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Прочитайте повесть</a:t>
            </a:r>
            <a:r>
              <a:rPr b="1" i="1" lang="en-US" sz="2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 Black"/>
              </a:rPr>
              <a:t>, и  вы узнаете о жизни второй Нины много интерес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3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5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юбимые романы девоче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яжна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жавах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рая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ин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писки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нститутк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С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бироч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 rot="940800">
            <a:off x="5363640" y="1700280"/>
            <a:ext cx="2665440" cy="45306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2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2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юбимые  книги мальчик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284360" y="1196640"/>
            <a:ext cx="468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800" spc="-1" strike="noStrike">
                <a:solidFill>
                  <a:srgbClr val="ff33cc"/>
                </a:solidFill>
                <a:latin typeface="Monotype Corsiva"/>
              </a:rPr>
              <a:t>С</a:t>
            </a:r>
            <a:r>
              <a:rPr b="1" i="1" lang="ru-RU" sz="4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мелая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жизнь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lang="ru-RU" sz="4400" spc="-1" strike="noStrike">
                <a:solidFill>
                  <a:srgbClr val="ff33cc"/>
                </a:solidFill>
                <a:latin typeface="Monotype Corsiva"/>
              </a:rPr>
              <a:t>Щ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елчок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33cc"/>
                </a:solidFill>
                <a:latin typeface="Monotype Corsiva"/>
              </a:rPr>
              <a:t>К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няжна</a:t>
            </a:r>
            <a:r>
              <a:rPr b="1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Джавах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33cc"/>
                </a:solidFill>
                <a:latin typeface="Monotype Corsiva"/>
              </a:rPr>
              <a:t>П</a:t>
            </a:r>
            <a:r>
              <a:rPr b="1" i="1" lang="ru-RU" sz="4400" spc="-1" strike="noStrike">
                <a:solidFill>
                  <a:srgbClr val="3366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аж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цесаревны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800" spc="-1" strike="noStrike">
                <a:solidFill>
                  <a:srgbClr val="ff33cc"/>
                </a:solidFill>
                <a:latin typeface="Monotype Corsiva"/>
              </a:rPr>
              <a:t>Р</a:t>
            </a:r>
            <a:r>
              <a:rPr b="1" i="1" lang="ru-RU" sz="4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ади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семь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0" t="12700" r="-2427" b="0"/>
          <a:stretch/>
        </p:blipFill>
        <p:spPr>
          <a:xfrm rot="21230400">
            <a:off x="1187280" y="1844640"/>
            <a:ext cx="2448000" cy="357516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667640" y="5775480"/>
            <a:ext cx="865080" cy="7268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24:34Z</dcterms:created>
  <dc:creator>USER</dc:creator>
  <dc:description/>
  <dc:language>en-US</dc:language>
  <cp:lastModifiedBy>Billy</cp:lastModifiedBy>
  <dcterms:modified xsi:type="dcterms:W3CDTF">2012-02-23T18:34:14Z</dcterms:modified>
  <cp:revision>51</cp:revision>
  <dc:subject/>
  <dc:title>Лидия Чарская</dc:title>
</cp:coreProperties>
</file>