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386-D6BB-4A9C-A41F-A66760E5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E9E-A791-4C05-82B0-A1F956CC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409-5E8D-4460-A628-D17A7A8E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FE5-CA47-4371-95A2-E4579144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6C6A5-ED05-4CFF-92DA-6C7325F3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E178F-B025-4AB8-A0A7-0F371370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F7876-BAA8-4097-ACE1-EAFC662E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5153E-13BE-418C-855C-1EF7D45C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30EF3-F8BF-49D7-A3CB-8F504F45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E30D5-C2DF-445E-A8FB-83A176D0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7C595-9B55-4CB0-BE52-A102466D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827-06CA-4315-ABB9-AA4C47C4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9BDD1-D8E8-424A-B0C6-81A062FD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2DBC7-20A3-4B60-A73B-2E71AC2D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70AC7-8DFB-41EE-AE82-A8610C75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8C6D5-9DFF-4879-B7C7-332277D5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03651-747B-4F38-8E9D-3DB19940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E644-A074-401E-B8E1-D3DF7FA1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AC25-916E-47C0-9C0A-4F7D6413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CCDF-8DB5-4862-B6E7-95808E4F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661DE-31DB-4DD2-A3F3-1E1CDB0A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F507-68DE-4849-89AF-5EE93360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C9A-39F8-4B6D-B3F2-67643F50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28A6F-1288-4BB3-BB2C-1ADA9B1A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B2568-78E4-4848-8BD5-B10121F2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9DDA0-D0C9-4410-A8B3-FD497349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DBC0-3F76-455B-A201-AD1EBD20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B2B53-E0C9-4874-ADB1-EEDA8F64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A9E98-E57D-4EDC-B7ED-6CE2F157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F856-18CA-4816-8C2A-2C210318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5DD8D-3E4E-44A2-9034-AF139F09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0C628-2EAF-4845-A8FD-BE2C3E93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76950-FEAE-4324-90E5-6EB742A8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34F-C8E2-4E99-A68D-46BC444D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7294-6564-4899-834A-BDF014FA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C5634-D30F-4CAB-A2C3-B389C76E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493E0-00C7-424A-90D7-FBFFEDE2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732A3-CA96-42E4-9C46-CFC09774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D8D9-7D8B-4C7E-9D61-4F63D97E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126E-E827-454A-BBE8-35A5398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C6DE-07A9-49CF-9F59-CBD66D48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3649-2B5F-4897-93B0-00DEAC2E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6DBFF-30A7-4C44-B88F-09EB5743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C90-DA38-4495-B443-AC99A1BE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C16-3554-44F9-94D5-4924FF97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AF7-8B48-4347-8A2C-B7F834E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7CD-7BA2-4CA1-9067-FCF6168A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BE1-8575-49E4-998B-9DA622F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4FD0-13F5-427A-9ABB-36953825A8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4F6B-B9CF-408B-90EC-C58F08A06B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BBCF-6F0C-46E9-BEB2-7DF0E287F24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C077-E27E-4E9C-9F69-F71CE4B261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836640"/>
            <a:ext cx="78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 уроку внеклассного ч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литературе в 6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 выполнена     Селивановой Галиной Геннадьев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чителем  русского языка и литературы    Яренской  муниципальной средней    общеобразовательной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Ленского района     Архангельской  област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011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«Умница – головка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489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повесть рассказывает о приключениях маленькой  девоч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го рано потеряла родителей. Пережив горечь потерь, пройдя через нелегкие испытания, Марго находит друзей и настав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войны она становится сестрой милосердия. Это бесстрашная героиня, которую любят, которой гордят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448000" cy="22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 flipH="1" flipV="1">
            <a:off x="467640" y="206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0000" cy="2178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268360" cy="30254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sp>
        <p:nvSpPr>
          <p:cNvPr id="290" name=""/>
          <p:cNvSpPr txBox="1"/>
          <p:nvPr/>
        </p:nvSpPr>
        <p:spPr>
          <a:xfrm>
            <a:off x="1476360" y="476280"/>
            <a:ext cx="72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cc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бирочка"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cc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1341360"/>
            <a:ext cx="56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невероятных и полных драматизма историях предстоит участвовать Сибирочке – юной княжне и героине  приключенческой повести Лидии Ча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збежав смертельной опасности, оставшись без родителей , девочка оказывается в логове разбойников. Вот  тут-то  и разворачиваются захватывающие приключ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795760" cy="32385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324000" y="189000"/>
            <a:ext cx="439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ного суровых испытаний пережила Сибирочка у разбойников.   Страшно и одиноко ей было без друзей и о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орькую несправедливость, обиды и унижения переживала девочка в эти дни. Жизнь была жестока   к  ней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олько знакомство с Андрюшей скрасило её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Вдвоем   они   убегают от  жестокого  главаря Зуба  и его разбойников  и     торопятся в Петербу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800"/>
                            </p:stCondLst>
                            <p:childTnLst>
                              <p:par>
                                <p:cTn id="3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800"/>
                            </p:stCondLst>
                            <p:childTnLst>
                              <p:par>
                                <p:cTn id="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3687480" cy="439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96" name=""/>
          <p:cNvSpPr/>
          <p:nvPr/>
        </p:nvSpPr>
        <p:spPr>
          <a:xfrm flipH="1">
            <a:off x="5887440" y="981000"/>
            <a:ext cx="25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04640"/>
            <a:ext cx="478764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казавшись в цирке,Сибирочка становится дрессировщицей львов. Автор пишет: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трашно было видеть эту детскую головку, бес-печно распевающую в огромной пасти великана-льва»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вочку все полюбили: и зрители, и работники цирка.Здесь они с Андрюшей нашли настоящих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й книгой Л .Чарская учит, что друзья на то и существуют, чтобы  в трудные минуты помогать друг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119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44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44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95600">
            <a:off x="6372000" y="1196640"/>
            <a:ext cx="2259000" cy="295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1116000" y="2602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«Записки  гимназис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907920"/>
            <a:ext cx="5400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тношение к бедным людям -главное мерило человеческого достоинства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Об  этом  повест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аписки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гимназ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Леночка осталась без родителей, ей пришлось поехать в незнакомый Петербург, жить у родственников , которые не любили девочку. В гимназии Лена переживала оскорбления, насмешки , издевательства ,с ней никто не дру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615636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Умение терпеть несправедливость , вера в то, что зло потерпит поражение, –вот ценные качества  геро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9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90720" cy="3600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4500720" y="189000"/>
            <a:ext cx="43210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Именно так и складывается судьба бедной гимназистки.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начала на её сторону переходит маленький Толик, потом исправ-ляется горбунья Жю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гимназии Леночку любят учителя за её старание в учебе, аккуратность и вежливость. О ней с благодарностью отзываются графиня Анна, тетя Нелли, дядя ...Вскоре девочку полюбили не только в семье Икониных, но и в гимназии.  Даже самый злостный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раг, Жюли, сказала о Лене : «  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Глядя на тебя, мы учимся хорошему. Ты нужна на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Мы должны быть внимательнее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9500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Этой повестью Л Чарская учит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маленьких читателей, что такие добрые, милосердные люди ,как Леночка, нам  нужны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13120" r="401" b="0"/>
          <a:stretch/>
        </p:blipFill>
        <p:spPr>
          <a:xfrm>
            <a:off x="468360" y="1341360"/>
            <a:ext cx="2087640" cy="28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2400" spc="-1" strike="noStrike">
                <a:solidFill>
                  <a:srgbClr val="000066"/>
                </a:solidFill>
                <a:latin typeface="Arial Black"/>
              </a:rPr>
              <a:t>Смелая жизнь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»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- историческая повесть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о судьбе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 легендарно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кавалерист -  девицы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Надежды Дуровой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76360" y="1197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1052640"/>
            <a:ext cx="6049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 детства воспитанная по – мальчишески, Надежда в годы Отечественной войны  1812 года прославила свое имя целым рядом подви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Надежду отличают бесстрашие, дисциплинированность, чувство товари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В Бородинском сражении она участвовала наравне со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Эта повесть – урок любви к родной истории, к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448000" cy="20365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468360" y="4724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тория жизни Надежды Дуровой послужила основой для создания кинофильм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Гусарская балла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6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6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00"/>
                            </p:stCondLst>
                            <p:childTnLst>
                              <p:par>
                                <p:cTn id="5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18448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68360" y="260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Black"/>
              </a:rPr>
              <a:t>О  жизни   Лидии    Чарс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341360"/>
            <a:ext cx="58690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ё сын Юрий  служил 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ной Армии и погиб в Гражданскую вой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24 году она была уволена из  театра. Чарская очень нуждалась в заработке. Но несколько лет не могла пис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ла её были очень плохи. Мальчики и девочки жалели  писательницу, приходили к ней, помогали  убирать комнату, мыть полы и рассказывали  о своих любимых героях её книг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9079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О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жизни писательницы после революции известно очень   м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4937040"/>
            <a:ext cx="8496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дия Чарская прожила не так много -  всего 6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ние двадцать лет жизни обернулись   для неё  трагед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были годы забвения: целые поколения читателей не слышали её имени, не читали её к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760"/>
                            </p:stCondLst>
                            <p:childTnLst>
                              <p:par>
                                <p:cTn id="5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76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76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48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48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76360" y="-243000"/>
            <a:ext cx="48261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аследие      Чарской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388800">
            <a:off x="7164360" y="475920"/>
            <a:ext cx="1566720" cy="2232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rot="21264600">
            <a:off x="395280" y="907920"/>
            <a:ext cx="1406520" cy="20145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1546200" cy="19162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395280" y="3573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осьмидесяти  книг написала Л Чарская. В её сказках и  повес-тях  всегда счастливый конец.Её герои, пройдя путь испытаний, горя и разочарований, побежд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1575000" cy="1944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250920" y="458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е победила только сама писательница. Она умерла в бедности и одиночестве и похоронена неизвестно кем на Смоленском кладбище в Ленингр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5734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чевидцы утверждают, что за просторной могилой Лидии Чарской кто-то постоянно ухаживает. Здесь часто видят живые цветы, а ведь после смерти писательницы прощло уже много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476360" y="1844640"/>
            <a:ext cx="1174680" cy="1654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156360" y="1844640"/>
            <a:ext cx="1314360" cy="1725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60"/>
                            </p:stCondLst>
                            <p:childTnLst>
                              <p:par>
                                <p:cTn id="6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60"/>
                            </p:stCondLst>
                            <p:childTnLst>
                              <p:par>
                                <p:cTn id="6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6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640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450600">
            <a:off x="542880" y="-860400"/>
            <a:ext cx="80074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дия    Алексеевна  Чарска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 rot="20908800">
            <a:off x="39528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Личност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4920" y="3860640"/>
            <a:ext cx="50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7200" spc="-1" strike="noStrike">
                <a:solidFill>
                  <a:srgbClr val="990099"/>
                </a:solidFill>
                <a:latin typeface="Times New Roman"/>
              </a:rPr>
              <a:t>Судьб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1577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Творчест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1152360" cy="9684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99200" y="2060640"/>
            <a:ext cx="3208320" cy="3384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1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69360"/>
            <a:ext cx="821844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Её почитают гением прошлого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1903320" cy="2881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87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484280"/>
            <a:ext cx="54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Её  книги читали при свече, керосинке, при огне буржуйки, при свете ярких ламп, даже на скамейке под липами. Над ее книгами счастливо забывались девочки и девушки,  героев ее повестей навсегда полюбили мальчишки, познающие жизнь. Над ними плакали русские изгнан-ники, увозившие книги своего детства за границу. Л Чарская  часто получала письма от детей с выражением восторга и любви, с просьбами достать  продолжение  любимой книги .«Как хорошо сознавать, что ты можешь делать добро людям. « Это лучшая  радость королей , это счастье выпало мне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580360" cy="314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399240" y="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10560" y="835920"/>
            <a:ext cx="631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-819000"/>
            <a:ext cx="8640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виражах   судьб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9800" y="5877000"/>
            <a:ext cx="79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-1045440" y="5305320"/>
            <a:ext cx="10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ия Чарская окончила Павловский  женский инстит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тербурге, многие героини её романов тоже уча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институте. Здесь они дружат, влюбля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орятся и очень скучают без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6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476280"/>
            <a:ext cx="1881000" cy="3600360"/>
          </a:xfrm>
          <a:prstGeom prst="rect">
            <a:avLst/>
          </a:prstGeom>
          <a:ln w="76320">
            <a:solidFill>
              <a:srgbClr val="bb5f0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11280" y="112536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2879640" cy="220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 rot="21019800">
            <a:off x="2700000" y="-316080"/>
            <a:ext cx="57610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Александринк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5440" y="400536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кончив институт, Чарская попала на сцену  петербургского  Александринского те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05360"/>
            <a:ext cx="619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чив театральные курсы, она стала профессиональной актрисой театра. Но знаменитой и   блистательной стать не мо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843280" y="55123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вата оказалась её страсть к литературному творчеству. Она писала стихи, сказки, повести.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20968200">
            <a:off x="539280" y="15696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603000">
            <a:off x="622764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26920" y="260280"/>
            <a:ext cx="6309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кавказских повест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29264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и повести посвящены славному княжескому роду Джаваха, его юным представительницам. Смелая Нина, маленький Юлико, преданная Люда Влассовская, Бэлла – герои этих кни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амые невероятные истории попадают герои ,они учат нас смелости, честности и милосерд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49200" cy="263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74" name=""/>
          <p:cNvSpPr txBox="1"/>
          <p:nvPr/>
        </p:nvSpPr>
        <p:spPr>
          <a:xfrm>
            <a:off x="900000" y="476280"/>
            <a:ext cx="7128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торая  Нина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84280"/>
            <a:ext cx="5616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нилой климат Петербурга ока-зался гибельным для Нины  Джава-хи. Девочка умер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ая памяти любимой подруги, Люда Влассовская приезжает на Кавказ в Гори.    Здесь она обретает названого отца , маленькую сестру Нину.   Так в честь Нины Джавахи назвали свою дочь Бэлла и Израэ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ы! Злой рок преследует семью Джаваха, и вскоре погибают в горах родители малы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ргий Джаваха и Люда становятся родителями  второй Н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58972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Прочитайте повесть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 Black"/>
              </a:rPr>
              <a:t>, и  вы узнаете о жизни второй Нины много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романы девоче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яжн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авах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рая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писки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ститут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бироч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940800">
            <a:off x="5363640" y="1700280"/>
            <a:ext cx="2665440" cy="4530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 книги мальч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8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С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мела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Щ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елчо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К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няжна</a:t>
            </a: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Джавах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П</a:t>
            </a:r>
            <a:r>
              <a:rPr b="1" i="1" lang="ru-RU" sz="4400" spc="-1" strike="noStrike">
                <a:solidFill>
                  <a:srgbClr val="3366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ж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саревн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Р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ди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семь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2700" r="-2427" b="0"/>
          <a:stretch/>
        </p:blipFill>
        <p:spPr>
          <a:xfrm rot="21230400">
            <a:off x="1187280" y="1844640"/>
            <a:ext cx="2448000" cy="35751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67640" y="5775480"/>
            <a:ext cx="865080" cy="726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24:34Z</dcterms:created>
  <dc:creator>USER</dc:creator>
  <dc:description/>
  <dc:language>en-US</dc:language>
  <cp:lastModifiedBy>Billy</cp:lastModifiedBy>
  <dcterms:modified xsi:type="dcterms:W3CDTF">2012-02-23T18:34:14Z</dcterms:modified>
  <cp:revision>51</cp:revision>
  <dc:subject/>
  <dc:title>Лидия Чарская</dc:title>
</cp:coreProperties>
</file>