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CE60-2AA7-4E37-89FB-660EC5B0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75FB-134C-49C5-B630-89189CF1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DD17-6DDD-4FB3-8B7A-D3D74296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560-7125-466D-BFEF-4A53F6E7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F531F-8100-4CF3-ADA2-7B6F0535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3D57C-F397-40F9-935E-26D8FCCA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0C852-46F3-49E5-B00D-C41307EB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E4FD1-17F1-44DF-B1C4-9A4B1914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EA8AA-67EF-419C-ABD3-08DB073E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06126-4D62-4093-B7E2-F2011CA3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84CAA-AFC1-412F-97AB-230FCBF8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8BE9-21F3-4EB0-931F-5E504100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89CEF-7C85-4AE6-A6E4-482FB21F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2334C-0D09-496E-83EB-D2E23B19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84376-4BFD-4D44-8D36-0C9D23FF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2A750-0CD3-4B49-BDD7-28CA9D55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C352B-EE15-4AEF-AFD4-B0AA534E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A307D-53BE-4A16-B854-ABAFBDA3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E076A-98BD-40D1-B3A4-41BCD496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196BD-DF3C-4298-BF1A-C543CD7D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EF940-46E4-4346-88D4-195E6E35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B21BB-5F4B-4027-9E9D-D6923088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C56-A85B-4465-BB22-C6720D3C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8F25A-45B3-460D-B5B8-05EB6A09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BA3C0-984A-400C-BDC5-358A72D1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3FB0F-24E9-4ABB-B314-B44F84D9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A69B7-4DA9-4A70-8357-879FFC12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201A0-7652-4E2C-BD0B-532F5993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DCCB0-1BDB-4574-B1C0-6A102C97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1A08D-4E53-439F-B371-D692B63A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4ECAB-B526-4C82-8226-C9198EE4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95D55-A103-47F7-88DB-7AF599A5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19C86-3CD2-4EC3-8EE7-7936748C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6C0-BD10-4142-9D97-8731E046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EF02E-3402-4A82-97C9-5815B21E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CBE00-5F17-4B46-A90D-F2F492F6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1730A-A0DA-4E08-A2CB-C66FE780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25928-ABC4-4B36-A523-703F4051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DD050-0F79-4BF1-9565-EA6FAF5C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9AA96-58F9-445D-966F-6C751DD1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4CA1C-8398-4912-84E2-3FEAD751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338FD-3A12-406E-A94D-4D66AB63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64772-03B0-4A94-9774-1B458D52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E6DA-3670-4B68-BE07-AAA54E54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31C-3A40-408D-9D60-98C563F2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1E5-98AE-4123-AD0D-BCE8C8BC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589-9B13-49EB-B8FA-E2C56E6A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2A69-8B91-4D43-A1B2-2008A03F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C295-B73C-4B35-BCFB-04C9FCE7E0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4C83-56DF-4461-B9F3-51B2A0DDF1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1143-F6F7-4086-8D59-F0FA9ADE804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A8BE-41E0-4B1C-BE4B-8D18D260B41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836640"/>
            <a:ext cx="784872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зентац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 уроку внеклассного чт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 литературе в 6 клас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бота выполнена     Селивановой Галиной Геннадьевн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учителем  русского языка и литературы    Яренской  муниципальной средней    общеобразовательной школ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Ленского района     Архангельской  области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2011 г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Arial Black"/>
              </a:rPr>
              <a:t>«Умница – головка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489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а повесть рассказывает о приключениях маленькой  девоч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рго рано потеряла родителей. Пережив горечь потерь, пройдя через нелегкие испытания, Марго находит друзей и настав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 время войны она становится сестрой милосердия. Это бесстрашная героиня, которую любят, которой гордятся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940360" y="1484280"/>
            <a:ext cx="2448000" cy="2254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87" name=""/>
          <p:cNvSpPr/>
          <p:nvPr/>
        </p:nvSpPr>
        <p:spPr>
          <a:xfrm flipH="1" flipV="1">
            <a:off x="467640" y="206136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240000" cy="217800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2268360" cy="3025440"/>
          </a:xfrm>
          <a:prstGeom prst="rect">
            <a:avLst/>
          </a:prstGeom>
          <a:ln w="57240">
            <a:solidFill>
              <a:srgbClr val="ff33cc"/>
            </a:solidFill>
            <a:miter/>
          </a:ln>
        </p:spPr>
      </p:pic>
      <p:sp>
        <p:nvSpPr>
          <p:cNvPr id="290" name=""/>
          <p:cNvSpPr txBox="1"/>
          <p:nvPr/>
        </p:nvSpPr>
        <p:spPr>
          <a:xfrm>
            <a:off x="1476360" y="476280"/>
            <a:ext cx="7272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cc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ибирочка"</a:t>
            </a:r>
            <a:endParaRPr b="0" i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cc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"/>
          <p:cNvSpPr/>
          <p:nvPr/>
        </p:nvSpPr>
        <p:spPr>
          <a:xfrm>
            <a:off x="3132000" y="1341360"/>
            <a:ext cx="5688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невероятных и полных драматизма историях предстоит участвовать Сибирочке – юной княжне и героине  приключенческой повести Лидии Чарс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збежав смертельной опасности, оставшись без родителей , девочка оказывается в логове разбойников. Вот  тут-то  и разворачиваются захватывающие приключени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364000" y="907920"/>
            <a:ext cx="2795760" cy="32385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293" name=""/>
          <p:cNvSpPr/>
          <p:nvPr/>
        </p:nvSpPr>
        <p:spPr>
          <a:xfrm>
            <a:off x="324000" y="189000"/>
            <a:ext cx="43923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ного суровых испытаний пережила Сибирочка у разбойников.   Страшно и одиноко ей было без друзей и от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Горькую несправедливость, обиды и унижения переживала девочка в эти дни. Жизнь была жестока   к  ней.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Только знакомство с Андрюшей скрасило её жиз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537372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                    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Вдвоем   они   убегают от  жестокого  главаря Зуба  и его разбойников  и     торопятся в Петербу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800"/>
                            </p:stCondLst>
                            <p:childTnLst>
                              <p:par>
                                <p:cTn id="3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8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800"/>
                            </p:stCondLst>
                            <p:childTnLst>
                              <p:par>
                                <p:cTn id="3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3800"/>
                            </p:stCondLst>
                            <p:childTnLst>
                              <p:par>
                                <p:cTn id="37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animClr clrSpc="rgb">
                                      <p:cBhvr>
                                        <p:cTn id="379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380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430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24000" y="1268280"/>
            <a:ext cx="3687480" cy="43927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296" name=""/>
          <p:cNvSpPr/>
          <p:nvPr/>
        </p:nvSpPr>
        <p:spPr>
          <a:xfrm flipH="1">
            <a:off x="5887440" y="981000"/>
            <a:ext cx="257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40360" y="404640"/>
            <a:ext cx="4787640" cy="55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Оказавшись в цирке,Сибирочка становится дрессировщицей львов. Автор пишет: </a:t>
            </a: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«Страшно было видеть эту детскую головку, бес-печно распевающую в огромной пасти великана-льва».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евочку все полюбили: и зрители, и работники цирка.Здесь они с Андрюшей нашли настоящих друз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Этой книгой Л .Чарская учит, что друзья на то и существуют, чтобы  в трудные минуты помогать друг друг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119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1440"/>
                            </p:stCondLst>
                            <p:childTnLst>
                              <p:par>
                                <p:cTn id="4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3440"/>
                            </p:stCondLst>
                            <p:childTnLst>
                              <p:par>
                                <p:cTn id="4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 rot="195600">
            <a:off x="6372000" y="1196640"/>
            <a:ext cx="2259000" cy="29541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99" name=""/>
          <p:cNvSpPr/>
          <p:nvPr/>
        </p:nvSpPr>
        <p:spPr>
          <a:xfrm>
            <a:off x="1116000" y="260280"/>
            <a:ext cx="741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«Записки  гимназист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907920"/>
            <a:ext cx="540036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Отношение к бедным людям -главное мерило человеческого достоинства 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Об  этом  повесть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«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З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аписки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гимназистк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Леночка осталась без родителей, ей пришлось поехать в незнакомый Петербург, жить у родственников , которые не любили девочку. В гимназии Лена переживала оскорбления, насмешки , издевательства ,с ней никто не друж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6156360"/>
            <a:ext cx="8569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 Black"/>
              </a:rPr>
              <a:t>Умение терпеть несправедливость , вера в то, что зло потерпит поражение, –вот ценные качества  герои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900"/>
                            </p:stCondLst>
                            <p:childTnLst>
                              <p:par>
                                <p:cTn id="4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900"/>
                            </p:stCondLst>
                            <p:childTnLst>
                              <p:par>
                                <p:cTn id="4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900"/>
                            </p:stCondLst>
                            <p:childTnLst>
                              <p:par>
                                <p:cTn id="4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9900"/>
                            </p:stCondLst>
                            <p:childTnLst>
                              <p:par>
                                <p:cTn id="4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19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790720" cy="3600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303" name=""/>
          <p:cNvSpPr/>
          <p:nvPr/>
        </p:nvSpPr>
        <p:spPr>
          <a:xfrm>
            <a:off x="4500720" y="189000"/>
            <a:ext cx="43210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Именно так и складывается судьба бедной гимназистки.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Сначала на её сторону переходит маленький Толик, потом исправ-ляется горбунья Жю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 гимназии Леночку любят учителя за её старание в учебе, аккуратность и вежливость. О ней с благодарностью отзываются графиня Анна, тетя Нелли, дядя ...Вскоре девочку полюбили не только в семье Икониных, но и в гимназии.  Даже самый злостный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раг, Жюли, сказала о Лене : «   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Глядя на тебя, мы учимся хорошему. Ты нужна на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414972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</a:rPr>
              <a:t>Мы должны быть внимательнее друг к дру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0920" y="59500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Этой повестью Л Чарская учит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маленьких читателей, что такие добрые, милосердные люди ,как Леночка, нам  нужны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500" autoRev="1" fill="hold"/>
                                        <p:tgtEl>
                                          <p:spTgt spid="3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00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rcRect l="0" t="13120" r="401" b="0"/>
          <a:stretch/>
        </p:blipFill>
        <p:spPr>
          <a:xfrm>
            <a:off x="468360" y="1341360"/>
            <a:ext cx="2087640" cy="2809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07" name=""/>
          <p:cNvSpPr/>
          <p:nvPr/>
        </p:nvSpPr>
        <p:spPr>
          <a:xfrm>
            <a:off x="250920" y="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i="1" lang="en-US" sz="2400" spc="-1" strike="noStrike">
                <a:solidFill>
                  <a:srgbClr val="000066"/>
                </a:solidFill>
                <a:latin typeface="Arial Black"/>
              </a:rPr>
              <a:t>Смелая жизнь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»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- историческая повесть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о судьбе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 легендарной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кавалерист -  девицы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Надежды Дуровой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876360" y="119700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43280" y="1052640"/>
            <a:ext cx="60498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С детства воспитанная по – мальчишески, Надежда в годы Отечественной войны  1812 года прославила свое имя целым рядом подвиг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Надежду отличают бесстрашие, дисциплинированность, чувство товари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В Бородинском сражении она участвовала наравне со взросл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Эта повесть – урок любви к родной истории, к Роди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2448000" cy="203652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sp>
        <p:nvSpPr>
          <p:cNvPr id="311" name=""/>
          <p:cNvSpPr/>
          <p:nvPr/>
        </p:nvSpPr>
        <p:spPr>
          <a:xfrm>
            <a:off x="468360" y="472428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стория жизни Надежды Дуровой послужила основой для создания кинофильма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«Гусарская баллад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600"/>
                            </p:stCondLst>
                            <p:childTnLst>
                              <p:par>
                                <p:cTn id="4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600"/>
                            </p:stCondLst>
                            <p:childTnLst>
                              <p:par>
                                <p:cTn id="5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8600"/>
                            </p:stCondLst>
                            <p:childTnLst>
                              <p:par>
                                <p:cTn id="50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600"/>
                            </p:stCondLst>
                            <p:childTnLst>
                              <p:par>
                                <p:cTn id="5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440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6400"/>
                            </p:stCondLst>
                            <p:childTnLst>
                              <p:par>
                                <p:cTn id="5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740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9400"/>
                            </p:stCondLst>
                            <p:childTnLst>
                              <p:par>
                                <p:cTn id="53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1400"/>
                            </p:stCondLst>
                            <p:childTnLst>
                              <p:par>
                                <p:cTn id="5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1900"/>
                            </p:stCondLst>
                            <p:childTnLst>
                              <p:par>
                                <p:cTn id="5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184480" cy="2952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13" name=""/>
          <p:cNvSpPr/>
          <p:nvPr/>
        </p:nvSpPr>
        <p:spPr>
          <a:xfrm>
            <a:off x="468360" y="260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 Black"/>
              </a:rPr>
              <a:t>О  жизни   Лидии    Чарск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71640" y="1341360"/>
            <a:ext cx="5869080" cy="30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ё сын Юрий  служил в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асной Армии и погиб в Гражданскую вой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1924 году она была уволена из  театра. Чарская очень нуждалась в заработке. Но несколько лет не могла писа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ла её были очень плохи. Мальчики и девочки жалели  писательницу, приходили к ней, помогали  убирать комнату, мыть полы и рассказывали  о своих любимых героях её книг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907920"/>
            <a:ext cx="89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О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жизни писательницы после революции известно очень   ма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8360" y="4937040"/>
            <a:ext cx="8496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дия Чарская прожила не так много -  всего 6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ледние двадцать лет жизни обернулись   для неё  трагеди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то были годы забвения: целые поколения читателей не слышали её имени, не читали её кни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4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8760"/>
                            </p:stCondLst>
                            <p:childTnLst>
                              <p:par>
                                <p:cTn id="57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73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760"/>
                            </p:stCondLst>
                            <p:childTnLst>
                              <p:par>
                                <p:cTn id="5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2760"/>
                            </p:stCondLst>
                            <p:childTnLst>
                              <p:par>
                                <p:cTn id="5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448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6480"/>
                            </p:stCondLst>
                            <p:childTnLst>
                              <p:par>
                                <p:cTn id="5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476360" y="-243000"/>
            <a:ext cx="482616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Наследие      Чарской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 rot="388800">
            <a:off x="7164360" y="475920"/>
            <a:ext cx="1566720" cy="223200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 rot="21264600">
            <a:off x="395280" y="907920"/>
            <a:ext cx="1406520" cy="201456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2843280" y="981000"/>
            <a:ext cx="1546200" cy="191628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sp>
        <p:nvSpPr>
          <p:cNvPr id="321" name=""/>
          <p:cNvSpPr/>
          <p:nvPr/>
        </p:nvSpPr>
        <p:spPr>
          <a:xfrm>
            <a:off x="395280" y="357336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е восьмидесяти  книг написала Л Чарская. В её сказках и  повес-тях  всегда счастливый конец.Её герои, пройдя путь испытаний, горя и разочарований, побежд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5003640" y="907920"/>
            <a:ext cx="1575000" cy="194472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  <p:sp>
        <p:nvSpPr>
          <p:cNvPr id="323" name=""/>
          <p:cNvSpPr/>
          <p:nvPr/>
        </p:nvSpPr>
        <p:spPr>
          <a:xfrm>
            <a:off x="250920" y="4581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е победила только сама писательница. Она умерла в бедности и одиночестве и похоронена неизвестно кем на Смоленском кладбище в Ленингра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573408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Очевидцы утверждают, что за просторной могилой Лидии Чарской кто-то постоянно ухаживает. Здесь часто видят живые цветы, а ведь после смерти писательницы прощло уже много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1476360" y="1844640"/>
            <a:ext cx="1174680" cy="16542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6156360" y="1844640"/>
            <a:ext cx="1314360" cy="17254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6560"/>
                            </p:stCondLst>
                            <p:childTnLst>
                              <p:par>
                                <p:cTn id="60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8560"/>
                            </p:stCondLst>
                            <p:childTnLst>
                              <p:par>
                                <p:cTn id="6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560"/>
                            </p:stCondLst>
                            <p:childTnLst>
                              <p:par>
                                <p:cTn id="6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560"/>
                            </p:stCondLst>
                            <p:childTnLst>
                              <p:par>
                                <p:cTn id="6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2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9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186920" y="2924280"/>
            <a:ext cx="6409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 rot="450600">
            <a:off x="542880" y="-860400"/>
            <a:ext cx="8007480" cy="29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дия    Алексеевна  Чарская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/>
          <p:nvPr/>
        </p:nvSpPr>
        <p:spPr>
          <a:xfrm rot="20908800">
            <a:off x="395280" y="213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ff"/>
                </a:solidFill>
                <a:latin typeface="Times New Roman"/>
              </a:rPr>
              <a:t>Личност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54920" y="3860640"/>
            <a:ext cx="50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7200" spc="-1" strike="noStrike">
                <a:solidFill>
                  <a:srgbClr val="990099"/>
                </a:solidFill>
                <a:latin typeface="Times New Roman"/>
              </a:rPr>
              <a:t>Судьб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5157720"/>
            <a:ext cx="50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7200" spc="-1" strike="noStrike">
                <a:solidFill>
                  <a:srgbClr val="3366ff"/>
                </a:solidFill>
                <a:latin typeface="Times New Roman"/>
              </a:rPr>
              <a:t>Творчеств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84360" y="5589720"/>
            <a:ext cx="1152360" cy="968400"/>
          </a:xfrm>
          <a:prstGeom prst="rect">
            <a:avLst/>
          </a:prstGeom>
          <a:ln w="57240">
            <a:solidFill>
              <a:srgbClr val="990099"/>
            </a:solidFill>
            <a:miter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5299200" y="2060640"/>
            <a:ext cx="3208320" cy="33843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70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200"/>
                            </p:stCondLst>
                            <p:childTnLst>
                              <p:par>
                                <p:cTn id="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1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69360"/>
            <a:ext cx="821844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 Её почитают гением прошлого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443640" y="1773360"/>
            <a:ext cx="1903320" cy="28810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2987640" y="306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1484280"/>
            <a:ext cx="5472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Её  книги читали при свече, керосинке, при огне буржуйки, при свете ярких ламп, даже на скамейке под липами. Над ее книгами счастливо забывались девочки и девушки,  героев ее повестей навсегда полюбили мальчишки, познающие жизнь. Над ними плакали русские изгнан-ники, увозившие книги своего детства за границу. Л Чарская  часто получала письма от детей с выражением восторга и любви, с просьбами достать  продолжение  любимой книги .«Как хорошо сознавать, что ты можешь делать добро людям. « Это лучшая  радость королей , это счастье выпало мне.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580360" cy="31464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 flipH="1">
            <a:off x="399240" y="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2410560" y="835920"/>
            <a:ext cx="631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4000" y="-819000"/>
            <a:ext cx="864072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bb5f03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bb5f03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bb5f03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   виражах   судьб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bb5f03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9800" y="5877000"/>
            <a:ext cx="797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-1045440" y="5305320"/>
            <a:ext cx="1094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дия Чарская окончила Павловский  женский институ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етербурге, многие героини её романов тоже уча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этом институте. Здесь они дружат, влюбляю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сорятся и очень скучают без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84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64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32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68360" y="476280"/>
            <a:ext cx="1881000" cy="3600360"/>
          </a:xfrm>
          <a:prstGeom prst="rect">
            <a:avLst/>
          </a:prstGeom>
          <a:ln w="76320">
            <a:solidFill>
              <a:srgbClr val="bb5f03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611280" y="1125360"/>
            <a:ext cx="453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2879640" cy="2203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 rot="21019800">
            <a:off x="2700000" y="-316080"/>
            <a:ext cx="5761080" cy="184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Александринке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25440" y="4005360"/>
            <a:ext cx="235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акончив институт, Чарская попала на сцену  петербургского  Александринского теат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00360" y="4005360"/>
            <a:ext cx="619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чив театральные курсы, она стала профессиональной актрисой театра. Но знаменитой и   блистательной стать не мог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2843280" y="551232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новата оказалась её страсть к литературному творчеству. Она писала стихи, сказки, повести.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 rot="20968200">
            <a:off x="539280" y="1569600"/>
            <a:ext cx="1728720" cy="2448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 rot="603000">
            <a:off x="6227640" y="134136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2160720" cy="3095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826920" y="260280"/>
            <a:ext cx="6309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икл кавказских повестей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4292640"/>
            <a:ext cx="8280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Эти повести посвящены славному княжескому роду Джаваха, его юным представительницам. Смелая Нина, маленький Юлико, преданная Люда Влассовская, Бэлла – герои этих кни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самые невероятные истории попадают герои ,они учат нас смелости, честности и милосерд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3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3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149200" cy="2630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74" name=""/>
          <p:cNvSpPr txBox="1"/>
          <p:nvPr/>
        </p:nvSpPr>
        <p:spPr>
          <a:xfrm>
            <a:off x="900000" y="476280"/>
            <a:ext cx="712800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торая  Нина"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1484280"/>
            <a:ext cx="561636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нилой климат Петербурга ока-зался гибельным для Нины  Джава-хи. Девочка умер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ая памяти любимой подруги, Люда Влассовская приезжает на Кавказ в Гори.    Здесь она обретает названого отца , маленькую сестру Нину.   Так в честь Нины Джавахи назвали свою дочь Бэлла и Израэ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вы! Злой рок преследует семью Джаваха, и вскоре погибают в горах родители малыш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оргий Джаваха и Люда становятся родителями  второй Н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95640" y="558972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Прочитайте повесть</a:t>
            </a:r>
            <a:r>
              <a:rPr b="1" i="1" lang="en-US" sz="2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 Black"/>
              </a:rPr>
              <a:t>, и  вы узнаете о жизни второй Нины много интерес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3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5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юбимые романы девоче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яжна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жавах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рая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ин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писки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нститутк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С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бироч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 rot="940800">
            <a:off x="5363640" y="1700280"/>
            <a:ext cx="2665440" cy="45306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2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2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2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юбимые  книги мальчик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284360" y="1196640"/>
            <a:ext cx="468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800" spc="-1" strike="noStrike">
                <a:solidFill>
                  <a:srgbClr val="ff33cc"/>
                </a:solidFill>
                <a:latin typeface="Monotype Corsiva"/>
              </a:rPr>
              <a:t>С</a:t>
            </a:r>
            <a:r>
              <a:rPr b="1" i="1" lang="ru-RU" sz="4800" spc="-1" strike="noStrike">
                <a:solidFill>
                  <a:srgbClr val="3399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мелая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жизнь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lang="ru-RU" sz="4400" spc="-1" strike="noStrike">
                <a:solidFill>
                  <a:srgbClr val="ff33cc"/>
                </a:solidFill>
                <a:latin typeface="Monotype Corsiva"/>
              </a:rPr>
              <a:t>Щ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елчок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ff33cc"/>
                </a:solidFill>
                <a:latin typeface="Monotype Corsiva"/>
              </a:rPr>
              <a:t>К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няжна</a:t>
            </a:r>
            <a:r>
              <a:rPr b="1" i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Джавах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ff33cc"/>
                </a:solidFill>
                <a:latin typeface="Monotype Corsiva"/>
              </a:rPr>
              <a:t>П</a:t>
            </a:r>
            <a:r>
              <a:rPr b="1" i="1" lang="ru-RU" sz="4400" spc="-1" strike="noStrike">
                <a:solidFill>
                  <a:srgbClr val="3366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аж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цесаревны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800" spc="-1" strike="noStrike">
                <a:solidFill>
                  <a:srgbClr val="ff33cc"/>
                </a:solidFill>
                <a:latin typeface="Monotype Corsiva"/>
              </a:rPr>
              <a:t>Р</a:t>
            </a:r>
            <a:r>
              <a:rPr b="1" i="1" lang="ru-RU" sz="4800" spc="-1" strike="noStrike">
                <a:solidFill>
                  <a:srgbClr val="3399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ади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семь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0" t="12700" r="-2427" b="0"/>
          <a:stretch/>
        </p:blipFill>
        <p:spPr>
          <a:xfrm rot="21230400">
            <a:off x="1187280" y="1844640"/>
            <a:ext cx="2448000" cy="357516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7667640" y="5775480"/>
            <a:ext cx="865080" cy="7268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24:34Z</dcterms:created>
  <dc:creator>USER</dc:creator>
  <dc:description/>
  <dc:language>en-US</dc:language>
  <cp:lastModifiedBy>Billy</cp:lastModifiedBy>
  <dcterms:modified xsi:type="dcterms:W3CDTF">2012-02-23T18:34:14Z</dcterms:modified>
  <cp:revision>51</cp:revision>
  <dc:subject/>
  <dc:title>Лидия Чарская</dc:title>
</cp:coreProperties>
</file>