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3.jpeg" ContentType="image/jpeg"/>
  <Override PartName="/ppt/media/image17.jpeg" ContentType="image/jpeg"/>
  <Override PartName="/ppt/media/image38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36.jpeg" ContentType="image/jpeg"/>
  <Override PartName="/ppt/media/image9.jpeg" ContentType="image/jpeg"/>
  <Override PartName="/ppt/media/image41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5E17-1948-4DC7-8FB0-C2503D3DDD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C881-E5D4-4D25-8A9C-1DE05E1A0B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599-0CB1-4C1C-964E-7B8A2D45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388B-D1C6-4253-9AB1-FC581617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9B3B-C506-434F-9545-310FBABD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06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52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06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52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541-E6EA-4C2F-83AD-A68665C0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BCE0-3E54-4967-80EC-E64E8CFE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93FF-0D17-4514-8D43-7316996E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FB88-B140-4D41-80F5-D39BD529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04F2-7493-4A8E-803F-9A74E293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1F6F-4B4C-4810-8A6B-25D76FD0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0000" y="549000"/>
            <a:ext cx="763272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87FA-83A6-434B-B471-0E220B65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F841-D343-422C-B109-2DF51348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1ADC-3631-4106-A1AF-970C1F83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C668-2E89-4ECF-917A-07D1F0B8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A828-A95B-488C-83AC-57C0E3C1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E75D-8FBE-45F7-9592-8C998C61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28EC-6BB5-4001-87C9-A51F0CE7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06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652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564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06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652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8F7D-65CC-460C-95B4-070A5564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A48-91E8-4D2F-9F27-0124B55B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1351-2737-446F-BDBA-EECBBC1B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E8B-60E9-4064-BFF2-73B4FEB6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00000" y="549000"/>
            <a:ext cx="763272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FE20-1F08-4F7B-90B7-87819363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D15-B180-42B7-95A9-849AB75B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BA7A-677B-4450-A80E-195E6149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0C24-055A-430B-804F-953BAE03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Рамка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9849-6BF1-43DF-A905-8EBB4F33D36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7"/>
          <p:cNvSpPr/>
          <p:nvPr/>
        </p:nvSpPr>
        <p:spPr>
          <a:xfrm>
            <a:off x="676440" y="549360"/>
            <a:ext cx="7854840" cy="609480"/>
          </a:xfrm>
          <a:custGeom>
            <a:avLst/>
            <a:gdLst>
              <a:gd name="textAreaLeft" fmla="*/ 0 w 7854840"/>
              <a:gd name="textAreaRight" fmla="*/ 7855200 w 7854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684360" y="1773360"/>
            <a:ext cx="784836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Храм"/>
          <p:cNvPicPr/>
          <p:nvPr/>
        </p:nvPicPr>
        <p:blipFill>
          <a:blip r:embed="rId3">
            <a:lum bright="48000"/>
          </a:blip>
          <a:stretch/>
        </p:blipFill>
        <p:spPr>
          <a:xfrm>
            <a:off x="5361120" y="2349360"/>
            <a:ext cx="3603600" cy="4248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Рамка"/>
          <p:cNvPicPr/>
          <p:nvPr/>
        </p:nvPicPr>
        <p:blipFill>
          <a:blip r:embed="rId4"/>
          <a:stretch/>
        </p:blipFill>
        <p:spPr>
          <a:xfrm>
            <a:off x="-6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1981080" y="3962520"/>
            <a:ext cx="41752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BD00-795D-46C8-B75A-E8D5665B4CA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rum.shadrinsk.net/albums/albums/userpics/10782/normal_Dickens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hyperlink" Target="http://upload.wikimedia.org/wikipedia/ru/e/ea/Ibsen.jpg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www.students.by/articles/55/1005558/PH08682.jpg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times.ua/img/material/resize_530_1590/1/0/5/francija_artura_rembo_26826_1.jpg" TargetMode="External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tudents.by/articles/55/1005558/PH08682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petrovka.ua/thumbs/64181----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bse.sci-lib.com/pictures/00/12/224855194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mmm-tasty.ru/uc/att/21/dc/87697_6494_183002_________________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bookin.org.ru/books/img/j33000006547.jpg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www.centrmag.ru/catalog/ozae36072.jpg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www.booksiti.net.ru/books/image/54000057074.jpg" TargetMode="External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ozon.ru/multimedia/books_covers/1000014688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zhurnal.lib.ru/img/f/filatow_w_w/zhadnost/ewr.zhadnostx_angl.1773.gif" TargetMode="Externa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bonbon.ru/files/pic/d19000/18983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knigosklad.narod.ru/det/bd739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ozon.ru/multimedia/video_covers/1000046564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forum.shadrinsk.net/albums/albums/userpics/10782/normal_Dickens.jpg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historic.ru/books/item/f00/s00/z0000036/pic/000268.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pictures.imhonet.ru/element/large/8b/58/8b582f4d29cedfdfdb3042dff88eaca4.jpg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t.foto.radikal.ru/0704/2c/ea1648f38ce0.jpg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bibliogid.ru/images/docs/i_puzyr3_2.jpg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www.ozon.ru/multimedia/books_covers/1000634293.jpg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_&#1084;&#1072;&#1088;&#1090;&#1072;" TargetMode="External"/><Relationship Id="rId2" Type="http://schemas.openxmlformats.org/officeDocument/2006/relationships/hyperlink" Target="http://ru.wikipedia.org/wiki/1828" TargetMode="External"/><Relationship Id="rId3" Type="http://schemas.openxmlformats.org/officeDocument/2006/relationships/hyperlink" Target="http://ru.wikipedia.org/w/index.php?title=&#1064;&#1080;&#1077;&#1085;&amp;action=edit&amp;redlink=1" TargetMode="External"/><Relationship Id="rId4" Type="http://schemas.openxmlformats.org/officeDocument/2006/relationships/hyperlink" Target="http://ru.wikipedia.org/wiki/23_&#1084;&#1072;&#1103;" TargetMode="External"/><Relationship Id="rId5" Type="http://schemas.openxmlformats.org/officeDocument/2006/relationships/hyperlink" Target="http://ru.wikipedia.org/wiki/1906" TargetMode="External"/><Relationship Id="rId6" Type="http://schemas.openxmlformats.org/officeDocument/2006/relationships/hyperlink" Target="http://ru.wikipedia.org/wiki/&#1054;&#1089;&#1083;&#1086;" TargetMode="External"/><Relationship Id="rId7" Type="http://schemas.openxmlformats.org/officeDocument/2006/relationships/hyperlink" Target="http://ru.wikipedia.org/wiki/&#1053;&#1086;&#1088;&#1074;&#1077;&#1075;&#1080;&#1103;" TargetMode="External"/><Relationship Id="rId8" Type="http://schemas.openxmlformats.org/officeDocument/2006/relationships/hyperlink" Target="http://ru.wikipedia.org/wiki/&#1044;&#1088;&#1072;&#1084;&#1072;&#1090;&#1091;&#1088;&#1075;" TargetMode="External"/><Relationship Id="rId9" Type="http://schemas.openxmlformats.org/officeDocument/2006/relationships/hyperlink" Target="http://ru.wikipedia.org/w/index.php?title=&#1053;&#1086;&#1074;&#1072;&#1103;_&#1076;&#1088;&#1072;&#1084;&#1072;&amp;action=edit&amp;redlink=1" TargetMode="External"/><Relationship Id="rId10" Type="http://schemas.openxmlformats.org/officeDocument/2006/relationships/hyperlink" Target="http://ru.wikipedia.org/wiki/&#1048;&#1073;&#1089;&#1077;&#1085;,_&#1057;&#1080;&#1075;&#1091;&#1088;&#1076;" TargetMode="External"/><Relationship Id="rId11" Type="http://schemas.openxmlformats.org/officeDocument/2006/relationships/hyperlink" Target="http://ru.wikipedia.org/wiki/&#1055;&#1086;&#1083;&#1080;&#1090;&#1080;&#1095;&#1077;&#1089;&#1082;&#1080;&#1081;_&#1076;&#1077;&#1103;&#1090;&#1077;&#1083;&#1100;" TargetMode="External"/><Relationship Id="rId12" Type="http://schemas.openxmlformats.org/officeDocument/2006/relationships/hyperlink" Target="http://ru.wikipedia.org/wiki/&#1046;&#1091;&#1088;&#1085;&#1072;&#1083;&#1080;&#1089;&#1090;" TargetMode="External"/><Relationship Id="rId13" Type="http://schemas.openxmlformats.org/officeDocument/2006/relationships/hyperlink" Target="http://ru.wikipedia.org/w/index.php?title=&#1048;&#1073;&#1089;&#1077;&#1085;,_&#1058;&#1072;&#1085;&#1082;&#1088;&#1077;&#1076;&amp;action=edit&amp;redlink=1" TargetMode="External"/><Relationship Id="rId14" Type="http://schemas.openxmlformats.org/officeDocument/2006/relationships/hyperlink" Target="http://ru.wikipedia.org/wiki/&#1050;&#1080;&#1085;&#1086;&#1088;&#1077;&#1078;&#1080;&#1089;&#1089;&#1105;&#1088;" TargetMode="External"/><Relationship Id="rId15" Type="http://schemas.openxmlformats.org/officeDocument/2006/relationships/hyperlink" Target="http://ru.wikipedia.org/w/index.php?title=&#1048;&#1073;&#1089;&#1077;&#1085;_(&#1082;&#1088;&#1072;&#1090;&#1077;&#1088;)&amp;action=edit&amp;redlink=1" TargetMode="External"/><Relationship Id="rId16" Type="http://schemas.openxmlformats.org/officeDocument/2006/relationships/hyperlink" Target="http://ru.wikipedia.org/wiki/&#1052;&#1077;&#1088;&#1082;&#1091;&#1088;&#1080;&#1081;_(&#1087;&#1083;&#1072;&#1085;&#1077;&#1090;&#1072;)" TargetMode="External"/><Relationship Id="rId17" Type="http://schemas.openxmlformats.org/officeDocument/2006/relationships/hyperlink" Target="http://ru.wikipedia.org/wiki/&#1041;&#1088;&#1091;&#1082;,_&#1055;&#1080;&#1090;&#1077;&#1088;" TargetMode="External"/><Relationship Id="rId18" Type="http://schemas.openxmlformats.org/officeDocument/2006/relationships/hyperlink" Target="http://ru.wikipedia.org/wiki/&#1056;&#1086;&#1089;&#1089;&#1080;&#1103;" TargetMode="External"/><Relationship Id="rId19" Type="http://schemas.openxmlformats.org/officeDocument/2006/relationships/hyperlink" Target="http://ru.wikipedia.org/wiki/XX_&#1074;&#1077;&#1082;" TargetMode="External"/><Relationship Id="rId20" Type="http://schemas.openxmlformats.org/officeDocument/2006/relationships/hyperlink" Target="http://ru.wikipedia.org/wiki/&#1048;&#1085;&#1085;&#1086;&#1082;&#1077;&#1085;&#1090;&#1080;&#1081;_&#1040;&#1085;&#1085;&#1077;&#1085;&#1089;&#1082;&#1080;&#1081;" TargetMode="External"/><Relationship Id="rId21" Type="http://schemas.openxmlformats.org/officeDocument/2006/relationships/hyperlink" Target="http://ru.wikipedia.org/wiki/&#1040;&#1085;&#1076;&#1088;&#1077;&#1081;_&#1041;&#1077;&#1083;&#1099;&#1081;" TargetMode="External"/><Relationship Id="rId22" Type="http://schemas.openxmlformats.org/officeDocument/2006/relationships/hyperlink" Target="http://ru.wikipedia.org/wiki/&#1041;&#1083;&#1086;&#1082;,_&#1040;&#1083;&#1077;&#1082;&#1089;&#1072;&#1085;&#1076;&#1088;_&#1040;&#1083;&#1077;&#1082;&#1089;&#1072;&#1085;&#1076;&#1088;&#1086;&#1074;&#1080;&#1095;" TargetMode="External"/><Relationship Id="rId23" Type="http://schemas.openxmlformats.org/officeDocument/2006/relationships/hyperlink" Target="http://ru.wikipedia.org/w/index.php?title=&#1042;&#1077;&#1085;&#1075;&#1077;&#1088;&#1086;&#1074;&#1072;,_&#1047;&#1080;&#1085;&#1072;&#1080;&#1076;&#1072;_&#1040;&#1092;&#1072;&#1085;&#1072;&#1089;&#1100;&#1077;&#1074;&#1085;&#1072;&amp;action=edit&amp;redlink=1" TargetMode="External"/><Relationship Id="rId24" Type="http://schemas.openxmlformats.org/officeDocument/2006/relationships/hyperlink" Target="http://ru.wikipedia.org/wiki/&#1051;&#1091;&#1085;&#1072;&#1095;&#1072;&#1088;&#1089;&#1082;&#1080;&#1081;,_&#1040;&#1085;&#1072;&#1090;&#1086;&#1083;&#1080;&#1081;_&#1042;&#1072;&#1089;&#1080;&#1083;&#1100;&#1077;&#1074;&#1080;&#1095;" TargetMode="External"/><Relationship Id="rId25" Type="http://schemas.openxmlformats.org/officeDocument/2006/relationships/hyperlink" Target="http://ru.wikipedia.org/wiki/&#1042;&#1089;&#1077;&#1074;&#1086;&#1083;&#1086;&#1076;_&#1052;&#1077;&#1081;&#1077;&#1088;&#1093;&#1086;&#1083;&#1100;&#1076;" TargetMode="External"/><Relationship Id="rId26" Type="http://schemas.openxmlformats.org/officeDocument/2006/relationships/hyperlink" Target="http://ru.wikipedia.org/wiki/&#1044;&#1084;&#1080;&#1090;&#1088;&#1080;&#1081;_&#1052;&#1077;&#1088;&#1077;&#1078;&#1082;&#1086;&#1074;&#1089;&#1082;&#1080;&#1081;" TargetMode="External"/><Relationship Id="rId27" Type="http://schemas.openxmlformats.org/officeDocument/2006/relationships/hyperlink" Target="http://ru.wikipedia.org/wiki/&#1053;&#1080;&#1082;&#1086;&#1083;&#1072;&#1081;_&#1052;&#1080;&#1085;&#1089;&#1082;&#1080;&#1081;" TargetMode="External"/><Relationship Id="rId28" Type="http://schemas.openxmlformats.org/officeDocument/2006/relationships/hyperlink" Target="http://ru.wikipedia.org/wiki/&#1043;&#1088;&#1080;&#1075;,_&#1069;&#1076;&#1074;&#1072;&#1088;&#1076;_&#1061;&#1072;&#1075;&#1077;&#1088;&#1091;&#1087;" TargetMode="External"/><Relationship Id="rId29" Type="http://schemas.openxmlformats.org/officeDocument/2006/relationships/hyperlink" Target="http://upload.wikimedia.org/wikipedia/ru/e/ea/Ibsen.jpg" TargetMode="External"/><Relationship Id="rId30" Type="http://schemas.openxmlformats.org/officeDocument/2006/relationships/image" Target="../media/image39.jpeg"/><Relationship Id="rId3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97;&#1072;&#1085;&#1089;&#1090;&#1074;&#1086;" TargetMode="External"/><Relationship Id="rId2" Type="http://schemas.openxmlformats.org/officeDocument/2006/relationships/hyperlink" Target="http://ru.wikipedia.org/wiki/&#1042;&#1077;&#1082;&#1089;&#1077;&#1083;&#1100;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54" TargetMode="External"/><Relationship Id="rId2" Type="http://schemas.openxmlformats.org/officeDocument/2006/relationships/hyperlink" Target="http://ru.wikipedia.org/wiki/1891" TargetMode="External"/><Relationship Id="rId3" Type="http://schemas.openxmlformats.org/officeDocument/2006/relationships/hyperlink" Target="http://ru.wikipedia.org/wiki/&#1060;&#1088;&#1072;&#1085;&#1094;&#1080;&#1103;" TargetMode="External"/><Relationship Id="rId4" Type="http://schemas.openxmlformats.org/officeDocument/2006/relationships/hyperlink" Target="http://ru.wikipedia.org/wiki/&#1055;&#1086;&#1101;&#1090;" TargetMode="External"/><Relationship Id="rId5" Type="http://schemas.openxmlformats.org/officeDocument/2006/relationships/hyperlink" Target="http://ru.wikipedia.org/wiki/&#1057;&#1080;&#1084;&#1074;&#1086;&#1083;&#1080;&#1079;&#1084;" TargetMode="External"/><Relationship Id="rId6" Type="http://schemas.openxmlformats.org/officeDocument/2006/relationships/hyperlink" Target="http://ru.wikipedia.org/wiki/20_&#1086;&#1082;&#1090;&#1103;&#1073;&#1088;&#1103;" TargetMode="External"/><Relationship Id="rId7" Type="http://schemas.openxmlformats.org/officeDocument/2006/relationships/hyperlink" Target="http://ru.wikipedia.org/wiki/1854" TargetMode="External"/><Relationship Id="rId8" Type="http://schemas.openxmlformats.org/officeDocument/2006/relationships/hyperlink" Target="http://ru.wikipedia.org/wiki/&#1064;&#1072;&#1088;&#1083;&#1077;&#1074;&#1080;&#1083;&#1100;" TargetMode="External"/><Relationship Id="rId9" Type="http://schemas.openxmlformats.org/officeDocument/2006/relationships/hyperlink" Target="http://ru.wikipedia.org/wiki/&#1060;&#1088;&#1072;&#1085;&#1094;&#1080;&#1103;" TargetMode="External"/><Relationship Id="rId10" Type="http://schemas.openxmlformats.org/officeDocument/2006/relationships/hyperlink" Target="http://ru.wikipedia.org/wiki/&#1040;&#1083;&#1078;&#1080;&#1088;" TargetMode="External"/><Relationship Id="rId11" Type="http://schemas.openxmlformats.org/officeDocument/2006/relationships/hyperlink" Target="http://ru.wikipedia.org/wiki/1870" TargetMode="External"/><Relationship Id="rId12" Type="http://schemas.openxmlformats.org/officeDocument/2006/relationships/hyperlink" Target="http://ru.wikipedia.org/wiki/&#1055;&#1072;&#1088;&#1080;&#1078;" TargetMode="External"/><Relationship Id="rId13" Type="http://schemas.openxmlformats.org/officeDocument/2006/relationships/hyperlink" Target="http://ru.wikipedia.org/wiki/&#1042;&#1077;&#1088;&#1083;&#1077;&#1085;,_&#1055;&#1086;&#1083;&#1100;" TargetMode="External"/><Relationship Id="rId14" Type="http://schemas.openxmlformats.org/officeDocument/2006/relationships/hyperlink" Target="http://ru.wikipedia.org/wiki/&#1042;&#1077;&#1088;&#1083;&#1077;&#1085;,_&#1055;&#1086;&#1083;&#1100;" TargetMode="External"/><Relationship Id="rId15" Type="http://schemas.openxmlformats.org/officeDocument/2006/relationships/hyperlink" Target="http://ru.wikipedia.org/wiki/&#1055;&#1072;&#1088;&#1080;&#1078;&#1089;&#1082;&#1072;&#1103;_&#1082;&#1086;&#1084;&#1084;&#1091;&#1085;&#1072;" TargetMode="External"/><Relationship Id="rId16" Type="http://schemas.openxmlformats.org/officeDocument/2006/relationships/hyperlink" Target="http://ru.wikipedia.org/wiki/1872" TargetMode="External"/><Relationship Id="rId17" Type="http://schemas.openxmlformats.org/officeDocument/2006/relationships/hyperlink" Target="http://ru.wikipedia.org/wiki/&#1051;&#1086;&#1085;&#1076;&#1086;&#1085;" TargetMode="External"/><Relationship Id="rId18" Type="http://schemas.openxmlformats.org/officeDocument/2006/relationships/hyperlink" Target="http://ru.wikipedia.org/wiki/1880" TargetMode="External"/><Relationship Id="rId19" Type="http://schemas.openxmlformats.org/officeDocument/2006/relationships/hyperlink" Target="http://ru.wikipedia.org/wiki/&#1040;&#1092;&#1088;&#1080;&#1082;&#1072;" TargetMode="External"/><Relationship Id="rId20" Type="http://schemas.openxmlformats.org/officeDocument/2006/relationships/hyperlink" Target="http://ru.wikipedia.org/wiki/&#1045;&#1075;&#1080;&#1087;&#1077;&#1090;" TargetMode="External"/><Relationship Id="rId21" Type="http://schemas.openxmlformats.org/officeDocument/2006/relationships/hyperlink" Target="http://ru.wikipedia.org/wiki/&#1069;&#1092;&#1080;&#1086;&#1087;&#1080;&#1103;" TargetMode="External"/><Relationship Id="rId22" Type="http://schemas.openxmlformats.org/officeDocument/2006/relationships/hyperlink" Target="http://ru.wikipedia.org/wiki/&#1049;&#1077;&#1084;&#1077;&#1085;" TargetMode="External"/><Relationship Id="rId23" Type="http://schemas.openxmlformats.org/officeDocument/2006/relationships/hyperlink" Target="http://ru.wikipedia.org/wiki/1891" TargetMode="External"/><Relationship Id="rId24" Type="http://schemas.openxmlformats.org/officeDocument/2006/relationships/image" Target="../media/image40.jpeg"/><Relationship Id="rId2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58920" y="2636640"/>
            <a:ext cx="532908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Литературные направления и теч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Основные тенден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Литературные жан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Персонал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1116000" y="692280"/>
            <a:ext cx="689616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Зарубежная литература 19 век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браз «маленького человека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дин из приемов острой критики общества в реалистическом произведении — резко отрицательная, иногда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атирическая подача представителей господствующего класс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 одновременно —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очувственное изображение «маленьких людей»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незнатных, небогатых, которые чаще всего являются жертвами общественного порядка. Последние по своим человеческим достоинствам стоят неизмеримо выше «хозяев жизни». И именно в них собраны те лучшие   человеческие   качества,   в   которых  автор   видит  залог справедливого мироустройства: трудолюбие, доброта, благородство.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Однако эти герои не представляют собой активной силы, способной противостоять общественному злу: не вступая в борьбу с ним, они только страдают от него или стремятся оградиться от его порок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84360" y="620280"/>
            <a:ext cx="460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33"/>
                </a:solidFill>
                <a:latin typeface="Garamond"/>
              </a:rPr>
              <a:t>ВЫВОДЫ:</a:t>
            </a:r>
            <a:endParaRPr b="1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алисты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. подхватили отрицание бесчеловечного мира, впервые провозглашенное романтизмом, но подкрепили его конкретным анализом действительнос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 романтизма они восприняли и исключительное внимание к духовной жизни, к человеческому чувству и здесь также достигли особой силы изображения, раскрыв все взаимосвязи между людьми — в семье, в обществ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своив достижения предшествующих этапов развития искусства, критический реализм стал новым художественным методом, со своими особыми принципами отражения действительнос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каждой из стран на нем сказались и своеобразие исторических условий, и национальные традиции литературы. Но это не мешает установить общие черты метода, в развитии которого вершинами стили творчество Н. Гоголя, Л.Толстого и Ф.Достоевского, О.Бальзака , Г.Мопассана и Ч.Диккенса и др. писателе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-main-pic" descr="Картинка 1 из 5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5013360"/>
            <a:ext cx="1098360" cy="1368360"/>
          </a:xfrm>
          <a:prstGeom prst="rect">
            <a:avLst/>
          </a:prstGeom>
          <a:ln w="0">
            <a:noFill/>
          </a:ln>
        </p:spPr>
      </p:pic>
      <p:sp>
        <p:nvSpPr>
          <p:cNvPr id="120" name="WordArt 4"/>
          <p:cNvSpPr txBox="1"/>
          <p:nvPr/>
        </p:nvSpPr>
        <p:spPr>
          <a:xfrm>
            <a:off x="755640" y="2276640"/>
            <a:ext cx="734544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Зарубежная литература 19 век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п е р с о н а л и и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0920" y="5516640"/>
            <a:ext cx="165564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.Бальз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pg_046"/>
          <p:cNvPicPr/>
          <p:nvPr/>
        </p:nvPicPr>
        <p:blipFill>
          <a:blip r:embed="rId3"/>
          <a:stretch/>
        </p:blipFill>
        <p:spPr>
          <a:xfrm>
            <a:off x="900000" y="692280"/>
            <a:ext cx="895320" cy="10080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123" name="Picture 7" descr="pg_100"/>
          <p:cNvPicPr/>
          <p:nvPr/>
        </p:nvPicPr>
        <p:blipFill>
          <a:blip r:embed="rId4"/>
          <a:stretch/>
        </p:blipFill>
        <p:spPr>
          <a:xfrm>
            <a:off x="2916360" y="692280"/>
            <a:ext cx="960480" cy="100800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3800" dir="13012194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24" name="Picture 8" descr="p_202i"/>
          <p:cNvPicPr/>
          <p:nvPr/>
        </p:nvPicPr>
        <p:blipFill>
          <a:blip r:embed="rId5"/>
          <a:stretch/>
        </p:blipFill>
        <p:spPr>
          <a:xfrm>
            <a:off x="5076720" y="620640"/>
            <a:ext cx="979560" cy="107964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1503" dir="2700000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25" name="Picture 9" descr="pb_229"/>
          <p:cNvPicPr/>
          <p:nvPr/>
        </p:nvPicPr>
        <p:blipFill>
          <a:blip r:embed="rId6"/>
          <a:stretch/>
        </p:blipFill>
        <p:spPr>
          <a:xfrm>
            <a:off x="611280" y="3727440"/>
            <a:ext cx="1657080" cy="16128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26" name="Picture 10" descr="Файл:Ibsen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59280" y="5013360"/>
            <a:ext cx="1230120" cy="1368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2"/>
          <p:cNvSpPr/>
          <p:nvPr/>
        </p:nvSpPr>
        <p:spPr>
          <a:xfrm>
            <a:off x="1908000" y="5950080"/>
            <a:ext cx="122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Ибс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539640" y="1844640"/>
            <a:ext cx="1584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.Гоф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6156360" y="5877000"/>
            <a:ext cx="144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Диккен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2771640" y="184464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Гю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5148360" y="184464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.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7093080" y="1916280"/>
            <a:ext cx="122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Рем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6804000" y="5157720"/>
            <a:ext cx="1728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.Стенда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9" descr="Картинка 1 из 158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77080" y="3429000"/>
            <a:ext cx="1306440" cy="1584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Картинка 2 из 53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236000" y="549360"/>
            <a:ext cx="8427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Немецкий романтизм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Эрнест Теодор Амадей Гофман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ОФМАН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(1776–1822) - немецкий писатель, композитор и художник, в чьих фантастических рассказах и романах воплотился дух немецкого романтизм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Эрнст Теодор Вильгельм Гофман родился 24 января 1776 в Кёнигсберге (Восточная Пруссия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же в раннем возрасте обнаружил таланты музыканта и рисовальщик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зучал право в Кёнигсбергском университете, затем двенадцать лет служил судейским чиновником в Германии и Польш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842920" y="4292640"/>
            <a:ext cx="561636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1808 любовь к музыке подвигла Гофмана занять пост театрального капельмейстера в Бамберге, шесть лет спустя он дирижировал оркестром в Дрездене и Лейпциг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1816 вернулся на государственную службу советником Берлинского апелляционного суда, где и прослужил вплоть до смерти, последовавшей 24 июля 1822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pg_046"/>
          <p:cNvPicPr/>
          <p:nvPr/>
        </p:nvPicPr>
        <p:blipFill>
          <a:blip r:embed="rId1"/>
          <a:stretch/>
        </p:blipFill>
        <p:spPr>
          <a:xfrm>
            <a:off x="684360" y="4076640"/>
            <a:ext cx="1987560" cy="223524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640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Литературное творчество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Литературой Гофман занялся поздно. Наиболее известные произведения – сборник рассказов «Серапионовы братья»       ( 1819–1821), рассказ в духе волшебной сказки «Крошка Цахес» (1819);  два романа – «Эликсир дьявола» ( 1816), где дано блистательное исследование проблемы двойничества, и «Житейские воззрения кота Мурра» ( 1819–1821), отчасти автобиографическое произведение, исполненное остроумия и мудрости. К числу наиболее известных рассказов Гофмана, входивших   в  сборники, принадлежат волшебная сказка «Золотой горшок»,  повесть «Майорат», реалистически достоверный психологический рассказ о ювелире, который не в силах расстаться со своими творениями, и цикл музыкальных новелл, в которых на редкость удачно воссозданы дух некоторых музыкальных сочинений и образы композиторо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10920" y="549000"/>
            <a:ext cx="4535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Крошка Цахес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дним из интереснейших сатирических произведений Гофмана является «Крошка Цахес». В этой сказке Гофман развивает фольклорный мотив о чудодейственных волосах. Добрая фея из жалости дарит маленькому уродцу три волшебных волоска. Благодаря им все значительное и талантливое, произошедшее или произнесенное в присутствии Цахеса, приписывается ему. А вот гадкие поступки самого малыша приписываются окружающим его людям. Цахес делает потрясающую карьеру. Малыша считают гениальнейшим поэтом. Со временем он становится тайным советником, а затем и минист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39640" y="549000"/>
            <a:ext cx="6553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Французская литература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омантизм  Виктора Гюго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2781000"/>
            <a:ext cx="39243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юго был третьим сыном капитана (позднее генерала) наполеоновской армии. Его родители часто разъезжались и в конечном счете 3 февраля 1818 получили официальное разрешение жить раздельно. Мальчик воспитывался под сильным влиянием матери, чьи роялистские и вольтерианские взгляды наложили на него глубокий отпечаток. Отец сумел завоевать любовь и восхищение сына после смерти своей жены в 1821. В течение долгого времени образование Гюго было бессистемным. Лишь в 1814 он поступил в пансион Кордье, откуда перешел в лицей Людовика Великого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24000" y="1844640"/>
            <a:ext cx="50403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ЮГО (Hugo) Виктор (1802-85), французский писатель-романтик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едисловие к драме «Кромвель» (1827) — манифест французских романтик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ьесы «Эрнани» (1829), «Марион Делорм» (1831), «Рюи Блаз» (1838) — воплощение бунтарских иде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историческом романе «Собор Парижской богоматери» (1831) сильны антиклерикальные тенденци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сле государственного переворота Луи Наполеона Бонапарта (1851) эмигрировал, выпустил политический памфлет «Наполеон Малый» (1852) и сборник сатирических стихов «Возмездия» (1853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оманы «Отверженные» (1862), «Труженики моря» (1866), «Человек, который смеется» (1869), изображающие жизнь разных слоев французского общества, проникнуты демократическими, гуманистическими идеалам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борники стихов «Восточные мотивы» (1829), «Легенда веков» (т. 1-3, 1859-83); роман о Французской революции «93-й год» (1874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pg_100"/>
          <p:cNvPicPr/>
          <p:nvPr/>
        </p:nvPicPr>
        <p:blipFill>
          <a:blip r:embed="rId1"/>
          <a:stretch/>
        </p:blipFill>
        <p:spPr>
          <a:xfrm>
            <a:off x="611280" y="404640"/>
            <a:ext cx="2009520" cy="210852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3800" dir="13012194" blurRad="0" rotWithShape="0">
              <a:srgbClr val="ffff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9640" y="620280"/>
            <a:ext cx="5400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ворчество писателя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2104560"/>
            <a:ext cx="453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«Собор Парижской богоматер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ое место в творчестве Гюго занимает «Собор Парижской Богоматери» (1831), поскольку здесь он впервые продемонстрировал свои великолепные возможности в прозе. Как и в драмах этого периода, персонажи романа обрисованы посредством романтической символизации: это исключительные характеры в чрезвычайных обстоятельствах; эмоциональные связи возникают между ними мгновенно, а их гибель обусловлена роком, который служит способом познания действительности, ибо в нем отражается противоестественность «старого строя», враждебного человеческой личност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32000" y="2133720"/>
            <a:ext cx="3776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оэтический д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тот же период достигает полной зрелости и поэтический дар Гюго. Сборники его лирических стихотворений — «Осенние листья» (1831), «Песни сумерек» (1835), «Внутренние голоса» (1837), «Лучи и тени» (1840) — возникли в значительной мере благодаря личным переживаниям. В это время в жизни Гюго произошли важные события: Сент-Бев влюбился в его жену, а сам он проникся страстью к актрисе Жюльетте Дру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55280" y="5373360"/>
            <a:ext cx="37450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онтиспис книги «Собор Парижской богомате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i_196"/>
          <p:cNvPicPr/>
          <p:nvPr/>
        </p:nvPicPr>
        <p:blipFill>
          <a:blip r:embed="rId1"/>
          <a:stretch/>
        </p:blipFill>
        <p:spPr>
          <a:xfrm>
            <a:off x="611280" y="476280"/>
            <a:ext cx="3595680" cy="4105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i_197"/>
          <p:cNvPicPr/>
          <p:nvPr/>
        </p:nvPicPr>
        <p:blipFill>
          <a:blip r:embed="rId2"/>
          <a:stretch/>
        </p:blipFill>
        <p:spPr>
          <a:xfrm>
            <a:off x="4932360" y="476280"/>
            <a:ext cx="3695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0920" y="549000"/>
            <a:ext cx="561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В изгнании.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исатель - романист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0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государственного переворота 2 декабря 1851 писатель скрылся в Брюссель, оттуда перебрался на остров Джерси, где провел три года, а в 1855 — на остров Гернси. За время долгого изгнания он создал величайшие свои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2 появился роман под названием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«Отверженны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Всемирную известность получили такие персонажи этого прославленного романа, как благородный каторжник Жан Вальжан, осужденный за кражу буханки хлеба, превратившийся в зверя и возродившийся к новой жизни благодаря милосердию доброго епископа; инспектор Жавер, преследующий бывшего преступника и воплощающий собой бездушное правосудие; алчный трактирщик Тенардье и его супруга, истязающие сиротку Козетту; влюбленный в Козетту юный энтузиаст-республиканец Мариус; парижский сорванец Гаврош, героически погибший на баррикад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ериод своего пребывания на Гернси Гюго опубликовал книгу «Уильям Шекспир» (1864),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сборник стихотворений «Песни улиц и лесов» (1865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, а также два романа —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«Труженики моря» (1866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«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Человек, который смеется» (1869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 Первый из них отражает пребывание Гюго на Нормандских островах: главный герой книги, наделенный лучшими чертами национального характера, проявляет необычайную стойкость и упорство в борьбе с океанской стихи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тором романе Гюго обратился к истории Англии в эпоху царствования королевы Анны. В основе сюжета лежит история лорда, в раннем детстве проданного торговцам людьми (компрачикосам), которые превратили его лицо в вечную маску смеха. Он колесит по стране в качестве бродячего актера вместе с приютившим его стариком и слепой красавицей, а когда ему возвращают титул, выступает в палате лордов с пламенной речью в защиту обездоленных под издевательский хохот аристократов. Покинув чуждый ему мир, он решает вернуться к прежней бродячей жизни, но смерть возлюбленной приводит его в отчаяние, и он бросается в мо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900000" y="620640"/>
            <a:ext cx="76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Литературные 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направления и течения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55280" y="1844640"/>
            <a:ext cx="4321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дний романтиз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направление в литературе, для которого характерно изображение исключительного героя в исключительных, фантастических обстоятельствах. Важна субъективная оценка писателем воспроизводимых событ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тический реализ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правление в литературе, для которого характерно правдивое изображение действительности, познание законов развития общественных явлений и «правдивость в воспроизведении типичных характеров в типичных обстоятельствах»(Ф.Энгель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волиз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направление в литературе, для которого характерно стремление поставить символ на место конкретного образа, что противостояло натуралистической приземлённости, фотограф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63640" y="1844280"/>
            <a:ext cx="3095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.Гофман, В.Гюг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.Скотт, Э.П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.Бальзак, Ф. Стендал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.Мопассан, Г.Ибсен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.Диккен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ранция - А.Ремб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.Верле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глия – О.Уайль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рвегия - Г.Ибсе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ссия – Вяч. Иван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. Белый, В.Брюс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.Мережковск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3280" y="549000"/>
            <a:ext cx="352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Эдгар По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50920" y="1916280"/>
            <a:ext cx="460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Легенд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иография По овеяна легендами, нередко   созданными им самим: как истинный романтик он стремился разрушить грань между реальностью и воображением, представляя собственную жизнь законченной художественной новеллой, в которой воссоздана судьба гения, не признающего над собой власти обыденных понятий и норм. В соответствии с сюжетом этой новеллы По оказывался потомком аристократов, уехавшим, по примеру Байрона, в Грецию, чтобы посвятить себя борьбе за ее освобождение, и пережившим множество испытаний, включая пребывание в Санкт-Петербурге, куда его забросила прихоть судьб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_202i"/>
          <p:cNvPicPr/>
          <p:nvPr/>
        </p:nvPicPr>
        <p:blipFill>
          <a:blip r:embed="rId1"/>
          <a:stretch/>
        </p:blipFill>
        <p:spPr>
          <a:xfrm>
            <a:off x="611280" y="549360"/>
            <a:ext cx="2808360" cy="309384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1503" dir="2700000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59" name="Picture 7" descr="04t1197i"/>
          <p:cNvPicPr/>
          <p:nvPr/>
        </p:nvPicPr>
        <p:blipFill>
          <a:blip r:embed="rId2"/>
          <a:stretch/>
        </p:blipFill>
        <p:spPr>
          <a:xfrm>
            <a:off x="985680" y="39909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95280" y="549000"/>
            <a:ext cx="4895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омантик в жизн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749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еальн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 самом деле По был сыном странствующих актеров, рано осиротел, воспитывался в семье богатого негоцианта, с которым у него были очень напряженные отношения, и не получил образования, вынужденный уйти из университета в результате скандальных историй и карточных долгов. С юности узнал нищету и необходимость зарабатывать на жизнь пером журналист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3240" y="1844280"/>
            <a:ext cx="3776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епоправимая катастроф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сенью 1835 По женился на своей несовершеннолетней кузине Вирджинии, ставшей адресатом его самых проникновенных лирических стихотворений. Смерть жены двенадцать лет спустя явилась последней и непоправимой катастрофой жизни По, заполненной выматывающей журнальной работой, которая не помогала выбраться из ожесточенно преследовавших его бедствий, приведших к душевному срыву и ранней гибели. Смерть По вызвала почти нескрываемое ликование врагов писателя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лавная тема поэзии Эдгара По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и небольшие поэтические книги По, из которых самая известная «Ворон» (1845), только со временем были прочитаны как хроника озарений и срывов романтической души, уникальная по своей эмоциональной насыщенности и метафорической яркости. Главная тема поэзии По — воображение как единственный способ преодолеть конечность времени, неотвратимость смерти, ужас бесследного исчезновения с лица земли. Образы По навеяны всегда обостренным у него чувством присутствия мистического в гуще обыденности, поэтический язык отмечен многозначностью ключевых слов-понятий, допускающих самые различные толкования в зависимости от характера восприятия воссоздаваемого им лирического сюжета. Предельно интенсивная эмоциональность стихов По соединяется с математически точно рассчитанной композицией, которую он сам описал в своих теоретических работах о поэзии, имеющих важное значени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6480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Фантастический реализм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еренность приемов, посредством которых достигается необходимый эффект, хотя при этом сохранено ощущение спонтанной импровизации, — основной художественный закон и в новеллах По, составивших двухтомный сборник «Гротески и арабески» (1839). Достоевский назвал метод По «фантастическим реализмом», подразумевая способность за счет «силы подробностей» достичь полной убедительности, когда описываются невероятные события и явления, родственные мистике. Смешение фантазии и яви, достоверного и невозможного у По всегда органично, а оставляемое его рассказами чувство страха неотступно и реально. Цикл его «логических рассказов» о гениальном сыщике Дюпене положил начало жанру детектива, сполна реализовав основную художественную установку По: «Достичь правдоподобия, пользуясь научными принципами в той мере, в какой это допускает фантастический характер самой темы». Оттенок причудливости («арабеск») обязателен в этих новеллах, эмоциональный спектр которых очень широк: от ужаса до бурлескного сме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755640" y="620640"/>
            <a:ext cx="770400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Представители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 </a:t>
            </a: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критического реализм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в западноевропейской литературе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604836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Основоположники 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западноевропейского реализма.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Англия. Фредерик Стендаль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698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стическое направление в литератур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 возглавили великие французские романисты Стендаль и Бальзак. Во многом опираясь на опыт романтиков, которые глубоко интересовались историей, писатели-реалисты  увидели свою задачу в том, чтобы изобразить общественные отношения современности, быт и нравы Реставрации и Июльской монарх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редерик Стендаль (псевдоним Мари Анри Бейля) с армией Наполеона побывал в Италии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ании и Австрии. В 1812 г. с главными  силами французской армии он прошел путь  до Моск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ставрация    Бурбонов    застала    Стендаля   в Италии, где он написал первые книги об искусстве.  Горячая  дружба   связала  писателя   с    итальянскими карбонариями — членами тайной |  революционной   организации,   существовавшей    в Италии в первой трет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в.   В  рассказе «Ванина Ванпни» (1829) перед нами возникает романтически   привлекательный   образ  респуликанца Пьетро Миссприллн, отважного и гордого итальянского   патри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30 г. Стендаль создал роман «Красное и черное», а в 1839 г. в Париже за два месяца написал роман «Пармская обитель», который принес ему извест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5257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Пармская обитель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4176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а героя Стендаля вошли в мировую .лите­ратуру как олицетворение непокорной, свобо­долюбивой юности. Один из них — Жюльен Сорель, сын плотника из французской провин­ции («Красное и черное»), другой — итальянский аристократ Фабрицио дель Донго («Пармская обитель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стнадцатилетний Фабрицно дель Донго покинул родную Италию, чтобы сражаться в войсках Наполеона. Доверчивый и пылкий, жаждавший героических подвигов, он считал Наполеона освободителем Италии от власти австрийской монархии.Юному герою Стендаля, свидетелю разгрома французской армии при Ватерлоо, суждено было узнать суровую правду войны, расстаться   со   своими   иллюз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Картинка 1 из 15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549360"/>
            <a:ext cx="2079720" cy="25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Картинка 15 из 15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3284640"/>
            <a:ext cx="2004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6767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оман «Красное и чёрное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209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юльен Сорель вступил в самостоятельную жизнь уже после падения Наполеона, в период реставрации Бурбонов. При Наполеоне одаренный юноша из народа, возможно, сделал бы военную карьеру. Сейчас же единственную возможность подняться в верхи общества он видел лишь в том. чтобы, окончив духовную семинарию, стать священником. Воспитатель детей мэра города Веррьера господина де Рена.тя, Жюльен носился с често­любивыми планами, сознательно подражая ли­цемерному мольеровскому Тартюфу. Таким мы видим его в начале романа. Затем., пройдя через ряд испытаний, он понял, что карьеризм невозможно совместить с возвышенными чело­веческими порывами, которые жили в его душе.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рошенный в тюрьму за покушение на жизнь госпожи де Реналь, Жюльен Сорель понял, что его собираются казнить не только за преступление, которое он совершил. «Вы видите перед собой простолюдина, возмутив­шегося против своего низкого жребия... Вот мое преступление, господа», — заявил он сво­им  судь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образе Жюльена Сореля Стендаль запечатлел наиболее существенные черты характера молодого человека начала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XIX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  В его душе борются хорошие и дурные наклонности, карьеризм и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еволюционные идеи, холодный расчет и   романтическое чув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 романе «Красное и черное» Стендаль со всеми тончайшими оттенками анализирует мысли и поступки человека, его противоречивые порывы. Как художник-психолог, Стендаль открыл новые пути в искусстве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XIX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240" y="1844280"/>
            <a:ext cx="3776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Картинка 11 из 3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04640"/>
            <a:ext cx="4619520" cy="3810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Картинка 13 из 34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4005360"/>
            <a:ext cx="1459080" cy="2305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j3300000654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71640" y="3213000"/>
            <a:ext cx="1909800" cy="3056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Картинка 38 из 34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58920" y="476280"/>
            <a:ext cx="1581120" cy="244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Картинка 65 из 347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24360" y="4005360"/>
            <a:ext cx="14479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71280" y="691920"/>
            <a:ext cx="5761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Английская литература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Оноре де Бальзак – писатель - реалист</a:t>
            </a:r>
            <a:endParaRPr b="1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79200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Этан творческой зрелости художника связан с атмосферой Июльской революции. Человеческие типы, рожденные этим временем, появились в первом цикле его повестей и рассказов под названием «Сцены частной жизни» (1830), который по­лучил всеобщее признание. Окончательно обеспечил Бальзаку -известность   вышедший   в   1831   г.   роман   «Шагреневая   кожа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оды июльской монархии были временем расцвета творчества Бальзака: с 1833 по 1837 г. были написаны «Евгения Гранде», «Отец Горио», первая часть «Утраченных иллюзий». Действительность предоставляла писателю огромный материал для размышлений, наблюдений и выводов. Современный французский писатель А. Вюрмсер, автор биографической книги о Бальзаке, так характеризует это время:«Это был век золота, возомнивший себя «золотым веком». Началась охота за новыми богатствами; при всяком удобном случае прибирали к рукам богатство соседа»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реди тех особенностей времени, которые </a:t>
            </a: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Бальзак подвергает самому беспощадному разоблачению,— нравственная деградация дворянства, которое окончательно уподобилось по своему моральному облику буржуазии, потеряв в погоне за деньгами не только былую аристократическую честь, но и человеческое достоинство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Личные склонности, как оказалось, не имели силы над Бальзаком-писателем: он явился обличите­лем дворянского класса как беспристрастный очевидец и непод­купный судь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916360" y="1844640"/>
            <a:ext cx="5184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оре Бальзак родился в 1799 г. и прожил 50 лет — первую половину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летия, бурную, насыщенную событиями в жизни Фран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pb_229"/>
          <p:cNvPicPr/>
          <p:nvPr/>
        </p:nvPicPr>
        <p:blipFill>
          <a:blip r:embed="rId1"/>
          <a:stretch/>
        </p:blipFill>
        <p:spPr>
          <a:xfrm>
            <a:off x="539640" y="404640"/>
            <a:ext cx="2232000" cy="2171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050920" y="4076280"/>
            <a:ext cx="64087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Основные черты литературного мет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971640" y="2565360"/>
            <a:ext cx="7632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Критический реализм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6193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Человеческая комедия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0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Человеческая комедия»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же в начале творческого пути Бальзак устанавливает связь между отдельными своими произведениями, объединяя их в циклы: «Сцены частной жизни», «Сцены провинциальной жизни», «Сцены парижской жизни». Эти три цикла (12 томов, написанные на протяжении 1834—1837 гг.) составили «Этюды нраво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 1842  г.  у  писателя   возник  замысел  соединить  в  едино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ромное полотно все, что уже написано и что будет написан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альнейшем, с целью воссоздать историческое движение фран­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узского    общества - от революции  1789 г.до современ-    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сти. «Мое   творение,— говорил    Бальзак,— охватит  все    классы французского общества  девятнадцатого века;  если    через   пятьсот  лет,   через  две  тысячи  лет  захотят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зучать  французское общество времен Империи, Реставрации и гнусного июльского правительства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о археологам и прочим ученым людям достаточно будет заглянуть в мои произведен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му огромному труду автор дал название «Человеческая комедия». Над «Человеческой комедией» Бальзак работал до конца жизни. Она насчитывает 87 произведений, по планам писателя сюда должны были войти еще 5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460836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обенности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еализма писателя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5545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ьзак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редставил живую историю, воплощенную в различных судьба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человеческих типах, рожденны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етием,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ал глубокие наблюдения над закономерностями общественной жизни Франции и мрачную перспективу дальнейшего процветания буржуазной мор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556000" y="3860640"/>
            <a:ext cx="62640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ейшая особенность грандиозного                      создания Бальзака —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множество аспектов             изображения реальной действительности, в</a:t>
            </a:r>
            <a:br>
              <a:rPr sz="1800"/>
            </a:b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которой  живет человек его 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кий образец бальзаковской типизации      (и одновременно —  бальзаковского  разоблачения) — повесть  «Гобсе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Картинка 2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716280"/>
            <a:ext cx="1546200" cy="2521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i_046"/>
          <p:cNvPicPr/>
          <p:nvPr/>
        </p:nvPicPr>
        <p:blipFill>
          <a:blip r:embed="rId3"/>
          <a:stretch/>
        </p:blipFill>
        <p:spPr>
          <a:xfrm>
            <a:off x="6443640" y="836640"/>
            <a:ext cx="21114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03280" y="549000"/>
            <a:ext cx="29509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Гобсек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09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Образ Гобсека.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оздание яркого типичного образа у Бальзака достигается посредством максимального заострения, гиперболизации основной, самой характерной черты того класса, того социального   слоя,   который   должен   представлять   его   герой. Над всеми склонностями и чувствами Гобсека преобладает страсть стяжательства, она становится единственной его страстью, и ей подчиняется вся его жизн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. Гриб, один из лучших исследователей Бальзака, пишет: </a:t>
            </a:r>
            <a:r>
              <a:rPr b="1" lang="ru-RU" sz="2100" spc="-1" strike="noStrike">
                <a:solidFill>
                  <a:srgbClr val="ff3300"/>
                </a:solidFill>
                <a:latin typeface="Arial"/>
              </a:rPr>
              <a:t>«В эту освобожденную страсть человек вкладывает всю свою волю, энергию силы, она поглощает его целиком, разрастается до гигантских размеров, становится лихорадкой, болезнью, манией. Оттого всякий яркий тип у Бальзака почти всегда маньяк...» 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9640" y="3906720"/>
            <a:ext cx="712944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ньги дают ему сознание власти над миром: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«... разве могут отказать в чем-либо тому, у кого в руках мешок с золотом? Я достаточно богат, чтобы покупать совесть человеческую, управлять всесильными министрами через их фаворитов, начиная с канцелярских служителей и кончая любовницами. Это ли не власть? Я могу, если пожелаю, обладать красивейшими женщинами и покупать нежнейшие ласки... Что же такое жизнь, как не машина, которую приводят в движение деньги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4105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Мания» Гобсека мотивирована          у писателя всей общественной системой, в которой решающую роль играет капитал. Именно поэтому цель своей жизни         Гобсек видит в беспредельном обога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Картинка 19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836640"/>
            <a:ext cx="40528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ый ростовщик  строит свою                              философию, циничную и непоколебимую,                            на трезвом знании жизни: «...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з всех                                 земных благ есть только одно, достаточно                надежное, чтобы стоило человеку гнаться                            за ним. Это ... золото. В золоте сосредоточены все силы человечества... В золоте все содержится в зародыше, и все оно дает в действительности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аково твердое убеждение Гобсека, из которого он исходит во всех своих поступ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, что путь к богатству непременно предполагает жестокость, не смущает его. Сам он не знает пощады к тем, с кем ведет дела.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«Иногда его жертвы возмущались, поднимали неистовый крик, потом вдруг наступала мертвая тишина, как в кухне, когда зарежут в ней утку»,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ворит Бальза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Картинка 90 из 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76280"/>
            <a:ext cx="27990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давая точных сведений о прошлом Гобсека, Бальзак тем не менее твердо говорит о том, что огромный капитал ростовщика, как и каждого буржуа, нажит ценой преступлений, больших или малых: «Возможно, он был корсаром; возможно, блуждал по всему свету, торговал бриллиантами или людьми, женщинами или государственными тайнами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о классовые черты в Гобсеке достигают огромной выразительности благодаря введению индивидуальных, исключительных черт, заостряющих этот образ, придающих ему весомость типич­ного явл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бсек живет с глубоким недоверием к людям, в полном оди­ночестве, не испытывая ни малейшего желания повидаться со своими родственниками, равнодушный даже к их трагедия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292428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ь Париж взволновало убийство женщины, прозванной «прекрасная голландка». Гобсек же только сказал, не проявив при этом ни малейшего интереса или хотя бы уди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оя внучатая племян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эти слова и вызвала у него смерть его единственной наследницы, внучки его сестры». И далее: «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н ненавидел своих наследников и даже мысли не допускал, что кто-либо завладеет его состоянием хотя бы после его смерт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21784"/>
          <p:cNvPicPr/>
          <p:nvPr/>
        </p:nvPicPr>
        <p:blipFill>
          <a:blip r:embed="rId1"/>
          <a:stretch/>
        </p:blipFill>
        <p:spPr>
          <a:xfrm>
            <a:off x="5364000" y="404640"/>
            <a:ext cx="32529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540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держимость золотом сделала существование Гобсека абсурдным. В страхе за свое богатство он скрывает его размеры; он готов скорее понести убыток, чем признаться, насколько он богат. Страдающий от смертельного озноба, Гобсек не позволяет затопить камин: в камине спрятаны груды золота и серебра. Его кладовая ломится от запасов, уже гниющих. «Все кишело червями и насекомыми. Подношения, полученные недавно, лежали вперемежку с ящиками различных размеров, с цыбиками чаю и мешками коф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альзак дает своему герою значащую фамилию: Гобсек — живоглот. Эта метафора, привлеченная для живого изображения хищного существа, многократно обыгрывается автором на стра­ницах повести: «В этой крупной афере Гобсек был ненасытным удавом»; «...сдается мне, он все это глотает, да только не на пользу себе»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ругая метафора создает перед читателем образ Гобсека как непосредственное воплощение силы денег: он — «человек-вексель», сердце в его груди — «слиток золота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Картинка 43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76280"/>
            <a:ext cx="2303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05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Изображение аристократии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70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Изображение дворянства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период, когда происходит                           действие повести, французское дворянство уже полностью             подключено к капиталистическому общественному укладу..                       Не менее, чем буржуазия, оно одержимо властью денег.               Буржуазный век еще более усилил аристократическую жажду               роскоши, и новые, обесчеловеченные принципы этого века                                  еще более изуродовали отживающую дворянскую мораль. В неразборчивости средств обогащения аристократ не уступает предпринимателю. В противоположность Гобсеку люди аристократического круга не видят нравственных преимуществ          скромной трудовой жизн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Человеческий идеал этого круга убог и ничтожен. Кумир света — Максим де Трай, «субъект, внушающий и страх и презрение, всезнайка и круглый невежда... бретер, больше ис­пачканный грязью, чем запятнанный кровью». Со злой иронией перечисляет автор его достоинства: «Он неподражаемо носит фрак, неподражаемо правит лошадьми, запряженными цугом. А как Максим играет в карты, как он кушает и пьет! Такого изящества манер в целом мире не увидишь. Он знает толк и в скаковых лошадях, и в модных шляпах, и в картинах. Женщины без ума от него. В год он проматывает тысяч сто, однако не слыхать, чтобы у него было захудалое поместье или хоть какая-нибудь рента. Это образец странствующего рыцаря нашего вре­мени — странствует же он по салонам, будуарам, бульварам нашей столицы...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ставив в этой повести буржуа рядом с представителями дворянства, Бальзак сумел блестяще показать не только их взаимный антагонизм, но и их взаимосвязанность, заинтересован­ность каждой из этих двух сторон в существовании друго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Картинка 65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76280"/>
            <a:ext cx="15238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7280" y="620280"/>
            <a:ext cx="640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оложительные образ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еликий реалист не пощадил в своем разоблачении ни один из господствующих классов. Но в повести есть персонажи, воп­лощающие его нравственный идеал: это Дервиль и Фанни Мальво в изображении которых справедливо находят свидетельство де­мократических симпатий Бальзака '. Труженики исполненные бла­городства, чуждые тщеславия, они сознательно отказываются от погони за ценностями, привлекающими и аристократа, и бур­жуа. «Я скорее дам себе руку отрубить, чем стану грабить людей» — этим словам, произнесенным в начале своего жизнен­ного пути, Дервиль остается верен всю жизнь. Он «даже откло­нил предложение виконтессы... пройти в судебное ведомство, где он мог бы при ее покровительстве чрезвычайно быстро сделать карьеру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Гобсек судит дворянство, то Дервиль, юрист, прекрас­но знающий все темные закоулки современной жизни, выступает как судья, обличающий уже и Гобсека, когда с негодованием спрашивает: «Да неужели все сводится к деньгам!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Общая характеристика </a:t>
            </a:r>
            <a:br>
              <a:rPr sz="3200"/>
            </a:b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западноевропейского реализма </a:t>
            </a:r>
            <a:r>
              <a:rPr b="1" i="1" lang="en-US" sz="3200" spc="-1" strike="noStrike">
                <a:solidFill>
                  <a:srgbClr val="006633"/>
                </a:solidFill>
                <a:latin typeface="Garamond"/>
              </a:rPr>
              <a:t>XIX </a:t>
            </a: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в.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2104560"/>
            <a:ext cx="838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ритический реализм (термин М. Горького) — новый этап развития реализма, складывающийся в Западной Европе в 30—40-е гг.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IX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. после романтизм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менно романтизм явился рубежом, отделившим этот период развития реалистического искусства от предшествующих. Реализм дала уже эпоха Возрождения, когда лучшие из мастеров литературы — Шекспир, Сервантес - показали богатый и сложный мир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жным этапом был реализм Просвещения, отразивший идеал революционной буржуазии — идеал свободы и всеобщего равенства, пафос борьбы. Положительный герой здесь активно противостоял обстоятельствам и тем самым утверждал новые принципы, новую мораль. В просветительском реализме, непосредственно предшествовавшем реализм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, среда, формирующая человека, обрисована зачастую посредством условных, неправдоподобных положений и дета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3672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ыводы: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мер двух бесспорно положительных образов повести представляет важнейшую черту реализма Бальзака, в целом характерную для всего западноевропейского реализм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: положительные персонажи не имеют той художественной значимости, той масштабности изображения, которой наделены отрицательные герои, отражающие то или иное явление времени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ила критического реализма и величайшего из его мастеров Бальзака состояла именно в отрицании существующей действительности, где еще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не сложился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 и даже не наметился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тип человека, который мог бы быть показан как мощный положительный противове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нглийская литература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    Чарльз Диккенс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3" name="i-main-pic" descr="Картинка 1 из 5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476280"/>
            <a:ext cx="2370240" cy="2952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518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лся 7 февраля 1812 г, близ Портсмута, затем жил в городке Чэтэме –  это было счастливое время. Родители Диккенса: Джон Диккенс,Элизабет Диккенс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и Чарльза   решили что в 11 лет он сам себя сможет прокормить. Он стал работать на крошечной фабрике ваксы – наклеивать этикетки на баночки.То было страшное время. Отца держали в тюрьме, и самолюбие Чарльза очень страдало. Работает в одном помещении с мальчишками, которые не прочли ни одной книги и чья судьба  - пребывать 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ежестве до конца своих 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лингтон – Хаус. Первый университет в его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DVC01067"/>
          <p:cNvPicPr/>
          <p:nvPr/>
        </p:nvPicPr>
        <p:blipFill>
          <a:blip r:embed="rId3"/>
          <a:stretch/>
        </p:blipFill>
        <p:spPr>
          <a:xfrm>
            <a:off x="7093080" y="5229360"/>
            <a:ext cx="1447560" cy="1085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16" name="Picture 8" descr="DVC01068"/>
          <p:cNvPicPr/>
          <p:nvPr/>
        </p:nvPicPr>
        <p:blipFill>
          <a:blip r:embed="rId4"/>
          <a:stretch/>
        </p:blipFill>
        <p:spPr>
          <a:xfrm>
            <a:off x="5940360" y="3645000"/>
            <a:ext cx="1424160" cy="1066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17" name="Picture 9" descr="DVC01065"/>
          <p:cNvPicPr/>
          <p:nvPr/>
        </p:nvPicPr>
        <p:blipFill>
          <a:blip r:embed="rId5"/>
          <a:stretch/>
        </p:blipFill>
        <p:spPr>
          <a:xfrm>
            <a:off x="5940360" y="5013360"/>
            <a:ext cx="959040" cy="1276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18" name="Picture 10" descr="DVC01066"/>
          <p:cNvPicPr/>
          <p:nvPr/>
        </p:nvPicPr>
        <p:blipFill>
          <a:blip r:embed="rId6"/>
          <a:stretch/>
        </p:blipFill>
        <p:spPr>
          <a:xfrm>
            <a:off x="7596360" y="3716280"/>
            <a:ext cx="958680" cy="127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417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ворчество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6119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маны Диккенса представляют собой панораму английской жизни эпохи викторианства, уникальную по богатству наблюдений и разнообразию запечатленных человеческих типов. «Приключения Оливера Твиста» (1838), «Лавка древностей» (1841), «Домби и сын» (1848) создают исчерпывающе полный портрет общества, обнажая его пороки и изъяны. В конечном счете несовершенство общества становится ясно и персонажам, находящим свой идеал в уюте дома, прочности семейных традиций, христианском милосердии к близким и чуж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31640" y="4292640"/>
            <a:ext cx="54342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кл «рождественских повестей», созданных в 1843-48 («Колокола», «Сверчок за очагом» и др.), наиболее последовательно воплотил приверженность Диккенса незыблемым ценностям частной жизни — в противовес иллюзорным или эфемерным обретениям, которые приносит погоня за богатством и престиж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Картинка 9 из 5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6640"/>
            <a:ext cx="1747800" cy="2233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Картинка 2 из 48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9800" y="549360"/>
            <a:ext cx="18795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68360" y="549000"/>
            <a:ext cx="460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еликий юморист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561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глийский писатель Честертон говорил, что искусство Диккенса «как жизнь, потому что, как и жизнь, оно безответственно и невероятно». Выразившееся в книгах Диккенса восприятие мира не признает безнадежности и отчаяния, хотя нередко описаны жестокие и даже катастрофические ситуации. Однако самые тягостные обстоятельства неспособны подорвать веру героев Диккенса в конечное торжество добра или воздаяние за гробом, если недостижима земная справедлив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55640" y="3644640"/>
            <a:ext cx="4464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Юмор, побуждающий не только создавать фарсовые сюжетные положения, в которых всего отчетливее проступает истинная человеческая природа персонажей, но и распознать чудесное под уродливым внешним обликом вещей, заставляя ужас и отвращение отступать перед радостью, — важнейший писательский принцип Диккенса, органично выразивший главные свойства его личности и тала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Картинка 26 из 51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371628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Ф.М. Достоевский о Диккенсе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80000" y="2060640"/>
            <a:ext cx="496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ключительно высоко ценя Диккенса, Ф. М. Достоевский назвал его непревзойденным мастером «искусства изображения современной, текущей действительности». Диккенс изучил ее за годы репортерской службы, которая предшествовала литературному дебюту — роману «Посмертные записки Пиквикского клуба» (1837). Эта книга, представляющая собой цикл жанровых зарисовок, раскрыла дарование Диккенса как создателя гротескных характе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ый же Диккенсом для литературы мир трущоб и нравы их обитателей опоэтизированы писателем. Сочувствуя героям, он приводит действие к благополучному финалу, который вознаграждает их за страдания и унижения, приглушая травмирующие воспоминания юной поры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Картинка 6 из 4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1714680" cy="2772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Картинка 9 из 48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8000" y="3357720"/>
            <a:ext cx="190512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03280" y="549000"/>
            <a:ext cx="532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Норвегия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енрик Ибсен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4920" y="3357360"/>
            <a:ext cx="3816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нрик  Иоган Ибс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20 мар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182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Ши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23 ма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190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Кристиа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 — выдающийся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норвежск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драматур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снователь европейской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«новой драмы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Занимался также поэзией и публицисти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ын Генрика Ибсена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Сигурд Ибс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ыл известным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политическим деятел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журналист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внук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Танкред Ибс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кинорежиссёр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честь Генрика Ибсена назван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крате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6"/>
              </a:rPr>
              <a:t>Меркур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2008 года в Норвегии вручается Ибсеновская премия, первым лауреатом стал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7"/>
              </a:rPr>
              <a:t>П. Бру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4720" y="2060640"/>
            <a:ext cx="44654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бсен и Ро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8"/>
              </a:rPr>
              <a:t>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бсен в начале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9"/>
              </a:rPr>
              <a:t>XX 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ал одним из властителей дум интеллигенции; его пьесы шли во многих театрах. Ему посвящали статьи и исследования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0"/>
              </a:rPr>
              <a:t>Иннокентий Анне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1"/>
              </a:rPr>
              <a:t>Андрей Бел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2"/>
              </a:rPr>
              <a:t>Александр Бл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3"/>
              </a:rPr>
              <a:t>Зинаида Венгер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4"/>
              </a:rPr>
              <a:t>Анатолий Луначар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5"/>
              </a:rPr>
              <a:t>Всеволод Мейерхоль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6"/>
              </a:rPr>
              <a:t>Дмитрий Мереж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7"/>
              </a:rPr>
              <a:t>Николай Ми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 советской сцене чаще всего ставились «Кукольный дом», «Привидения» и в концертном исполнении «Пер Гюнт» с музыкой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8"/>
              </a:rPr>
              <a:t>Эдварда Гри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2006 году массово отмечалось столетие смерти Ибс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Файл:Ibsen.jpg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539640" y="476280"/>
            <a:ext cx="23814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050920" y="549000"/>
            <a:ext cx="4896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ьеса Г.Ибсена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Кукольный дом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й популярной пьесой Ибсена в России стал «Кукольный дом» (1879). Декорации квартиры Хельмера и Норы погружают зрителя или читателя в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мещанску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диллию. Её разрушает поверенный Крогстад, напоминающий Норе о подделанном ею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вексел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Хельмер ссорится с женой и всячески обвиняет её. Неожиданно Крогстад перевоспитывается и присылает вексель Норе. Хельмер тут же успокаивается и предлагает жене вернуться к нормальной жизни, но Нора уже осознала, как мало она значит для мужа. Она обличает мещанский семейный ст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Я была здесь твоей куколкой-женой, как дома была папиной куколкой-дочкой. А дети были уж моими куклами»,- говорит герои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ьеса заканчивается уходом Норы. Однако её не следует воспринимать как социальную, для Ибсена важна общечеловеческая проблематика своб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4535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Французский символизм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Артюр Рембо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3816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ан Николя́ Артю́р Рембо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185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189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—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французск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поэ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з основоположников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символизм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4360" y="2491920"/>
            <a:ext cx="77752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тюр Рембо родился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20 октябр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1854 г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Шарлевил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еверо-востоке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Фран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Его отец, Фредерик Рембо, по                профессии военный, служил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Алжир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мать, Мари-Катрин-Витали Кюиф — из зажиточной крестьянской семьи. Когда мальчику исполнилось четыре года, отец оставил семью, с тех пор мальчика воспитывала мать. Рембо обучался в лицее в Шарлевиле. После публикации первого стихотворения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187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у, в возрасте 16 лет Рембо отправился в путешествие по северу Франции и Бель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возрасте семнадцати лет Рембо знакомится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Париж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 поэтом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Полем Верле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Некоторое время он живёт в доме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Поля Верле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Париже Рембо участвует в восстании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Парижской комму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6"/>
              </a:rPr>
              <a:t>187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ль Верлен бросает семью и уезжает с Рембо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7"/>
              </a:rPr>
              <a:t>Лондо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осле расставания с Верленом  Рембо перестаёт писать и путешествует по свету до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8"/>
              </a:rPr>
              <a:t>188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а. Затем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9"/>
              </a:rPr>
              <a:t>Африк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в основном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0"/>
              </a:rPr>
              <a:t>Египт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1"/>
              </a:rPr>
              <a:t>Эфиоп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 а также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2"/>
              </a:rPr>
              <a:t>Йеме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н занимается торговлей кофе, пряностями, шкурами и оруж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феврале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3"/>
              </a:rPr>
              <a:t>189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а Рембо вернулся во Францию, где ему ампутировали ногу из-за раковой опухоли. В госпитале за ним ухаживала сестра, приехавшая из Шарлевиля. Рембо умер в Марселе, в госпитале, 10 ноября 1891 года. Похоронен в Шарлеви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Картинка 2 из 53"/>
          <p:cNvPicPr/>
          <p:nvPr/>
        </p:nvPicPr>
        <p:blipFill>
          <a:blip r:embed="rId24"/>
          <a:stretch/>
        </p:blipFill>
        <p:spPr>
          <a:xfrm>
            <a:off x="6877080" y="404640"/>
            <a:ext cx="171144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23640" y="620280"/>
            <a:ext cx="5543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Это Шекспир-дитя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4360" y="4724280"/>
            <a:ext cx="37749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ьяный корабль» (187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Одно лето в аду» (187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Озарения» (1874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492360" y="1844280"/>
            <a:ext cx="4967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т издателя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тюр Рембо - замечательный поэт, которого никуда не денешь, даже не столько из девятнадцатого, породившего его века, сколь из нашего двадцатого, безмерно возвысившего его столетия. В мировой литературе французский поэт Артюр Рембо (1854-1891) - явление уникальное. Гениально одаренный юноша, о котором Виктор Гюго сказал: `Это Шекспир-дитя`, - творил всего три года. Но за это время Артюр Рембо, позднее добровольно обрекший себя на молчание, создал стихи и стихотворения в прозе, что ярким светом озарили поэзию Франции XIX столетия, открыв перед ней горизонты будущ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8" descr="Артюр Рембо Пьяный корабль"/>
          <p:cNvPicPr/>
          <p:nvPr/>
        </p:nvPicPr>
        <p:blipFill>
          <a:blip r:embed="rId1"/>
          <a:stretch/>
        </p:blipFill>
        <p:spPr>
          <a:xfrm>
            <a:off x="1187280" y="1844640"/>
            <a:ext cx="19051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583272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имн загадочной свободе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980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 1908 году несколько молодых писателей и художников, объединенных стремлением к независимости от «денежного мешка» и к устранению от борьбы за место под солнцем, организуют в снятой под Парижем заброшенной усадьбе нечто вроде коммуны, члены которой добывали бы средства к существованию исключительно трудом рук своих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муна просуществовала недолго, ибо она была, по удачному выражению одного литературоведа, «муравейником, населенным стрекозами». Но опыт ее оказался во многих отношениях весьма поучительным. С благоговением слушают «аббаты» гимн «загадочной свободе, прекрасную песню, которую все знали наизусть как любимую молитву», и были в ней, в частности, такие слов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перь я весь свой груз спустил бы задарма 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ламандское зерно и английские ткан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 на берегу шла эта кутерьм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плыл, куда несло, забыв о капитане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Перев. Д. Самойлов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нная молитва... Но это не было ни гимном, ни песней, но лишь словами из, быть может, самой удивительной поэмы самого удивительного французского поэта XIX в., Жана-Артура Рембо, поэмы «Пьяный корабль», которая до сих пор будоражит умы и воображение многих поколений читателей и обросла бесчисленным количеством комментарие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ть поэта к «Пьяному кораблю» был по времени поразительно кратким, но вобрал в себя столько, сколько другим, пожалуй, не удавалось пройти и за десятилетия. Путь? Собственно говоря, какой путь, если к моменту создания «Пьяного корабля» Рембо было всего 17 лет! И все же... Именно он увидел и с необыкновенной силой выразил нечто, что становилось необходимостью, некую потребность в общественном обновлении и вместе с тем в том, что было для него неотделимо от самой жизни — обновлении поэзии и поэтического я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нии рождаются редко; кто знает, чем руководствуется природа, создавая их и принося в дар человечеств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      </a:t>
            </a: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Критика противоречий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388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 в свете важнейшего исторического опыта — смены феодальных отношений буржуазными — создался новый тип реализма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Противоречия новой общественной системы стали предметом его критик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 писатели-реалисты сумели вскрыть источник этих противореч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ю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взаимосвязи жизненных явлен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пособствовали и успехи естествознания в первые десятилетия века. Литература заимствовала у естественных наук принципы наблюдения, осмысления и обобщения фактов окружающей жизни. Не случайно роман Бальзака «Отец Горио» посвящен известному ученому-натуралисту Сент-Илеру, его современнику, открывшему многообразие видов животного мир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4464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ихи из сборника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Пьяный корабль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698472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глой комната полна, и осторожно в не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вучит шушуканье печальное дете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е детских головы за занавеской белой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 грез отяжелев, склоняются несмело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аружи стайка птиц друг к другу зябко льнет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крылья не влекут их в серый небосвод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ходит Новый год со свитою туманной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лача свой снежный плащ и улыбаясь странно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плачет и поет, охвачен дрожью о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Картинка 26 из 53"/>
          <p:cNvPicPr/>
          <p:nvPr/>
        </p:nvPicPr>
        <p:blipFill>
          <a:blip r:embed="rId1"/>
          <a:stretch/>
        </p:blipFill>
        <p:spPr>
          <a:xfrm>
            <a:off x="5508720" y="476280"/>
            <a:ext cx="30369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23640" y="2060640"/>
            <a:ext cx="3600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ВОЕ СВИ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была полураздет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 двора нескромный вяз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кно стучался без отве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близи от нас, вблизи от н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стул высокий сев небрежно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сплетала пальцы рук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легкий трепет ножки нежно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видел вдруг, я видел вдр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видел, как шальной и зыбки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уч кружит, кружит мотылько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ее глазах, в ее улыбке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грудь садится к ней тай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ут на ее лодыжке тонко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поцелуй запечатлел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твет мне рассмеялась звонко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мех был резок и несм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угливо ноги под рубашк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крылись: “Как это назвать?”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ловно за свою промашк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отела смехом наказ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140000" y="3357720"/>
            <a:ext cx="4460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пас другую я уловку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убами чуть коснулся глаз;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зад откинула головку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“Так, сударь, лучше… Но сейч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бе сказать мне что-то надо…”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в грудь ее поцеловал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ихий смех мне был наградой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бра мне этот смех желал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была полураздет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 двора нескромный вяз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кно стучался без отве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близи от нас, вблизи от н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вод Б.Пастерн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Картинка 16 из 53"/>
          <p:cNvPicPr/>
          <p:nvPr/>
        </p:nvPicPr>
        <p:blipFill>
          <a:blip r:embed="rId1"/>
          <a:stretch/>
        </p:blipFill>
        <p:spPr>
          <a:xfrm>
            <a:off x="6732720" y="476280"/>
            <a:ext cx="19047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Картинка 69 из 1704949"/>
          <p:cNvPicPr/>
          <p:nvPr/>
        </p:nvPicPr>
        <p:blipFill>
          <a:blip r:embed="rId1"/>
          <a:stretch/>
        </p:blipFill>
        <p:spPr>
          <a:xfrm>
            <a:off x="468360" y="549360"/>
            <a:ext cx="4213080" cy="56163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4932360" y="620640"/>
            <a:ext cx="388764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ЬЯНЫЙ КОРАБЛЬ</a:t>
            </a:r>
            <a:br>
              <a:rPr sz="12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Артур Рембо 1871 год)</a:t>
            </a:r>
            <a:br>
              <a:rPr sz="10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пускался я по рекам безучастным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воих матросов позабыв в лесах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де на потеху дикарям ужасным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гих распяли на цветных столбах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провожая взглядом экипажи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сущие и хлопок и зерно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плыл легко, свободный от поклажи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рук людских. Мне было все равно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брызжущие яростью приливы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грали мной, как мальчиком глухим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остова исчезли с перспективы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незапный шторм ревел, неукротим. 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н был как я свободен в бурном море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лагословил мой танец на волнах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был гоним в бушующем просторе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нынче сам бежал, отбросив страх! 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спелым, кислым яблоком зеленым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лна вкатилась в корпуса мои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рвоту смыла всплеском изумленным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ломала руль ударами струи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полон был поэзией стихии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ж мутных звезд и тьмы глубин морских, 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де глядя вверх сквозь волны голубые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думчивый утопленник затих. 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няя цвет в непостоянном мире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вучала то яснее, то темней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рская песня, звонкой лиры шире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ильней любви, и вин хмельных пьяней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аспоротое молниями небо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доворот, восходы, мель, закат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знаю и сейчас, как запах хлеба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к голубей, что от грозы летят.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940360" y="691920"/>
            <a:ext cx="28814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езумною посудиной, покрыто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кушками, как лодка дураков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перед, живыми скатами увитый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плыл с эскадрой из морских коньков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не рыдал о горестных утратах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ней за кормой тянулась полос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июльских догорающих заката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устые исчезали небеса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му нужны архипелаги, мели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ль в небесах искрящийся поле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ессчетных птиц? Иные бы посме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оплыть туда, где новый день взойдет?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кользя по непокорной глади мор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объятиях воды на белый свет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ечтал я повстречать, с судьбою спор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одной Европы древний парапет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плакал много! Душу рвут рассве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у светил и у морей в плен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вовремя я смог заметить это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влагой вздут, и смерть зовет ко дну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помню пристань с серым камнем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олы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краю седых громил, что мне знаком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ам, пущенный мальчишкой невеселым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раблик пляшет майским мотыльком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ет, больше сил болтаться и скитатьс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 ваш презренный груз и флаг нест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 вновь с седыми водами сражатьс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лаза мозоля баржам по пути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3132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видел солнце низко над волнами,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Что ужасом мистическим цветет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волны, как герои в древней драм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 мне кидались, разевая рот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не снилась ночь, в зелен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рак од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 глазах рябило от чужих огней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заморочен отблесками св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етел на зов светящихся камней!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 след луне, во след слепой печа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рывался к рифам, обращался вспять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арии – Девы за кормой ступал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торым Океан не обуздать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видел вас, Волшебные Флориды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Цветные шкуры, алые цветы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ожжи радуг, что огнем увиты, 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ир бестревожной райской красоты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остов узнавал Левиафа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 брожении испуганных боло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 заводях блуждая неустан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новь удивлялся в них смешеньям вод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леск ледников, над зеркалом залив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не грезился, был светлый сон глубо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 тьме тонул, сплетаясь молчаливо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жасных змей лоснящийся клубок!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203640" y="620640"/>
            <a:ext cx="291600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детям показал бы превращень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рских чудовищ и поющих ры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лагословил бег моего течень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прямый ветер средь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движных глы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ня томили полюса и земл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лейдоскоп, мелькающий вдал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янулся я к цветам, тоске не внемл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о так, увы, и не достиг земли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тонких мачтах птицы гнезда сви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словно остров ими облеплен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же сопротивляясь водной сил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о плыл, то снова погружался в сон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к волосы растрепаны кан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снова птиц сметает урага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етром паруса мои объя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я опять морской водою пьян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пыхивая трубкою туманной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продырявил алый свод небе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нем давно иной поэт жеманн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скал бы нескончаемых чудес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далеко бежал от этой дури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о сам порою замечал везд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гусениц ленивицы-лазур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след личинок солнечных в воде. 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88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Марина Цветаева </a:t>
            </a:r>
            <a:br>
              <a:rPr sz="3200"/>
            </a:b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«Книги в красном переплёте»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37749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 рая детского жит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 мне привет прощальный шлет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изменившие друз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потертом, красном пререпл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уть легкий выучен уро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гу тот час же к вам, бывал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Уж поздно!- Мама, десять строк!...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, к счастью, мама забыв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ожат на люстрах огоньки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хорошо за книгой дом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 Грига, Шумана и Кю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узнавала судьбы То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мнеет, в воздухе свежо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м в счастье с Бэкки полон ве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т с факелом Индеец Дж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луждает в сумраке пещеры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16000" y="1988640"/>
            <a:ext cx="377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адбище... Вещий крик совы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е страшно!) Вот летит чрез коч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емыш чопорной вдов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Диоген, живущий в боч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етлее солнца тронный за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д стройным мальчиком - корона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друг - нищий! Боже! Он сказ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Позвольте, я наследник трона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шел во тьму, кто в ней воз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ритании печальны судьбы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О, почему средь красных кни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ять за лампой не уснуть б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 золотые време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де взор смелей и сердце чищ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 золотые име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кк Финн, Том Сойер, Принц и Нищи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08-19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Картинка 123 из 1697212"/>
          <p:cNvPicPr/>
          <p:nvPr/>
        </p:nvPicPr>
        <p:blipFill>
          <a:blip r:embed="rId1"/>
          <a:stretch/>
        </p:blipFill>
        <p:spPr>
          <a:xfrm>
            <a:off x="539640" y="476280"/>
            <a:ext cx="3384720" cy="338436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4"/>
          <p:cNvSpPr/>
          <p:nvPr/>
        </p:nvSpPr>
        <p:spPr>
          <a:xfrm>
            <a:off x="4067280" y="34290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пакова М.Ю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г. Мурманска                             Мурманский международный лицей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Картинка 6 из 1704949"/>
          <p:cNvPicPr/>
          <p:nvPr/>
        </p:nvPicPr>
        <p:blipFill>
          <a:blip r:embed="rId1"/>
          <a:srcRect l="0" t="5400" r="2698" b="0"/>
          <a:stretch/>
        </p:blipFill>
        <p:spPr>
          <a:xfrm>
            <a:off x="611280" y="404640"/>
            <a:ext cx="799308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Правдивое изображение действительности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06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ажнейшая особенность реализм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—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достоверная жизненная ситуац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которая складывается из правдиво воссозданных особенностей быта, человеческих характеров и отношений между людьми. В свою очередь эти отношения и характеры всегда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обусловлены объективными причина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— явлениями общественного, порядка. У просветителей судьба героя, например Робинзона Крузо или Фауста, осуществляется в соответствии с авторским идеалом. Писатель же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 отражает господство над судьбой отдельного человека социальных законов буржуазного  общества,    действующих как непреодолимая  стихия. Таким  образом,  в  развитии  реализма   предметом  исследования становятся прежде всего те общественные отношения, которыми определяются положение и поступки люд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Типичные характеры. </a:t>
            </a:r>
            <a:br>
              <a:rPr sz="3800"/>
            </a:b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Образ-тип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этому образы в реалистическом произведени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обирательны, типичны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Они несут в себе прежде всего обобщение самых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характерных черт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определенного класса или сословия. Однако многообразие типических образов, созданное литературой реализма, достигается тем, что художник-реалист придает изображаемой личности и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индивидуальные особенност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посредством которых социальный облик этой личности делается более выразительным, броским, запоминающимся. Благодаря этому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образ-тип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риобретает широкий смысл, иногда даже выходящий за рамки породившей его действительности,— смысл жизненного явления (в русской литературе таковы, например, типы Гоголя, в западной — Бальзака).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Изображение «типичных характеров в типичных обстоятельствах» Энгельс считал главным отличительным признаком реализм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Роль портрета </a:t>
            </a:r>
            <a:br>
              <a:rPr sz="3800"/>
            </a:b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в реалистическом произведении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261000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Одним из важнейших средств передачи типического характера служит портрет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Именно в портрете чаще всего заостряются черты, выражающие суть типа. В выражении лица, очертаниях фигуры, в походке, манерах, костюме получают наглядное во­площение и общественное положение человека, и нравствен­ные качества, свойственные людям его класса: беспечность и эгоистичность аристократа, расчетливость и бессердечие буржуа. Лучшие, образцы реалистического портрета среди западно­европейских писателей дали Бальзак и Диккен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Психологизм – важнейшая черта критического реализм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2349000"/>
            <a:ext cx="8064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ногда портрет отражает не только социальную принадлежность, не только «тип», но и душевное состояние, психологию героя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Дальнейшее развитие психологизма — еще одно из завоеваний реализма </a:t>
            </a:r>
            <a:r>
              <a:rPr b="0" lang="en-US" sz="2100" spc="-1" strike="noStrike">
                <a:solidFill>
                  <a:srgbClr val="ff33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в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«Типичные обстоятельства» — объективные обстоятельства жизни, выведенные в произведении, определяют поведение человека, формируют его противоречивый внутренний склад, вызывают в нем душевную борьбу. Тонкой передачей сложного внутреннего мира отличается творчество Стендаля — замечательного современника Бальза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10:01:29Z</dcterms:created>
  <dc:creator>SAM</dc:creator>
  <dc:description/>
  <dc:language>en-US</dc:language>
  <cp:lastModifiedBy>Олег</cp:lastModifiedBy>
  <dcterms:modified xsi:type="dcterms:W3CDTF">2012-02-25T15:22:58Z</dcterms:modified>
  <cp:revision>63</cp:revision>
  <dc:subject/>
  <dc:title>Слайд 1</dc:title>
</cp:coreProperties>
</file>