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28FD-6BFE-41B3-931B-B25B32F24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7D35-03F4-4B5A-9095-723B46A8E1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719-4EE1-4256-B77D-4524CFE0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0D7-74A7-44BC-B6BB-CC7FF123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709-1EEA-435A-A688-21A5D216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1E9-320D-43F3-8CA4-03FB08B7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8629-C81D-4E84-BA5D-1DC61065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C737-639E-4FD6-B3FA-6054DD43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24B2-24B7-47BE-814A-C9C41B4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F3F4-9F31-4C84-9C6C-49BD0A5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1181-637A-4016-A142-ED3E7DED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6DB5-F4EA-4D43-A1D8-59EE5B08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E092-2C07-46A6-A48A-90569CD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CA6-B164-4FCB-BE29-364CA994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B2F0-8DC9-4960-A440-26EF68A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6C35-F6D1-4D0F-BB64-8B46534E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2530-EB06-4172-B8D1-D07B8171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F4E9-B903-4A70-996C-A6C71A12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B275-426E-4FB0-BF6E-F1997C7F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7AD-FE65-48A1-A50E-F861812A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F8C-040F-4944-8707-DF56997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05B-32D9-476F-AAD7-6103CBEB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24D-A13E-4DCF-B55A-3EF06E31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9E3-DF61-4671-BC3E-00D50F5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7E5-563A-4A03-A341-CF3B711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51D-82E1-4376-B1BB-3DA0ECB0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D17E-0507-4E70-985E-8B0D8DAF55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676440" y="549360"/>
            <a:ext cx="7854840" cy="609480"/>
          </a:xfrm>
          <a:custGeom>
            <a:avLst/>
            <a:gdLst>
              <a:gd name="textAreaLeft" fmla="*/ 0 w 7854840"/>
              <a:gd name="textAreaRight" fmla="*/ 7855200 w 7854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Храм"/>
          <p:cNvPicPr/>
          <p:nvPr/>
        </p:nvPicPr>
        <p:blipFill>
          <a:blip r:embed="rId3">
            <a:lum bright="48000"/>
          </a:blip>
          <a:stretch/>
        </p:blipFill>
        <p:spPr>
          <a:xfrm>
            <a:off x="5361120" y="2349360"/>
            <a:ext cx="360360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Рамка"/>
          <p:cNvPicPr/>
          <p:nvPr/>
        </p:nvPicPr>
        <p:blipFill>
          <a:blip r:embed="rId4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3962520"/>
            <a:ext cx="41752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C3EE-604A-4FB8-AE9B-15E09FCE521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upload.wikimedia.org/wikipedia/ru/e/ea/Ibsen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students.by/articles/55/1005558/PH08682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times.ua/img/material/resize_530_1590/1/0/5/francija_artura_rembo_26826_1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udents.by/articles/55/1005558/PH0868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etrovka.ua/thumbs/64181----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00/12/22485519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mmm-tasty.ru/uc/att/21/dc/87697_6494_183002_________________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bookin.org.ru/books/img/j33000006547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centrmag.ru/catalog/ozae36072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booksiti.net.ru/books/image/54000057074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14688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zhurnal.lib.ru/img/f/filatow_w_w/zhadnost/ewr.zhadnostx_angl.1773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onbon.ru/files/pic/d19000/18983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nigosklad.narod.ru/det/bd739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video_covers/100004656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historic.ru/books/item/f00/s00/z0000036/pic/00026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pictures.imhonet.ru/element/large/8b/58/8b582f4d29cedfdfdb3042dff88eaca4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t.foto.radikal.ru/0704/2c/ea1648f38ce0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ibliogid.ru/images/docs/i_puzyr3_2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ozon.ru/multimedia/books_covers/1000634293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4;&#1072;&#1088;&#1090;&#1072;" TargetMode="External"/><Relationship Id="rId2" Type="http://schemas.openxmlformats.org/officeDocument/2006/relationships/hyperlink" Target="http://ru.wikipedia.org/wiki/1828" TargetMode="External"/><Relationship Id="rId3" Type="http://schemas.openxmlformats.org/officeDocument/2006/relationships/hyperlink" Target="http://ru.wikipedia.org/w/index.php?title=&#1064;&#1080;&#1077;&#1085;&amp;action=edit&amp;redlink=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06" TargetMode="External"/><Relationship Id="rId6" Type="http://schemas.openxmlformats.org/officeDocument/2006/relationships/hyperlink" Target="http://ru.wikipedia.org/wiki/&#1054;&#1089;&#1083;&#1086;" TargetMode="External"/><Relationship Id="rId7" Type="http://schemas.openxmlformats.org/officeDocument/2006/relationships/hyperlink" Target="http://ru.wikipedia.org/wiki/&#1053;&#1086;&#1088;&#1074;&#1077;&#1075;&#1080;&#1103;" TargetMode="External"/><Relationship Id="rId8" Type="http://schemas.openxmlformats.org/officeDocument/2006/relationships/hyperlink" Target="http://ru.wikipedia.org/wiki/&#1044;&#1088;&#1072;&#1084;&#1072;&#1090;&#1091;&#1088;&#1075;" TargetMode="External"/><Relationship Id="rId9" Type="http://schemas.openxmlformats.org/officeDocument/2006/relationships/hyperlink" Target="http://ru.wikipedia.org/w/index.php?title=&#1053;&#1086;&#1074;&#1072;&#1103;_&#1076;&#1088;&#1072;&#1084;&#1072;&amp;action=edit&amp;redlink=1" TargetMode="External"/><Relationship Id="rId10" Type="http://schemas.openxmlformats.org/officeDocument/2006/relationships/hyperlink" Target="http://ru.wikipedia.org/wiki/&#1048;&#1073;&#1089;&#1077;&#1085;,_&#1057;&#1080;&#1075;&#1091;&#1088;&#1076;" TargetMode="External"/><Relationship Id="rId11" Type="http://schemas.openxmlformats.org/officeDocument/2006/relationships/hyperlink" Target="http://ru.wikipedia.org/wiki/&#1055;&#1086;&#1083;&#1080;&#1090;&#1080;&#1095;&#1077;&#1089;&#1082;&#1080;&#1081;_&#1076;&#1077;&#1103;&#1090;&#1077;&#1083;&#1100;" TargetMode="External"/><Relationship Id="rId12" Type="http://schemas.openxmlformats.org/officeDocument/2006/relationships/hyperlink" Target="http://ru.wikipedia.org/wiki/&#1046;&#1091;&#1088;&#1085;&#1072;&#1083;&#1080;&#1089;&#1090;" TargetMode="External"/><Relationship Id="rId13" Type="http://schemas.openxmlformats.org/officeDocument/2006/relationships/hyperlink" Target="http://ru.wikipedia.org/w/index.php?title=&#1048;&#1073;&#1089;&#1077;&#1085;,_&#1058;&#1072;&#1085;&#1082;&#1088;&#1077;&#1076;&amp;action=edit&amp;redlink=1" TargetMode="External"/><Relationship Id="rId14" Type="http://schemas.openxmlformats.org/officeDocument/2006/relationships/hyperlink" Target="http://ru.wikipedia.org/wiki/&#1050;&#1080;&#1085;&#1086;&#1088;&#1077;&#1078;&#1080;&#1089;&#1089;&#1105;&#1088;" TargetMode="External"/><Relationship Id="rId15" Type="http://schemas.openxmlformats.org/officeDocument/2006/relationships/hyperlink" Target="http://ru.wikipedia.org/w/index.php?title=&#1048;&#1073;&#1089;&#1077;&#1085;_(&#1082;&#1088;&#1072;&#1090;&#1077;&#1088;)&amp;action=edit&amp;redlink=1" TargetMode="External"/><Relationship Id="rId16" Type="http://schemas.openxmlformats.org/officeDocument/2006/relationships/hyperlink" Target="http://ru.wikipedia.org/wiki/&#1052;&#1077;&#1088;&#1082;&#1091;&#1088;&#1080;&#1081;_(&#1087;&#1083;&#1072;&#1085;&#1077;&#1090;&#1072;)" TargetMode="External"/><Relationship Id="rId17" Type="http://schemas.openxmlformats.org/officeDocument/2006/relationships/hyperlink" Target="http://ru.wikipedia.org/wiki/&#1041;&#1088;&#1091;&#1082;,_&#1055;&#1080;&#1090;&#1077;&#1088;" TargetMode="External"/><Relationship Id="rId18" Type="http://schemas.openxmlformats.org/officeDocument/2006/relationships/hyperlink" Target="http://ru.wikipedia.org/wiki/&#1056;&#1086;&#1089;&#1089;&#1080;&#1103;" TargetMode="External"/><Relationship Id="rId19" Type="http://schemas.openxmlformats.org/officeDocument/2006/relationships/hyperlink" Target="http://ru.wikipedia.org/wiki/XX_&#1074;&#1077;&#1082;" TargetMode="External"/><Relationship Id="rId20" Type="http://schemas.openxmlformats.org/officeDocument/2006/relationships/hyperlink" Target="http://ru.wikipedia.org/wiki/&#1048;&#1085;&#1085;&#1086;&#1082;&#1077;&#1085;&#1090;&#1080;&#1081;_&#1040;&#1085;&#1085;&#1077;&#1085;&#1089;&#1082;&#1080;&#1081;" TargetMode="External"/><Relationship Id="rId21" Type="http://schemas.openxmlformats.org/officeDocument/2006/relationships/hyperlink" Target="http://ru.wikipedia.org/wiki/&#1040;&#1085;&#1076;&#1088;&#1077;&#1081;_&#1041;&#1077;&#1083;&#1099;&#1081;" TargetMode="External"/><Relationship Id="rId22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3" Type="http://schemas.openxmlformats.org/officeDocument/2006/relationships/hyperlink" Target="http://ru.wikipedia.org/w/index.php?title=&#1042;&#1077;&#1085;&#1075;&#1077;&#1088;&#1086;&#1074;&#1072;,_&#1047;&#1080;&#1085;&#1072;&#1080;&#1076;&#1072;_&#1040;&#1092;&#1072;&#1085;&#1072;&#1089;&#1100;&#1077;&#1074;&#1085;&#1072;&amp;action=edit&amp;redlink=1" TargetMode="External"/><Relationship Id="rId24" Type="http://schemas.openxmlformats.org/officeDocument/2006/relationships/hyperlink" Target="http://ru.wikipedia.org/wiki/&#1051;&#1091;&#1085;&#1072;&#1095;&#1072;&#1088;&#1089;&#1082;&#1080;&#1081;,_&#1040;&#1085;&#1072;&#1090;&#1086;&#1083;&#1080;&#1081;_&#1042;&#1072;&#1089;&#1080;&#1083;&#1100;&#1077;&#1074;&#1080;&#1095;" TargetMode="External"/><Relationship Id="rId25" Type="http://schemas.openxmlformats.org/officeDocument/2006/relationships/hyperlink" Target="http://ru.wikipedia.org/wiki/&#1042;&#1089;&#1077;&#1074;&#1086;&#1083;&#1086;&#1076;_&#1052;&#1077;&#1081;&#1077;&#1088;&#1093;&#1086;&#1083;&#1100;&#1076;" TargetMode="External"/><Relationship Id="rId26" Type="http://schemas.openxmlformats.org/officeDocument/2006/relationships/hyperlink" Target="http://ru.wikipedia.org/wiki/&#1044;&#1084;&#1080;&#1090;&#1088;&#1080;&#1081;_&#1052;&#1077;&#1088;&#1077;&#1078;&#1082;&#1086;&#1074;&#1089;&#1082;&#1080;&#1081;" TargetMode="External"/><Relationship Id="rId27" Type="http://schemas.openxmlformats.org/officeDocument/2006/relationships/hyperlink" Target="http://ru.wikipedia.org/wiki/&#1053;&#1080;&#1082;&#1086;&#1083;&#1072;&#1081;_&#1052;&#1080;&#1085;&#1089;&#1082;&#1080;&#1081;" TargetMode="External"/><Relationship Id="rId28" Type="http://schemas.openxmlformats.org/officeDocument/2006/relationships/hyperlink" Target="http://ru.wikipedia.org/wiki/&#1043;&#1088;&#1080;&#1075;,_&#1069;&#1076;&#1074;&#1072;&#1088;&#1076;_&#1061;&#1072;&#1075;&#1077;&#1088;&#1091;&#1087;" TargetMode="External"/><Relationship Id="rId29" Type="http://schemas.openxmlformats.org/officeDocument/2006/relationships/hyperlink" Target="http://upload.wikimedia.org/wikipedia/ru/e/ea/Ibsen.jpg" TargetMode="External"/><Relationship Id="rId30" Type="http://schemas.openxmlformats.org/officeDocument/2006/relationships/image" Target="../media/image39.jpeg"/><Relationship Id="rId3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7;&#1072;&#1085;&#1089;&#1090;&#1074;&#1086;" TargetMode="External"/><Relationship Id="rId2" Type="http://schemas.openxmlformats.org/officeDocument/2006/relationships/hyperlink" Target="http://ru.wikipedia.org/wiki/&#1042;&#1077;&#1082;&#1089;&#1077;&#1083;&#1100;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4" TargetMode="External"/><Relationship Id="rId2" Type="http://schemas.openxmlformats.org/officeDocument/2006/relationships/hyperlink" Target="http://ru.wikipedia.org/wiki/1891" TargetMode="External"/><Relationship Id="rId3" Type="http://schemas.openxmlformats.org/officeDocument/2006/relationships/hyperlink" Target="http://ru.wikipedia.org/wiki/&#1060;&#1088;&#1072;&#1085;&#1094;&#1080;&#1103;" TargetMode="External"/><Relationship Id="rId4" Type="http://schemas.openxmlformats.org/officeDocument/2006/relationships/hyperlink" Target="http://ru.wikipedia.org/wiki/&#1055;&#1086;&#1101;&#1090;" TargetMode="External"/><Relationship Id="rId5" Type="http://schemas.openxmlformats.org/officeDocument/2006/relationships/hyperlink" Target="http://ru.wikipedia.org/wiki/&#1057;&#1080;&#1084;&#1074;&#1086;&#1083;&#1080;&#1079;&#1084;" TargetMode="External"/><Relationship Id="rId6" Type="http://schemas.openxmlformats.org/officeDocument/2006/relationships/hyperlink" Target="http://ru.wikipedia.org/wiki/20_&#1086;&#1082;&#1090;&#1103;&#1073;&#1088;&#1103;" TargetMode="External"/><Relationship Id="rId7" Type="http://schemas.openxmlformats.org/officeDocument/2006/relationships/hyperlink" Target="http://ru.wikipedia.org/wiki/1854" TargetMode="External"/><Relationship Id="rId8" Type="http://schemas.openxmlformats.org/officeDocument/2006/relationships/hyperlink" Target="http://ru.wikipedia.org/wiki/&#1064;&#1072;&#1088;&#1083;&#1077;&#1074;&#1080;&#1083;&#1100;" TargetMode="External"/><Relationship Id="rId9" Type="http://schemas.openxmlformats.org/officeDocument/2006/relationships/hyperlink" Target="http://ru.wikipedia.org/wiki/&#1060;&#1088;&#1072;&#1085;&#1094;&#1080;&#1103;" TargetMode="External"/><Relationship Id="rId10" Type="http://schemas.openxmlformats.org/officeDocument/2006/relationships/hyperlink" Target="http://ru.wikipedia.org/wiki/&#1040;&#1083;&#1078;&#1080;&#1088;" TargetMode="External"/><Relationship Id="rId11" Type="http://schemas.openxmlformats.org/officeDocument/2006/relationships/hyperlink" Target="http://ru.wikipedia.org/wiki/1870" TargetMode="External"/><Relationship Id="rId12" Type="http://schemas.openxmlformats.org/officeDocument/2006/relationships/hyperlink" Target="http://ru.wikipedia.org/wiki/&#1055;&#1072;&#1088;&#1080;&#1078;" TargetMode="External"/><Relationship Id="rId13" Type="http://schemas.openxmlformats.org/officeDocument/2006/relationships/hyperlink" Target="http://ru.wikipedia.org/wiki/&#1042;&#1077;&#1088;&#1083;&#1077;&#1085;,_&#1055;&#1086;&#1083;&#1100;" TargetMode="External"/><Relationship Id="rId14" Type="http://schemas.openxmlformats.org/officeDocument/2006/relationships/hyperlink" Target="http://ru.wikipedia.org/wiki/&#1042;&#1077;&#1088;&#1083;&#1077;&#1085;,_&#1055;&#1086;&#1083;&#1100;" TargetMode="External"/><Relationship Id="rId15" Type="http://schemas.openxmlformats.org/officeDocument/2006/relationships/hyperlink" Target="http://ru.wikipedia.org/wiki/&#1055;&#1072;&#1088;&#1080;&#1078;&#1089;&#1082;&#1072;&#1103;_&#1082;&#1086;&#1084;&#1084;&#1091;&#1085;&#1072;" TargetMode="External"/><Relationship Id="rId16" Type="http://schemas.openxmlformats.org/officeDocument/2006/relationships/hyperlink" Target="http://ru.wikipedia.org/wiki/1872" TargetMode="External"/><Relationship Id="rId17" Type="http://schemas.openxmlformats.org/officeDocument/2006/relationships/hyperlink" Target="http://ru.wikipedia.org/wiki/&#1051;&#1086;&#1085;&#1076;&#1086;&#1085;" TargetMode="External"/><Relationship Id="rId18" Type="http://schemas.openxmlformats.org/officeDocument/2006/relationships/hyperlink" Target="http://ru.wikipedia.org/wiki/1880" TargetMode="External"/><Relationship Id="rId19" Type="http://schemas.openxmlformats.org/officeDocument/2006/relationships/hyperlink" Target="http://ru.wikipedia.org/wiki/&#1040;&#1092;&#1088;&#1080;&#1082;&#1072;" TargetMode="External"/><Relationship Id="rId20" Type="http://schemas.openxmlformats.org/officeDocument/2006/relationships/hyperlink" Target="http://ru.wikipedia.org/wiki/&#1045;&#1075;&#1080;&#1087;&#1077;&#1090;" TargetMode="External"/><Relationship Id="rId21" Type="http://schemas.openxmlformats.org/officeDocument/2006/relationships/hyperlink" Target="http://ru.wikipedia.org/wiki/&#1069;&#1092;&#1080;&#1086;&#1087;&#1080;&#1103;" TargetMode="External"/><Relationship Id="rId22" Type="http://schemas.openxmlformats.org/officeDocument/2006/relationships/hyperlink" Target="http://ru.wikipedia.org/wiki/&#1049;&#1077;&#1084;&#1077;&#1085;" TargetMode="External"/><Relationship Id="rId23" Type="http://schemas.openxmlformats.org/officeDocument/2006/relationships/hyperlink" Target="http://ru.wikipedia.org/wiki/1891" TargetMode="External"/><Relationship Id="rId24" Type="http://schemas.openxmlformats.org/officeDocument/2006/relationships/image" Target="../media/image40.jpeg"/><Relationship Id="rId2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2636640"/>
            <a:ext cx="532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направления и т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Основные тенд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жан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Персонал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692280"/>
            <a:ext cx="68961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браз «маленького человека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ин из приемов острой критики общества в реалистическом произведении — резко отрицательная, ино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атирическая подача представителей господствующего класс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одновременно 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чувственное изображение «маленьких людей»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знатных, небогатых, которые чаще всего являются жертвами общественного порядка. Последние по своим человеческим достоинствам стоят неизмеримо выше «хозяев жизни». И именно в них собраны те лучшие   человеческие   качества,   в   которых  автор   видит  залог справедливого мироустройства: трудолюбие, доброта, благородство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нако эти герои не представляют собой активной силы, способной противостоять общественному злу: не вступая в борьбу с ним, они только страдают от него или стремятся оградиться от его поро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лис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подхватили отрицание бесчеловечного мира, впервые провозглашенное романтизмом, но подкрепили его конкретным анализом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 романтизма они восприняли и исключительное внимание к духовной жизни, к человеческому чувству и здесь также достигли особой силы изображения, раскрыв все взаимосвязи между людьми — в семье, в общест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воив достижения предшествующих этапов развития искусства, критический реализм стал новым художественным методом, со своими особыми принципами отражения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аждой из стран на нем сказались и своеобразие исторических условий, и национальные традиции литературы. Но это не мешает установить общие черты метода, в развитии которого вершинами стили творчество Н. Гоголя, Л.Толстого и Ф.Достоевского, О.Бальзака , Г.Мопассана и Ч.Диккенса и др. писа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013360"/>
            <a:ext cx="109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755640" y="227664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 е р с о н а л и 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5516640"/>
            <a:ext cx="16556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g_046"/>
          <p:cNvPicPr/>
          <p:nvPr/>
        </p:nvPicPr>
        <p:blipFill>
          <a:blip r:embed="rId3"/>
          <a:stretch/>
        </p:blipFill>
        <p:spPr>
          <a:xfrm>
            <a:off x="900000" y="692280"/>
            <a:ext cx="895320" cy="100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123" name="Picture 7" descr="pg_100"/>
          <p:cNvPicPr/>
          <p:nvPr/>
        </p:nvPicPr>
        <p:blipFill>
          <a:blip r:embed="rId4"/>
          <a:stretch/>
        </p:blipFill>
        <p:spPr>
          <a:xfrm>
            <a:off x="2916360" y="692280"/>
            <a:ext cx="960480" cy="10080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4" name="Picture 8" descr="p_202i"/>
          <p:cNvPicPr/>
          <p:nvPr/>
        </p:nvPicPr>
        <p:blipFill>
          <a:blip r:embed="rId5"/>
          <a:stretch/>
        </p:blipFill>
        <p:spPr>
          <a:xfrm>
            <a:off x="5076720" y="620640"/>
            <a:ext cx="979560" cy="10796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5" name="Picture 9" descr="pb_229"/>
          <p:cNvPicPr/>
          <p:nvPr/>
        </p:nvPicPr>
        <p:blipFill>
          <a:blip r:embed="rId6"/>
          <a:stretch/>
        </p:blipFill>
        <p:spPr>
          <a:xfrm>
            <a:off x="611280" y="3727440"/>
            <a:ext cx="1657080" cy="1612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Picture 10" descr="Файл:Ibs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5013360"/>
            <a:ext cx="123012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1908000" y="59500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Иб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9640" y="1844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Гоф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156360" y="5877000"/>
            <a:ext cx="14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77164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14836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93080" y="19162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е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6804000" y="515772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Сте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Картинка 1 из 158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342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 из 5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49360"/>
            <a:ext cx="842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емецкий романтизм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рнест Теодор Амадей Гофма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ФМА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1776–1822) - немецкий писатель, композитор и художник, в чьих фантастических рассказах и романах воплотился дух немецкого романтизм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рнст Теодор Вильгельм Гофман родился 24 января 1776 в Кёнигсберге (Восточная Пруссия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же в раннем возрасте обнаружил таланты музыканта и рисовальщи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учал право в Кёнигсбергском университете, затем двенадцать лет служил судейским чиновником в Германии и Польш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42920" y="4292640"/>
            <a:ext cx="56163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08 любовь к музыке подвигла Гофмана занять пост театрального капельмейстера в Бамберге, шесть лет спустя он дирижировал оркестром в Дрездене и Лейпциг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16 вернулся на государственную службу советником Берлинского апелляционного суда, где и прослужил вплоть до смерти, последовавшей 24 июля 182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g_046"/>
          <p:cNvPicPr/>
          <p:nvPr/>
        </p:nvPicPr>
        <p:blipFill>
          <a:blip r:embed="rId1"/>
          <a:stretch/>
        </p:blipFill>
        <p:spPr>
          <a:xfrm>
            <a:off x="684360" y="4076640"/>
            <a:ext cx="1987560" cy="223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итературное 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ой Гофман занялся поздно. Наиболее известные произведения – сборник рассказов «Серапионовы братья»       ( 1819–1821), рассказ в духе волшебной сказки «Крошка Цахес» (1819);  два романа – «Эликсир дьявола» ( 1816), где дано блистательное исследование проблемы двойничества, и «Житейские воззрения кота Мурра» ( 1819–1821), отчасти автобиографическое произведение, исполненное остроумия и мудрости. К числу наиболее известных рассказов Гофмана, входивших   в  сборники, принадлежат волшебная сказка «Золотой горшок»,  повесть «Майорат», реалистически достоверный психологический рассказ о ювелире, который не в силах расстаться со своими творениями, и цикл музыкальных новелл, в которых на редкость удачно воссозданы дух некоторых музыкальных сочинений и образы компози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Крошка Цахес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интереснейших сатирических произведений Гофмана является «Крошка Цахес». В этой сказке Гофман развивает фольклорный мотив о чудодейственных волосах. Добрая фея из жалости дарит маленькому уродцу три волшебных волоска. Благодаря им все значительное и талантливое, произошедшее или произнесенное в присутствии Цахеса, приписывается ему. А вот гадкие поступки самого малыша приписываются окружающим его людям. Цахес делает потрясающую карьеру. Малыша считают гениальнейшим поэтом. Со временем он становится тайным советником, а затем и минист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55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ранцуз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мантизм  Виктора Гюг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юго был третьим сыном капитана (позднее генерала) наполеоновской армии. Его родители часто разъезжались и в конечном счете 3 февраля 1818 получили официальное разрешение жить раздельно. Мальчик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2400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ЮГО (Hugo) Виктор (1802-85), французский писатель-романт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исловие к драме «Кромвель» (1827) — манифест французских роман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ьесы «Эрнани» (1829), «Марион Делорм» (1831), «Рюи Блаз» (1838) — воплощение бунтарских и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историческом романе «Собор Парижской богоматери» (1831) сильны антиклерикальные тенд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Луи Наполеона Бонапарта (1851) эмигрировал, выпустил политический памфлет «Наполеон Малый» (1852) и сборник сатирических стихов «Возмездия» (1853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маны «Отверженные» (1862), «Труженики моря» (1866), «Человек, который смеется» (1869), изображающие жизнь разных слоев французского общества, проникнуты демократическими, гуманистическими идеал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борники стихов «Восточные мотивы» (1829), «Легенда веков» (т. 1-3, 1859-83); роман о Французской революции «93-й год» (187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g_100"/>
          <p:cNvPicPr/>
          <p:nvPr/>
        </p:nvPicPr>
        <p:blipFill>
          <a:blip r:embed="rId1"/>
          <a:stretch/>
        </p:blipFill>
        <p:spPr>
          <a:xfrm>
            <a:off x="611280" y="404640"/>
            <a:ext cx="2009520" cy="2108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 писателя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04560"/>
            <a:ext cx="453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Собор Парижской бого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Гюго занимает «Собор Парижской Богоматери» (1831), поскольку здесь он впервые продемонстрировал свои великолепные возможности в прозе. Как и в драмах этого периода, персонажи романа обрисованы посредством романтической символизации: это исключительные характеры в чрезвычайных обстоятельствах; эмоциональные связи возникают между ними мгновенно, а их гибель обусловлена роком, который служит способом познания действительности, ибо в нем отражается противоестественность «старого строя», враждебного человеческой лич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133720"/>
            <a:ext cx="3776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ический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же период достигает полной зрелости и поэтический дар Гюго. Сборники его лирических стихотворений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5373360"/>
            <a:ext cx="3745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испис книги «Собор Парижской бого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i_196"/>
          <p:cNvPicPr/>
          <p:nvPr/>
        </p:nvPicPr>
        <p:blipFill>
          <a:blip r:embed="rId1"/>
          <a:stretch/>
        </p:blipFill>
        <p:spPr>
          <a:xfrm>
            <a:off x="611280" y="476280"/>
            <a:ext cx="3595680" cy="41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_197"/>
          <p:cNvPicPr/>
          <p:nvPr/>
        </p:nvPicPr>
        <p:blipFill>
          <a:blip r:embed="rId2"/>
          <a:stretch/>
        </p:blipFill>
        <p:spPr>
          <a:xfrm>
            <a:off x="4932360" y="476280"/>
            <a:ext cx="36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згнании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исатель - романист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2 декабря 1851 писатель скрылся в Брюссель, оттуда перебрался на остров Джерси, где провел три года, а в 1855 — на остров Гернси. За время долгого изгнания он создал величайшие сво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2 появился роман под названием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Отверже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Всемирную известность получили такие персонажи этого прославленного романа, как благородный каторжник Жан Вальжан, осужденный за кражу буханки хлеба, превратившийся в зверя и возродившийся к новой жизни благодаря милосердию доброго епископа; инспектор Жавер, преследующий бывшего преступника и воплощающий собой бездушное правосудие; алчный трактирщик Тенардье и его супруга, истязающие сиротку Козетту; влюбленный в Козетту юный энтузиаст-республиканец Мариус; парижский сорванец Гаврош, героически погибший на баррика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воего пребывания на Гернси Гюго опубликовал книгу «Уильям Шекспир» (1864),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борник стихотворений «Песни улиц и лесов» (186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а также два романа —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Труженики моря» (1866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«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Человек, который смеется» (186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Первый из них отражает пребывание Гюго на Нормандских островах: главный герой книги, наделенный лучшими чертами национального характера, проявляет необычайную стойкость и упорство в борьбе с океанской стих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м романе Гюго обратился к истории Англии в эпоху царствования королевы Анны. В основе сюжета лежит история лорда, в раннем детстве проданного торговцам людьми (компрачикосам), которые превратили его лицо в вечную маску смеха. Он колесит по стране в качестве бродячего актера вместе с приютившим его стариком и слепой красавицей, а когда ему возвращают титул, выступает в палате лордов с пламенной речью в защиту обездоленных под издевательский хохот аристократов. Покинув чуждый ему мир, он решает вернуться к прежней бродячей жизни, но смерть возлюбленной приводит его в отчаяние, и он бросается в м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00000" y="620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Литературные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аправления и течения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ий романт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направление в литературе, для которого характерно изображение исключительного героя в исключительных, фантастических обстоятельствах. Важна субъективная оценка писателем воспроизводимых собы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авление в литературе, для которого характерно правдивое изображение действительности, познание законов развития общественных явлений и «правдивость в воспроизведении типичных характеров в типичных обстоятельствах»(Ф.Энгель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направление в литературе, для которого характерно стремление поставить символ на место конкретного образа, что противостояло натуралистической приземлённости, фотограф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3640" y="1844280"/>
            <a:ext cx="30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.Гофман, В.Гю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Скотт, Э.П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.Бальзак, Ф. Стен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Мопассан, Г.Ибсен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ция - А.Ремб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.Верл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я – О.Уайль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вегия - Г.Ибс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Вяч. Ива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Белый, В.Брю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Мережков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549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дгар П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графия По овеяна легендами, нередко   созданными им самим: как истинный романтик он стремился разрушить грань между реальностью и воображением, представляя собственную жизнь законченной художественной новеллой, в которой воссоздана судьба гения, не признающего над собой власти обыденных понятий и норм. В соответствии с сюжетом этой новеллы По оказывался потомком аристократов, уехавшим, по примеру Байрона, в Грецию, чтобы посвятить себя борьбе за ее освобождение, и пережившим множество испытаний, включая пребывание в Санкт-Петербурге, куда его забросила прихоть су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_202i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30938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59" name="Picture 7" descr="04t1197i"/>
          <p:cNvPicPr/>
          <p:nvPr/>
        </p:nvPicPr>
        <p:blipFill>
          <a:blip r:embed="rId2"/>
          <a:stretch/>
        </p:blipFill>
        <p:spPr>
          <a:xfrm>
            <a:off x="985680" y="3990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89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тик в жизн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74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самом деле По был сыном странствующих актеров, рано осиротел, воспитывался в семье богатого негоцианта, с которым у него были очень напряженные отношения, и не получил образования, вынужденный уйти из университета в результате скандальных историй и карточных долгов. С юности узнал нищету и необходимость зарабатывать на жизнь пером журналис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поправимая катастроф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енью 1835 По женился на своей несовершеннолетней кузине Вирджинии, ставшей адресатом его самых проникновенных лирических стихотворений. Смерть жены двенадцать лет спустя явилась последней и непоправимой катастрофой жизни По, заполненной выматывающей журнальной работой, которая не помогала выбраться из ожесточенно преследовавших его бедствий, приведших к душевному срыву и ранней гибели. Смерть По вызвала почти нескрываемое ликование врагов писател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лавная тема поэзии Эдгара П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небольшие поэтические книги По, из которых самая известная «Ворон» (1845), только со временем были прочитаны как хроника озарений и срывов романтической души, уникальная по своей эмоциональной насыщенности и метафорической яркости. Главная тема поэзии По — воображение как единственный способ преодолеть конечность времени, неотвратимость смерти, ужас бесследного исчезновения с лица земли. Образы По навеяны всегда обостренным у него чувством присутствия мистического в гуще обыденности, поэтический язык отмечен многозначностью ключевых слов-понятий, допускающих самые различные толкования в зависимости от характера восприятия воссоздаваемого им лирического сюжета. Предельно интенсивная эмоциональность стихов По соединяется с математически точно рассчитанной композицией, которую он сам описал в своих теоретических работах о поэзии, имеющих важное зна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антастический реализ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енность приемов, посредством которых достигается необходимый эффект, хотя при этом сохранено ощущение спонтанной импровизации, — основной художественный закон и в новеллах По, составивших двухтомный сборник «Гротески и арабески» (1839). Достоевский назвал метод По «фантастическим реализмом», подразумевая способность за счет «силы подробностей» достичь полной убедительности, когда описываются невероятные события и явления, родственные мистике. Смешение фантазии и яви, достоверного и невозможного у По всегда органично, а оставляемое его рассказами чувство страха неотступно и реально. Цикл его «логических рассказов» о гениальном сыщике Дюпене положил начало жанру детектива, сполна реализовав основную художественную установку По: «Достичь правдоподобия, пользуясь научными принципами в той мере, в какой это допускает фантастический характер самой темы». Оттенок причудливости («арабеск») обязателен в этих новеллах, эмоциональный спектр которых очень широк: от ужаса до бурлескного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55640" y="620640"/>
            <a:ext cx="7704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редставител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ого реализ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в западноевропейской литературе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04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сновоположники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глия. Фредерик Стендаль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стическое направление в литератур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возглавили великие французские романисты Стендаль и Бальзак. Во многом опираясь на опыт романтиков, которые глубоко интересовались историей, писатели-реалисты  увидели свою задачу в том, чтобы изобразить общественные отношения современности, быт и нравы Реставрации и Июльской монарх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едерик Стендаль (псевдоним Мари Анри Бейля) с армией Наполеона побывал в Итали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и и Австрии. В 1812 г. с главными  силами французской армии он прошел путь  до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таврация    Бурбонов    застала    Стендаля   в Италии, где он написал первые книги об искусстве.  Горячая  дружба   связала  писателя   с    итальянскими карбонариями — членами тайной |  революционной   организации,   существовавшей    в Италии в первой тре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.   В  рассказе «Ванина Ванпни» (1829) перед нами возникает романтически   привлекательный   образ  респуликанца Пьетро Миссприллн, отважного и гордого итальянского   патри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30 г. Стендаль создал роман «Красное и черное», а в 1839 г. в Париже за два месяца написал роман «Пармская обитель», который принес ему извес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армская обитель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героя Стендаля вошли в мировую .лите­ратуру как олицетворение непокорной, свобо­долюбивой юности. Один из них — Жюльен Сорель, сын плотника из французской провин­ции («Красное и черное»), другой — итальянский аристократ Фабрицио дель Донго («Пармская обител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надцатилетний Фабрицно дель Донго покинул родную Италию, чтобы сражаться в войсках Наполеона. Доверчивый и пылкий, жаждавший героических подвигов, он считал Наполеона освободителем Италии от власти австрийской монархии.Юному герою Стендаля, свидетелю разгрома французской армии при Ватерлоо, суждено было узнать суровую правду войны, расстаться   со   своими   иллюз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инка 1 из 1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49360"/>
            <a:ext cx="2079720" cy="25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Картинка 15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284640"/>
            <a:ext cx="2004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767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 «Красное и чёрное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юльен Сорель вступил в самостоятельную жизнь уже после падения Наполеона, в период реставрации Бурбонов. При Наполеоне одаренный юноша из народа, возможно, сделал бы военную карьеру. Сейчас же единственную возможность подняться в верхи общества он видел лишь в том. чтобы, окончив духовную семинарию, стать священником. Воспитатель детей мэра города Веррьера господина де Рена.тя, Жюльен носился с често­любивыми планами, сознательно подражая ли­цемерному мольеровскому Тартюфу. Таким мы видим его в начале романа. Затем., пройдя через ряд испытаний, он понял, что карьеризм невозможно совместить с возвышенными чело­веческими порывами, которые жили в его душе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шенный в тюрьму за покушение на жизнь госпожи де Реналь, Жюльен Сорель понял, что его собираются казнить не только за преступление, которое он совершил. «Вы видите перед собой простолюдина, возмутив­шегося против своего низкого жребия... Вот мое преступление, господа», — заявил он сво­им  суд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образе Жюльена Сореля Стендаль запечатлел наиболее существенные черты характера молодого человека начала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  В его душе борются хорошие и дурные наклонности, карьеризм 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волюционные идеи, холодный расчет и   романтическое чу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 романе «Красное и черное» Стендаль со всеми тончайшими оттенками анализирует мысли и поступки человека, его противоречивые порывы. Как художник-психолог, Стендаль открыл новые пути в искусств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Картинка 11 из 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4640"/>
            <a:ext cx="4619520" cy="381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Картинка 13 из 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05360"/>
            <a:ext cx="14590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j330000065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213000"/>
            <a:ext cx="1909800" cy="305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Картинка 38 из 34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476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Картинка 65 из 34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4005360"/>
            <a:ext cx="1447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норе де Бальзак – писатель - реалист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920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ан творческой зрелости художника связан с атмосферой Июльской революции. Человеческие типы, рожденные этим временем, появились в первом цикле его повестей и рассказов под названием «Сцены частной жизни» (1830), который по­лучил всеобщее признание. Окончательно обеспечил Бальзаку -известность   вышедший   в   1831   г.   роман   «Шагреневая   кож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ды июльской монархии были временем расцвета творчества Бальзака: с 1833 по 1837 г. были написаны «Евгения Гранде», «Отец Горио», первая часть «Утраченных иллюзий». Действительность предоставляла писателю огромный материал для размышлений, наблюдений и выводов. Современный французский писатель А. Вюрмсер, автор биографической книги о Бальзаке, так характеризует это время:«Это был век золота, возомнивший себя «золотым веком». Началась охота за новыми богатствами; при всяком удобном случае прибирали к рукам богатство соседа»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и тех особенностей времени, которые </a:t>
            </a: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Бальзак подвергает самому беспощадному разоблачению,— нравственная деградация дворянства, которое окончательно уподобилось по своему моральному облику буржуазии, потеряв в погоне за деньгами не только былую аристократическую честь, но и человеческое достоинство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ичные склонности, как оказалось, не имели силы над Бальзаком-писателем: он явился обличите­лем дворянского класса как беспристрастный очевидец и непод­купный суд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16360" y="184464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оре Бальзак родился в 1799 г. и прожил 50 лет — первую половин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я, бурную, насыщенную событиями в жизни Фра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b_229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1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050920" y="4076280"/>
            <a:ext cx="640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черты литературного мет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971640" y="2565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ий реализм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Человеческая комеди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Человеческая комедия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в начале творческого пути Бальзак устанавливает связь между отдельными своими произведениями, объединяя их в циклы: «Сцены частной жизни», «Сцены провинциальной жизни», «Сцены парижской жизни». Эти три цикла (12 томов, написанные на протяжении 1834—1837 гг.) составили «Этюды нрав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 1842  г.  у  писателя   возник  замысел  соединить  в  еди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ое полотно все, что уже написано и что будет написа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льнейшем, с целью воссоздать историческое движение фран­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зского    общества - от революции  1789 г.до современ-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ти. «Мое   творение,— говорил    Бальзак,— охватит  все    классы французского общества  девятнадцатого века;  если    через   пятьсот  лет,   через  две  тысячи  лет  захотят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учать  французское общество времен Империи, Реставрации и гнусного июльского правительст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археологам и прочим ученым людям достаточно будет заглянуть в мои произвед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му огромному труду автор дал название «Человеческая комедия». Над «Человеческой комедией» Бальзак работал до конца жизни. Она насчитывает 87 произведений, по планам писателя сюда должны были войти еще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460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ализма писателя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ьз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едставил живую историю, воплощенную в различных судьб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еловеческих типах, рожде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ием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л глубокие наблюдения над закономерностями общественной жизни Франции и мрачную перспективу дальнейшего процветания буржуазной мо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56000" y="3860640"/>
            <a:ext cx="626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ая особенность грандиозного                      создания Бальзака —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ножество аспектов             изображения реальной действительности, в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торой  живет человек 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образец бальзаковской типизации      (и одновременно —  бальзаковского  разоблачения) — повесть  «Гобс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Картинка 2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716280"/>
            <a:ext cx="1546200" cy="252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_046"/>
          <p:cNvPicPr/>
          <p:nvPr/>
        </p:nvPicPr>
        <p:blipFill>
          <a:blip r:embed="rId3"/>
          <a:stretch/>
        </p:blipFill>
        <p:spPr>
          <a:xfrm>
            <a:off x="6443640" y="836640"/>
            <a:ext cx="2111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2950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Гобсек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раз Гобсека.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яркого типичного образа у Бальзака достигается посредством максимального заострения, гиперболизации основной, самой характерной черты того класса, того социального   слоя,   который   должен   представлять   его   герой. Над всеми склонностями и чувствами Гобсека преобладает страсть стяжательства, она становится единственной его страстью, и ей подчиняется вся его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. Гриб, один из лучших исследователей Бальзака, пишет: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«В эту освобожденную страсть человек вкладывает всю свою волю, энергию силы, она поглощает его целиком, разрастается до гигантских размеров, становится лихорадкой, болезнью, манией. Оттого всякий яркий тип у Бальзака почти всегда маньяк...»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3906720"/>
            <a:ext cx="712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 дают ему сознание власти над миром: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... разве могут отказать в чем-либо тому, у кого в руках мешок с золотом? Я достаточно богат, чтобы покупать совесть человеческую, управлять всесильными министрами через их фаворитов, начиная с канцелярских служителей и кончая любовницами. Это ли не власть? Я могу, если пожелаю, обладать красивейшими женщинами и покупать нежнейшие ласки... Что же такое жизнь, как не машина, которую приводят в движение деньг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ния» Гобсека мотивирована          у писателя всей общественной системой, в которой решающую роль играет капитал. Именно поэтому цель своей жизни         Гобсек видит в беспредельном обога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9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836640"/>
            <a:ext cx="4052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ый ростовщик  строит свою                              философию, циничную и непоколебимую,                            на трезвом знании жизни: «..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 всех                                 земных благ есть только одно, достаточно                надежное, чтобы стоило человеку гнаться                            за ним. Это ... золото. В золоте сосредоточены все силы человечества... В золоте все содержится в зародыше, и все оно дает в действитель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во твердое убеждение Гобсека, из которого он исходит во всех своих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путь к богатству непременно предполагает жестокость, не смущает его. Сам он не знает пощады к тем, с кем ведет дела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«Иногда его жертвы возмущались, поднимали неистовый крик, потом вдруг наступала мертвая тишина, как в кухне, когда зарежут в ней утку»,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ворит Бальз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артинка 90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6280"/>
            <a:ext cx="2799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давая точных сведений о прошлом Гобсека, Бальзак тем не менее твердо говорит о том, что огромный капитал ростовщика, как и каждого буржуа, нажит ценой преступлений, больших или малых: «Возможно, он был корсаром; возможно, блуждал по всему свету, торговал бриллиантами или людьми, женщинами или государственными тайнам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лассовые черты в Гобсеке достигают огромной выразительности благодаря введению индивидуальных, исключительных черт, заостряющих этот образ, придающих ему весомость типич­ного я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бсек живет с глубоким недоверием к людям, в полном оди­ночестве, не испытывая ни малейшего желания повидаться со своими родственниками, равнодушный даже к их трагед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Париж взволновало убийство женщины, прозванной «прекрасная голландка». Гобсек же только сказал, не проявив при этом ни малейшего интереса или хотя бы уди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я внучатая племя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эти слова и вызвала у него смерть его единственной наследницы, внучки его сестры». И далее: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н ненавидел своих наследников и даже мысли не допускал, что кто-либо завладеет его состоянием хотя бы после его смер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21784"/>
          <p:cNvPicPr/>
          <p:nvPr/>
        </p:nvPicPr>
        <p:blipFill>
          <a:blip r:embed="rId1"/>
          <a:stretch/>
        </p:blipFill>
        <p:spPr>
          <a:xfrm>
            <a:off x="5364000" y="4046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540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ержимость золотом сделала существование Гобсека абсурдным. В страхе за свое богатство он скрывает его размеры; он готов скорее понести убыток, чем признаться, насколько он богат. Страдающий от смертельного озноба, Гобсек не позволяет затопить камин: в камине спрятаны груды золота и серебра. Его кладовая ломится от запасов, уже гниющих. «Все кишело червями и насекомыми. Подношения, полученные недавно, лежали вперемежку с ящиками различных размеров, с цыбиками чаю и мешками коф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льзак дает своему герою значащую фамилию: Гобсек — живоглот. Эта метафора, привлеченная для живого изображения хищного существа, многократно обыгрывается автором на стра­ницах повести: «В этой крупной афере Гобсек был ненасытным удавом»; «...сдается мне, он все это глотает, да только не на пользу себ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ая метафора создает перед читателем образ Гобсека как непосредственное воплощение силы денег: он — «человек-вексель», сердце в его груди — «слиток золот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Картинка 43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6280"/>
            <a:ext cx="230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ображение аристократии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ображение дворянства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период, когда происходит                           действие повести, французское дворянство уже полностью             подключено к капиталистическому общественному укладу..                       Не менее, чем буржуазия, оно одержимо властью денег.               Буржуазный век еще более усилил аристократическую жажду               роскоши, и новые, обесчеловеченные принципы этого века                                  еще более изуродовали отживающую дворянскую мораль. В неразборчивости средств обогащения аристократ не уступает предпринимателю. В противоположность Гобсеку люди аристократического круга не видят нравственных преимуществ          скромной трудов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ловеческий идеал этого круга убог и ничтожен. Кумир света — Максим де Трай, «субъект, внушающий и страх и презрение, всезнайка и круглый невежда... бретер, больше ис­пачканный грязью, чем запятнанный кровью». Со злой иронией перечисляет автор его достоинства: «Он неподражаемо носит фрак, неподражаемо правит лошадьми, запряженными цугом. А как Максим играет в карты, как он кушает и пьет! Такого изящества манер в целом мире не увидишь. Он знает толк и в скаковых лошадях, и в модных шляпах, и в картинах. Женщины без ума от него. В год он проматывает тысяч сто, однако не слыхать, чтобы у него было захудалое поместье или хоть какая-нибудь рента. Это образец странствующего рыцаря нашего вре­мени — странствует же он по салонам, будуарам, бульварам нашей столицы..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авив в этой повести буржуа рядом с представителями дворянства, Бальзак сумел блестяще показать не только их взаимный антагонизм, но и их взаимосвязанность, заинтересован­ность каждой из этих двух сторон в существовании друг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Картинка 65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6280"/>
            <a:ext cx="1523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оложительные образ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кий реалист не пощадил в своем разоблачении ни один из господствующих классов. Но в повести есть персонажи, воп­лощающие его нравственный идеал: это Дервиль и Фанни Мальво в изображении которых справедливо находят свидетельство де­мократических симпатий Бальзака '. Труженики исполненные бла­городства, чуждые тщеславия, они сознательно отказываются от погони за ценностями, привлекающими и аристократа, и бур­жуа. «Я скорее дам себе руку отрубить, чем стану грабить людей» — этим словам, произнесенным в начале своего жизнен­ного пути, Дервиль остается верен всю жизнь. Он «даже откло­нил предложение виконтессы... пройти в судебное ведомство, где он мог бы при ее покровительстве чрезвычайно быстро сделать карьер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Гобсек судит дворянство, то Дервиль, юрист, прекрас­но знающий все темные закоулки современной жизни, выступает как судья, обличающий уже и Гобсека, когда с негодованием спрашивает: «Да неужели все сводится к деньгам!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Общая характеристика </a:t>
            </a:r>
            <a:br>
              <a:rPr sz="3200"/>
            </a:b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 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в.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0456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ический реализм (термин М. Горького) — новый этап развития реализма, складывающийся в Западной Европе в 30—40-е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 после романтизм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менно романтизм явился рубежом, отделившим этот период развития реалистического искусства от предшествующих. Реализм дала уже эпоха Возрождения, когда лучшие из мастеров литературы — Шекспир, Сервантес - показали богатый и сложный ми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этапом был реализм Просвещения, отразивший идеал революционной буржуазии — идеал свободы и всеобщего равенства, пафос борьбы. Положительный герой здесь активно противостоял обстоятельствам и тем самым утверждал новые принципы, новую мораль. В просветительском реализме, непосредственно предшествовавшем реализ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, среда, формирующая человека, обрисована зачастую посредством условных, неправдоподобных положений и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3672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двух бесспорно положительных образов повести представляет важнейшую черту реализма Бальзака, в целом характерную для всего западноевропейского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: положительные персонажи не имеют той художественной значимости, той масштабности изображения, которой наделены отрицательные герои, отражающие то или иное явление времени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ила критического реализма и величайшего из его мастеров Бальзака состояла именно в отрицании существующей действительности, где еще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не сложился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и даже не наметился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тип человека, который мог бы быть показан как мощный положительный противове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Чарльз Диккенс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6280"/>
            <a:ext cx="2370240" cy="295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7 февраля 1812 г, близ Портсмута, затем жил в городке Чэтэме –  это было счастливое время. Родители Диккенса: Джон Диккенс,Элизабет Диккен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и Чарльза   решили что в 11 лет он сам себя сможет прокормить. Он стал работать на крошечной фабрике ваксы – наклеивать этикетки на баночки.То было страшное время. Отца держали в тюрьме, и самолюбие Чарльза очень страдало. Работает в одном помещении с мальчишками, которые не прочли ни одной книги и чья судьба  - пребыват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жестве до конца сво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лингтон – Хаус. Первый университет в его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VC01067"/>
          <p:cNvPicPr/>
          <p:nvPr/>
        </p:nvPicPr>
        <p:blipFill>
          <a:blip r:embed="rId3"/>
          <a:stretch/>
        </p:blipFill>
        <p:spPr>
          <a:xfrm>
            <a:off x="7093080" y="5229360"/>
            <a:ext cx="1447560" cy="108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6" name="Picture 8" descr="DVC01068"/>
          <p:cNvPicPr/>
          <p:nvPr/>
        </p:nvPicPr>
        <p:blipFill>
          <a:blip r:embed="rId4"/>
          <a:stretch/>
        </p:blipFill>
        <p:spPr>
          <a:xfrm>
            <a:off x="5940360" y="3645000"/>
            <a:ext cx="1424160" cy="1066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7" name="Picture 9" descr="DVC01065"/>
          <p:cNvPicPr/>
          <p:nvPr/>
        </p:nvPicPr>
        <p:blipFill>
          <a:blip r:embed="rId5"/>
          <a:stretch/>
        </p:blipFill>
        <p:spPr>
          <a:xfrm>
            <a:off x="5940360" y="5013360"/>
            <a:ext cx="959040" cy="127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8" name="Picture 10" descr="DVC01066"/>
          <p:cNvPicPr/>
          <p:nvPr/>
        </p:nvPicPr>
        <p:blipFill>
          <a:blip r:embed="rId6"/>
          <a:stretch/>
        </p:blipFill>
        <p:spPr>
          <a:xfrm>
            <a:off x="7596360" y="3716280"/>
            <a:ext cx="958680" cy="127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17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Диккенса представляют собой панораму английской жизни эпохи викторианства, уникальную по богатству наблюдений и разнообразию запечатленных человеческих типов. «Приключения Оливера Твиста» (1838), «Лавка древностей» (1841), «Домби и сын» (1848) создают исчерпывающе полный портрет общества, обнажая его пороки и изъяны. В конечном счете несовершенство общества становится ясно и персонажам, находящим свой идеал в уюте дома, прочности семейных традиций, христианском милосердии к близким и чу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1640" y="4292640"/>
            <a:ext cx="5434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 «рождественских повестей», созданных в 1843-48 («Колокола», «Сверчок за очагом» и др.), наиболее последовательно воплотил приверженность Диккенса незыблемым ценностям частной жизни — в противовес иллюзорным или эфемерным обретениям, которые приносит погоня за богатством и прести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Картинка 9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174780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9800" y="549360"/>
            <a:ext cx="1879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еликий юморист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ий писатель Честертон говорил, что искусство Диккенса «как жизнь, потому что, как и жизнь, оно безответственно и невероятно». Выразившееся в книгах Диккенса восприятие мира не признает безнадежности и отчаяния, хотя нередко описаны жестокие и даже катастрофические ситуации. Однако самые тягостные обстоятельства неспособны подорвать веру героев Диккенса в конечное торжество добра или воздаяние за гробом, если недостижима земная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55640" y="3644640"/>
            <a:ext cx="446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мор, побуждающий не только создавать фарсовые сюжетные положения, в которых всего отчетливее проступает истинная человеческая природа персонажей, но и распознать чудесное под уродливым внешним обликом вещей, заставляя ужас и отвращение отступать перед радостью, — важнейший писательский принцип Диккенса, органично выразивший главные свойства его личности и тал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Картинка 26 из 5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716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.М. Достоевский о Диккенс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ючительно высоко ценя Диккенса, Ф. М. Достоевский назвал его непревзойденным мастером «искусства изображения современной, текущей действительности». Диккенс изучил ее за годы репортерской службы, которая предшествовала литературному дебюту — роману «Посмертные записки Пиквикского клуба» (1837). Эта книга, представляющая собой цикл жанровых зарисовок, раскрыла дарование Диккенса как создателя гротескных характ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же Диккенсом для литературы мир трущоб и нравы их обитателей опоэтизированы писателем. Сочувствуя героям, он приводит действие к благополучному финалу, который вознаграждает их за страдания и унижения, приглушая травмирующие воспоминания юной поры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инка 6 из 4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1714680" cy="277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Картинка 9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3357720"/>
            <a:ext cx="1905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3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рвег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енрик Ибсе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35736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рик  Иоган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20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Ши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9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Кристи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 — выдающийся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норвеж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драматур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снователь европейской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«новой драм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Занимался также поэзией и публицис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Генрика Ибсе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Сигур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известным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политическим деятел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журналис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нук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Танкре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кинорежиссё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сть Генрика Ибсена назва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крат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Мерку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Норвегии вручается Ибсеновская премия, первым лауреатом стал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П. 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4720" y="2060640"/>
            <a:ext cx="4465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бсен и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бсен в начал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 одним из властителей дум интеллигенции; его пьесы шли во многих театрах. Ему посвящали статьи и исследования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Иннокентий Анн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Андрей Бел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Александр Б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Зинаида Венге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Анатолий Луначар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Всеволод Мейерхоль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Дмитрий Мереж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Николай М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оветской сцене чаще всего ставились «Кукольный дом», «Привидения» и в концертном исполнении «Пер Гюнт» с музык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Эдварда Гр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2006 году массово отмечалось столетие смерти Иб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Файл:Ibsen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9640" y="476280"/>
            <a:ext cx="2381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ьеса Г.Ибсен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Кукольный дом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й популярной пьесой Ибсена в России стал «Кукольный дом» (1879). Декорации квартиры Хельмера и Норы погружают зрителя или читателя в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ещанску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диллию. Её разрушает поверенный Крогстад, напоминающий Норе о подделанном ею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ексе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Хельмер ссорится с женой и всячески обвиняет её. Неожиданно Крогстад перевоспитывается и присылает вексель Норе. Хельмер тут же успокаивается и предлагает жене вернуться к нормальной жизни, но Нора уже осознала, как мало она значит для мужа. Она обличает мещанский семейный 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была здесь твоей куколкой-женой, как дома была папиной куколкой-дочкой. А дети были уж моими куклами»,- говорит герои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ьеса заканчивается уходом Норы. Однако её не следует воспринимать как социальную, для Ибсена важна общечеловеческая проблематика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ранцузский символизм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ртюр Рембо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ан Николя́ Артю́р Рембо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8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9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француз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основоположников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символиз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4360" y="2491920"/>
            <a:ext cx="7775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тюр Рембо родилс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20 октябр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18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Шарлеви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веро-восток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го отец, Фредерик Рембо, по                профессии военный, служил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Алжи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ать, Мари-Катрин-Витали Кюиф — из зажиточной крестьянской семьи. Когда мальчику исполнилось четыре года, отец оставил семью, с тех пор мальчика воспитывала мать. Рембо обучался в лицее в Шарлевиле. После публикации первого стихотворени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18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у, в возрасте 16 лет Рембо отправился в путешествие по северу Франции и Бель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озрасте семнадцати лет Рембо знакомитс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Париж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оэтом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Полем Верле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екоторое время он живёт в дом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Поля Верл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Париже Рембо участвует в восстани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Парижской комму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18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ь Верлен бросает семью и уезжает с Рембо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Лонд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сле расставания с Верленом  Рембо перестаёт писать и путешествует по свету до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18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Зате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основно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Егип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Эфи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а также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Йеме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н занимается торговлей кофе, пряностями, шкурами и оруж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18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Рембо вернулся во Францию, где ему ампутировали ногу из-за раковой опухоли. В госпитале за ним ухаживала сестра, приехавшая из Шарлевиля. Рембо умер в Марселе, в госпитале, 10 ноября 1891 года. Похоронен в Шарлеви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Картинка 2 из 53"/>
          <p:cNvPicPr/>
          <p:nvPr/>
        </p:nvPicPr>
        <p:blipFill>
          <a:blip r:embed="rId24"/>
          <a:stretch/>
        </p:blipFill>
        <p:spPr>
          <a:xfrm>
            <a:off x="6877080" y="404640"/>
            <a:ext cx="17114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543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Это Шекспир-дит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4724280"/>
            <a:ext cx="377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ьяный корабль» (18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но лето в аду» (187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зарения» (187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92360" y="1844280"/>
            <a:ext cx="4967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издател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юр Рембо - замечательный поэт, которого никуда не денешь, даже не столько из девятнадцатого, породившего его века, сколь из нашего двадцатого, безмерно возвысившего его столетия. В мировой литературе французский поэт Артюр Рембо (1854-1891) - явление уникальное. Гениально одаренный юноша, о котором Виктор Гюго сказал: `Это Шекспир-дитя`, - творил всего три года. Но за это время Артюр Рембо, позднее добровольно обрекший себя на молчание, создал стихи и стихотворения в прозе, что ярким светом озарили поэзию Франции XIX столетия, открыв перед ней горизонты будущ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Артюр Рембо Пьяный корабль"/>
          <p:cNvPicPr/>
          <p:nvPr/>
        </p:nvPicPr>
        <p:blipFill>
          <a:blip r:embed="rId1"/>
          <a:stretch/>
        </p:blipFill>
        <p:spPr>
          <a:xfrm>
            <a:off x="1187280" y="184464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загадочной свободе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1908 году несколько молодых писателей и художников, объединенных стремлением к независимости от «денежного мешка» и к устранению от борьбы за место под солнцем, организуют в снятой под Парижем заброшенной усадьбе нечто вроде коммуны, члены которой добывали бы средства к существованию исключительно трудом рук свои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 просуществовала недолго, ибо она была, по удачному выражению одного литературоведа, «муравейником, населенным стрекозами». Но опыт ее оказался во многих отношениях весьма поучительным. С благоговением слушают «аббаты» гимн «загадочной свободе, прекрасную песню, которую все знали наизусть как любимую молитву», и были в ней, в частности, такие сл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я весь свой груз спустил бы задарм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амандское зерно и английские ткан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 на берегу шла эта кутерьм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лыл, куда несло, забыв о капитан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ерев. Д. Самойлов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ная молитва... Но это не было ни гимном, ни песней, но лишь словами из, быть может, самой удивительной поэмы самого удивительного французского поэта XIX в., Жана-Артура Рембо, поэмы «Пьяный корабль», которая до сих пор будоражит умы и воображение многих поколений читателей и обросла бесчисленным количеством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ь поэта к «Пьяному кораблю» был по времени поразительно кратким, но вобрал в себя столько, сколько другим, пожалуй, не удавалось пройти и за десятилетия. Путь? Собственно говоря, какой путь, если к моменту создания «Пьяного корабля» Рембо было всего 17 лет! И все же... Именно он увидел и с необыкновенной силой выразил нечто, что становилось необходимостью, некую потребность в общественном обновлении и вместе с тем в том, что было для него неотделимо от самой жизни — обновлении поэзии и поэтиче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и рождаются редко; кто знает, чем руководствуется природа, создавая их и принося в дар человечест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Критика противоречий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38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в свете важнейшего исторического опыта — смены феодальных отношений буржуазными — создался новый тип реализма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Противоречия новой общественной системы стали предметом его кри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исатели-реалисты сумели вскрыть источник этих противореч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ю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заимосвязи жизненных явл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пособствовали и успехи естествознания в первые десятилетия века. Литература заимствовала у естественных наук принципы наблюдения, осмысления и обобщения фактов окружающей жизни. Не случайно роман Бальзака «Отец Горио» посвящен известному ученому-натуралисту Сент-Илеру, его современнику, открывшему многообразие видов животного ми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 из сборник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Пьяный корабль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6984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лой комната полна, и осторожно в 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учит шушуканье печальное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е детских головы за занавеской бело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грез отяжелев, склоняются несмел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ружи стайка птиц друг к другу зябко льнет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крылья не влекут их в серый небосвод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ходит Новый год со свитою туманно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ча свой снежный плащ и улыбаясь странно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лачет и поет, охвачен дрожью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Картинка 26 из 53"/>
          <p:cNvPicPr/>
          <p:nvPr/>
        </p:nvPicPr>
        <p:blipFill>
          <a:blip r:embed="rId1"/>
          <a:stretch/>
        </p:blipFill>
        <p:spPr>
          <a:xfrm>
            <a:off x="5508720" y="476280"/>
            <a:ext cx="3036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360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Е СВИ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тул высокий сев небре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сплетала пальцы ру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гкий трепет ножки неж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идел вдруг, я видел вд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дел, как шальной и зыб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ч кружит, кружит мотыльк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ее глазах, в ее улыбк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удь садится к ней тай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т на ее лодыжке тонк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целуй запечатле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твет мне рассмеялась звонк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мех был резок и несм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гливо ноги под руб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лись: “Как это назвать?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овно за свою пром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ела смехом на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460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пас другую я уловку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бами чуть коснулся глаз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ад откинула головку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Так, сударь, лучше… Но сей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е сказать мне что-то надо…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грудь ее поцелова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ихий смех мне был награ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бра мне этот смех жел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вод Б.Пастер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Картинка 16 из 53"/>
          <p:cNvPicPr/>
          <p:nvPr/>
        </p:nvPicPr>
        <p:blipFill>
          <a:blip r:embed="rId1"/>
          <a:stretch/>
        </p:blipFill>
        <p:spPr>
          <a:xfrm>
            <a:off x="6732720" y="476280"/>
            <a:ext cx="1904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Картинка 69 из 1704949"/>
          <p:cNvPicPr/>
          <p:nvPr/>
        </p:nvPicPr>
        <p:blipFill>
          <a:blip r:embed="rId1"/>
          <a:stretch/>
        </p:blipFill>
        <p:spPr>
          <a:xfrm>
            <a:off x="46836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932360" y="620640"/>
            <a:ext cx="388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ЬЯНЫЙ КОРАБЛЬ</a:t>
            </a:r>
            <a:br>
              <a:rPr sz="12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Артур Рембо 1871 год)</a:t>
            </a:r>
            <a:br>
              <a:rPr sz="10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пускался я по рекам безучаст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их матросов позабыв в лесах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а потеху дикарям ужасным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гих распяли на цветных столба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провожая взглядом экипажи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ущие и хлопок и зерн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лыл легко, свободный от поклаж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ук людских. Мне было все равно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брызжущие яростью прилив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грали мной, как мальчиком глухи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остова исчезли с перспектив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запный шторм ревел, неукротим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н был как я свободен в бурном м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мой танец на волнах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был гоним в бушующем прост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нынче сам бежал, отбросив страх!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пелым, кислым яблоком зелены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лна вкатилась в корпуса мои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воту смыла всплеском изумлен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ломала руль ударами струи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олон был поэзией стихии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ж мутных звезд и тьмы глубин морских, 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глядя вверх сквозь волны голубы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умчивый утопленник затих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я цвет в непостоянном мир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вучала то яснее, то темне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ая песня, звонкой лиры шир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ильней любви, и вин хмельных пьяней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поротое молниями неб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доворот, восходы, мель, закат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наю и сейчас, как запах хлеб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лубей, что от грозы летят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940360" y="691920"/>
            <a:ext cx="2881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зумною посудиной, покрыт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ушками, как лодка дурак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перед, живыми скатами увиты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ыл с эскадрой из морских коньков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не рыдал о горестных утратах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ней за кормой тянулась поло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июльских догорающих зака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ые исчезали небеса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му нужны архипелаги, мел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ль в небесах искрящийся пол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ссчетных птиц? Иные бы посм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лыть туда, где новый день взойдет?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льзя по непокорной глади мо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ъятиях воды на белый св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чтал я повстречать, с судьбою спор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дной Европы древний парапе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акал много! Душу рвут расс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у светил и у морей в плен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вовремя я смог заметить эт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влагой вздут, и смерть зовет ко дну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омню пристань с серым камнем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краю седых громил, что мне знак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м, пущенный мальчишкой невеселы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раблик пляшет майским мотылько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т, больше сил болтаться и скит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аш презренный груз и флаг нест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новь с седыми водами сраж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за мозоля баржам по пу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13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солнце низко над волнами,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ужасом мистическим цвет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волны, как герои в древней драм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 мне кидались, разевая ро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снилась ночь, в зеле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рак од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глазах рябило от чужих огней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аморочен отблесками с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тел на зов светящихся камней!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след луне, во след слепой печ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ывался к рифам, обращался вспя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ии – Девы за кормой ступа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торым Океан не обуздать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вас, Волшебные Флорид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ные шкуры, алые цвет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ожжи радуг, что огнем увиты,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р бестревожной райской красоты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остов узнавал Левиаф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брожении испуганных бол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 заводях блуждая неуста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овь удивлялся в них смешеньям вод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еск ледников, над зеркалом за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грезился, был светлый сон глубо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тьме тонул, сплетаясь молчали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жасных змей лоснящийся клубок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03640" y="620640"/>
            <a:ext cx="2916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етям показал бы превращ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их чудовищ и поющих р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бег моего теч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ямый ветер сред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движных гл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 томили полюса и зем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лейдоскоп, мелькающий вда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янулся я к цветам, тоске не внемл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так, увы, и не достиг земл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тонких мачтах птицы гнезда св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словно остров ими облеплен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же сопротивляясь водной си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 плыл, то снова погружался в сон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волосы растрепаны кан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нова птиц сметает ура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етром паруса мои объя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я опять морской водою пьян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пыхивая трубкою туманно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родырявил алый свод небе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нем давно иной поэт жем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кал бы нескончаемых чуде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алеко бежал от этой дур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сам порою замечал вез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гусениц ленивицы-лазу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лед личинок солнечных в воде. 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арина Цветаева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«Книги в красном переплёте»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я детского жи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не привет прощальный шле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менившие друз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отертом, красном пререпл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ть легкий выучен ур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у тот час же к вам, быв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ж поздно!- Мама, десять строк!..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, к счастью, мама забы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ожат на люстрах огоньки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хорошо за книгой до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Грига, Шумана и К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узнавала судьбы Т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неет, в воздухе свеж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м в счастье с Бэкки полон в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 факелом Индеец Дж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уждает в сумраке пещер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377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дбище... Вещий крик совы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трашно!) Вот летит чрез к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ыш чопорной вдо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Диоген, живущий в б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лее солнца тронный з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тройным мальчиком - корона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друг - нищий! Боже! 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звольте, я наследник трона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шел во тьму, кто в ней воз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итании печальны судьб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, почему средь красных кн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ять за лампой не уснуть б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врем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взор смелей и сердце чищ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им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кк Финн, Том Сойер, Принц и Нищ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08-19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Картинка 123 из 1697212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067280" y="342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пакова М.Ю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Мурманска                             Мурманский международный лице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Картинка 6 из 1704949"/>
          <p:cNvPicPr/>
          <p:nvPr/>
        </p:nvPicPr>
        <p:blipFill>
          <a:blip r:embed="rId1"/>
          <a:srcRect l="0" t="5400" r="2698" b="0"/>
          <a:stretch/>
        </p:blipFill>
        <p:spPr>
          <a:xfrm>
            <a:off x="611280" y="40464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равдивое изображение действительност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жнейшая особенность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остоверная жизненная ситуац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складывается из правдиво воссозданных особенностей быта, человеческих характеров и отношений между людьми. В свою очередь эти отношения и характеры все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условлены объективными прич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явлениями общественного, порядка. У просветителей судьба героя, например Робинзона Крузо или Фауста, осуществляется в соответствии с авторским идеалом. Писатель ж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отражает господство над судьбой отдельного человека социальных законов буржуазного  общества,    действующих как непреодолимая  стихия. Таким  образом,  в  развитии  реализма   предметом  исследования становятся прежде всего те общественные отношения, которыми определяются положение и поступки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Типичные характеры.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Образ-тип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бразы в реалистическом произведен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бирательны, типичн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и несут в себе прежде всего обобщение самых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характерных чер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енного класса или сословия. Однако многообразие типических образов, созданное литературой реализма, достигается тем, что художник-реалист придает изображаемой личности и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индивидуальные особен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средством которых социальный облик этой личности делается более выразительным, броским, запоминающимся. Благодаря этому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раз-ти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обретает широкий смысл, иногда даже выходящий за рамки породившей его действительности,— смысл жизненного явления (в русской литературе таковы, например, типы Гоголя, в западной — Бальзака)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Изображение «типичных характеров в типичных обстоятельствах» Энгельс считал главным отличительным признаком реализ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Роль портрета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в реалистическом произведени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61000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дним из важнейших средств передачи типического характера служит портр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менно в портрете чаще всего заостряются черты, выражающие суть типа. В выражении лица, очертаниях фигуры, в походке, манерах, костюме получают наглядное во­площение и общественное положение человека, и нравствен­ные качества, свойственные людям его класса: беспечность и эгоистичность аристократа, расчетливость и бессердечие буржуа. Лучшие, образцы реалистического портрета среди западно­европейских писателей дали Бальзак и Диккен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сихологизм – важнейшая черта критического реализм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портрет отражает не только социальную принадлежность, не только «тип», но и душевное состояние, психологию героя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альнейшее развитие психологизма — еще одно из завоеваний реализма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«Типичные обстоятельства» — объективные обстоятельства жизни, выведенные в произведении, определяют поведение человека, формируют его противоречивый внутренний склад, вызывают в нем душевную борьбу. Тонкой передачей сложного внутреннего мира отличается творчество Стендаля — замечательного современника Бальза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01:29Z</dcterms:created>
  <dc:creator>SAM</dc:creator>
  <dc:description/>
  <dc:language>en-US</dc:language>
  <cp:lastModifiedBy>Олег</cp:lastModifiedBy>
  <dcterms:modified xsi:type="dcterms:W3CDTF">2012-02-25T15:22:58Z</dcterms:modified>
  <cp:revision>63</cp:revision>
  <dc:subject/>
  <dc:title>Слайд 1</dc:title>
</cp:coreProperties>
</file>