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74B-54DE-4AF5-94AA-F3A6CD0E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E5B-6B84-4FEB-B1C5-B2E9C50A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92A-065B-439B-A919-22322499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3CD-4653-4D2C-B105-75023CD4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CDB7-34EB-4A1F-8E9D-29172BC4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AF06-DE54-4DFE-A136-EFFDD460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88A8-EF4F-4759-94E9-79E11E3B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7437-CAAD-44D1-A7B0-C3172492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ECC8-B8F1-400B-99C9-0343115C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3876-CBDC-4944-A7B0-383E02A1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6318-3554-46D4-A5F4-F8DC5546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E43-1851-4D9B-B000-B397830A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312B-A555-48D6-A8E6-CA00B0F4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776F-9DFF-46FC-AB81-30DE7146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3935-51C0-4CB0-BF8B-5FBF607B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FDEC-6DBA-482D-A0C2-308777C2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1D7B-9D24-4777-BBAD-4B50F03C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2AD-4A4E-4C7F-BB89-17E8CDF8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891-2FB4-485C-B02E-CEF01208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161-7ABB-4172-821E-40E590CE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6B7-715C-457A-B441-57CCF2C6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18A-5987-41E1-8E4D-63E6176D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FFDB-21F8-482F-AE83-A8F3422D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FB5-1010-4929-921E-1E81D891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3859-555D-4851-881B-4F061A7740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82FF-9DA6-487E-AB96-D83B33362CF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характеристика геро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над черновиком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209680" y="838080"/>
            <a:ext cx="6248520" cy="27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чинение по рассказ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.С. Тургенева «Бежин луг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9" name="Picture 6" descr="беж5"/>
          <p:cNvPicPr/>
          <p:nvPr/>
        </p:nvPicPr>
        <p:blipFill>
          <a:blip r:embed="rId1"/>
          <a:stretch/>
        </p:blipFill>
        <p:spPr>
          <a:xfrm>
            <a:off x="304920" y="457200"/>
            <a:ext cx="169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коменд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товясь к сочинению, внимательно прочитайте произведение, отметьте в нём важное и интере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думайте тему сочинения, составьте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ерите рабочие материалы по плану (цитаты из текста, свои рассужд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основную часть. Будьте последовательны и логичны. Рассуждайте, а не пересказывайте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я стройте правильно. Чётко и ясно излагайт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майте вступление и заключение к сочинению. Если нужно, подберите эпигра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цитаты по тексту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овик внимательно прочитайте, исправьт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йтесь орфографическим словар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е пишите чётким, разборчивым, крас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ступление к сочинени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8840" y="21333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рои расск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С. Тургенева «Беж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г» - это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е, старшему из н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, а сам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ладшему, Ване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61760" y="2209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-это начало сочинения, в котором автор называет произведение, обосновывает тему и формулирует основной тезис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 занимает   1/6 – ¼ часть вс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беж12"/>
          <p:cNvPicPr/>
          <p:nvPr/>
        </p:nvPicPr>
        <p:blipFill>
          <a:blip r:embed="rId1"/>
          <a:stretch/>
        </p:blipFill>
        <p:spPr>
          <a:xfrm>
            <a:off x="2209680" y="5029200"/>
            <a:ext cx="2362320" cy="154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беж10"/>
          <p:cNvPicPr/>
          <p:nvPr/>
        </p:nvPicPr>
        <p:blipFill>
          <a:blip r:embed="rId2"/>
          <a:stretch/>
        </p:blipFill>
        <p:spPr>
          <a:xfrm>
            <a:off x="838080" y="228600"/>
            <a:ext cx="1535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сновная часть сочин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очинения раскрывается тема и доказывается основной тез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упповой характеристике героев нельзя писать о каждом мальчике отд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герои характеризуются по сходным признакам. 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ртр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деж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вед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ты характера и поступки, в которых они раскрыва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тношение автора к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 предложения в рассуждении связаны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едя - стройный мальчик с … волосами, …глазами и …улыбкой. А у Павлуши волосы…, рот…, лицо… Лицо же Илюши кажется …, волосы … Павлу и Илье по … лет. Десятилетний Костя …роста, лицо у него … У Вани же автор отмечает … головку, …личико, …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сказчик также обратил внимание на одежду детей. У Феди она новенькая, аккуратная, а Павлуша одет…. У Илюши были … лапти, …свитка  и … шапочка, Костя одет довольно … По одежде видно, что достаток в крестьянских семьях был раз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хотника больше всего привлекают рассказы мальчиков о всякой нечистой силе: …, …, …, … Былички-поверья открывают мир, который окружает ребят. С одной стороны, в крестьянской среде царит невежество, поэтому объяснить некоторые природные явления дети не могут. С другой стороны, былички очень поэтичны. Они говорят о том, что деревенские мальчики обладают ярким воображением, умеют интересно рассказывать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13"/>
          <p:cNvPicPr/>
          <p:nvPr/>
        </p:nvPicPr>
        <p:blipFill>
          <a:blip r:embed="rId1"/>
          <a:stretch/>
        </p:blipFill>
        <p:spPr>
          <a:xfrm>
            <a:off x="2514600" y="4343400"/>
            <a:ext cx="18493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бственные рассуждения 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 сочинен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жно отметить, что в каждом из мальчиков автор подмечает что-то хорош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влу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т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ю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ня глубоко поэтичен, любит природу. Он отв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от рассказов о страшном и приковал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имание к красоте звёздного неба. Да, вс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восхищает летняя ночь, все горяч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бят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беж15"/>
          <p:cNvPicPr/>
          <p:nvPr/>
        </p:nvPicPr>
        <p:blipFill>
          <a:blip r:embed="rId1"/>
          <a:stretch/>
        </p:blipFill>
        <p:spPr>
          <a:xfrm>
            <a:off x="5638680" y="2286000"/>
            <a:ext cx="2971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ая часть сочинения, в которой подводится итог сказан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ыводе можно  отметить точку зрения автора или высказать собственное отношение к теме, проблеме, геро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 составляет ¼- 1/6 часть всей работы и оформляется в одном абза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765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 можем с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вод, что в крестьян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тях из рассказа «Беж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уг» отразились лучш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рты русского нар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юбозна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мелость, поэтичность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ван Сергеевич Турген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ится к своим героя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беж7"/>
          <p:cNvPicPr/>
          <p:nvPr/>
        </p:nvPicPr>
        <p:blipFill>
          <a:blip r:embed="rId1"/>
          <a:stretch/>
        </p:blipFill>
        <p:spPr>
          <a:xfrm>
            <a:off x="4800600" y="228600"/>
            <a:ext cx="1322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ОМНИТЕ 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ик надо внимательно прове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3 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я, отметить логические неточности и нарушения порядка рас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едить за речевым оформлением работы. Исправить речевые ошибки (повторы, слова в несвойственных значениях, неудачное употребление сл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ить  грамотность, пользуясь орфографическим словарём и справочником с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9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Автор: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учитель русского языка и литературы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Колпакова М.Ю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МБОУ г. Мурманска                             Мурманский международный лицей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2010 г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2-02-24T17:08:5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