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70B4-96FC-4B2C-8CD4-2193E9762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7AFE-2C33-414E-A835-E50E1379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A58C-0F45-4785-BA08-55B0BEA7F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E70F-FABD-4F4F-9FFA-36C7F3B08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34995-3D24-4659-AB93-0323DA38A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F3BBA-078C-490D-80E4-7126647E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A3B6-17FB-40A3-9F63-82713425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A03C-A683-4BCE-A5AA-DDA4C759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0FDB-8A1D-408D-9A50-86DF100D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A13A-A06E-4E5E-933E-513AC252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A09A-33F6-450E-99FF-7A8B543F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77A9-C171-4728-B4C5-1C4D4F57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26F9-70A3-457A-9488-F9746BD0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74A9-7AC2-464C-88C6-2D286603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CBA0-61CF-40E3-8298-6D3FB7C7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4792-357F-47FF-813C-3770A311E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E7C8-316F-4ECF-BEE7-EC807CC90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327B-46D5-4A85-A6AC-839E9AB4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D2D4-1C04-4966-BCB3-9C6CA2ED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424F-8CB9-47C9-9C1A-BA976792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0DF8-8776-4396-8C07-FCA87CB5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5A91-93CD-43C7-A640-B89EDAEE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46B6-AAAE-430A-A122-820AAAB7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84AF-BA9C-4EE0-A362-CE409C21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B10B-8F62-4863-A6C0-91E5D2ACAEB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0A1A-4C3C-4C7D-9A19-C1E1A476BCC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упповая характеристика геро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ота над черновиком соч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2209680" y="838080"/>
            <a:ext cx="6248520" cy="271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очинение по рассказу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.С. Тургенева «Бежин луг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99" name="Picture 6" descr="беж5"/>
          <p:cNvPicPr/>
          <p:nvPr/>
        </p:nvPicPr>
        <p:blipFill>
          <a:blip r:embed="rId1"/>
          <a:stretch/>
        </p:blipFill>
        <p:spPr>
          <a:xfrm>
            <a:off x="304920" y="457200"/>
            <a:ext cx="1698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Рекомендаци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товясь к сочинению, внимательно прочитайте произведение, отметьте в нём важное и интерес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думайте тему сочинения, составьте пл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ерите рабочие материалы по плану (цитаты из текста, свои рассуждения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ишите основную часть. Будьте последовательны и логичны. Рассуждайте, а не пересказывайте тек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ожения стройте правильно. Чётко и ясно излагайте мыс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думайте вступление и заключение к сочинению. Если нужно, подберите эпигра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рьте цитаты по тексту произ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новик внимательно прочитайте, исправьте ошиб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ьзуйтесь орфографическим словарё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чинение пишите чётким, разборчивым, красивым почер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Вступление к сочинению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8840" y="213336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ерои расска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.С. Тургенева «Беж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уг» - это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еде, старшему из ни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ет, а само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ладшему, Ване, 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761760" y="2209320"/>
            <a:ext cx="38098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упление-это начало сочинения, в котором автор называет произведение, обосновывает тему и формулирует основной тезис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упление занимает   1/6 – ¼ часть все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беж12"/>
          <p:cNvPicPr/>
          <p:nvPr/>
        </p:nvPicPr>
        <p:blipFill>
          <a:blip r:embed="rId1"/>
          <a:stretch/>
        </p:blipFill>
        <p:spPr>
          <a:xfrm>
            <a:off x="2209680" y="5029200"/>
            <a:ext cx="2362320" cy="1549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беж10"/>
          <p:cNvPicPr/>
          <p:nvPr/>
        </p:nvPicPr>
        <p:blipFill>
          <a:blip r:embed="rId2"/>
          <a:stretch/>
        </p:blipFill>
        <p:spPr>
          <a:xfrm>
            <a:off x="838080" y="228600"/>
            <a:ext cx="15354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Основная часть сочинения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сновной части сочинения раскрывается тема и доказывается основной тези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рупповой характеристике героев нельзя писать о каждом мальчике отдель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герои характеризуются по сходным признакам. Например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ортре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одежд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оведен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черты характера и поступки, в которых они раскрывают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отношение автора к геро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6560" y="2057400"/>
            <a:ext cx="3809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се предложения в рассуждении связаны между соб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Федя - стройный мальчик с … волосами, …глазами и …улыбкой. А у Павлуши волосы…, рот…, лицо… Лицо же Илюши кажется …, волосы … Павлу и Илье по … лет. Десятилетний Костя …роста, лицо у него … У Вани же автор отмечает … головку, …личико, …гл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33160" y="1676160"/>
            <a:ext cx="3809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ссказчик также обратил внимание на одежду детей. У Феди она новенькая, аккуратная, а Павлуша одет…. У Илюши были … лапти, …свитка  и … шапочка, Костя одет довольно … По одежде видно, что достаток в крестьянских семьях был раз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хотника больше всего привлекают рассказы мальчиков о всякой нечистой силе: …, …, …, … Былички-поверья открывают мир, который окружает ребят. С одной стороны, в крестьянской среде царит невежество, поэтому объяснить некоторые природные явления дети не могут. С другой стороны, былички очень поэтичны. Они говорят о том, что деревенские мальчики обладают ярким воображением, умеют интересно рассказывать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13"/>
          <p:cNvPicPr/>
          <p:nvPr/>
        </p:nvPicPr>
        <p:blipFill>
          <a:blip r:embed="rId1"/>
          <a:stretch/>
        </p:blipFill>
        <p:spPr>
          <a:xfrm>
            <a:off x="2514600" y="4343400"/>
            <a:ext cx="18493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Собственные рассуждения </a:t>
            </a:r>
            <a:br>
              <a:rPr sz="3800"/>
            </a:b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в сочинен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ажно отметить, что в каждом из мальчиков автор подмечает что-то хорош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Фед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авлуш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ст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люш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аня глубоко поэтичен, любит природу. Он отвлё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альчиков от рассказов о страшном и приковал 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нимание к красоте звёздного неба. Да, все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альчиков восхищает летняя ночь, все горяч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юбят прир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беж15"/>
          <p:cNvPicPr/>
          <p:nvPr/>
        </p:nvPicPr>
        <p:blipFill>
          <a:blip r:embed="rId1"/>
          <a:stretch/>
        </p:blipFill>
        <p:spPr>
          <a:xfrm>
            <a:off x="5638680" y="2286000"/>
            <a:ext cx="29718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182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ывод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лючительная часть сочинения, в которой подводится итог сказанн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выводе можно  отметить точку зрения автора или высказать собственное отношение к теме, проблеме, геро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од составляет ¼- 1/6 часть всей работы и оформляется в одном абза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76560" y="24382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ы можем сдел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ывод, что в крестьянски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етях из рассказа «Беж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уг» отразились лучш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ерты русского народ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юбознательно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мелость, поэтичность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ван Сергеевич Тургене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носится к своим героям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А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беж7"/>
          <p:cNvPicPr/>
          <p:nvPr/>
        </p:nvPicPr>
        <p:blipFill>
          <a:blip r:embed="rId1"/>
          <a:stretch/>
        </p:blipFill>
        <p:spPr>
          <a:xfrm>
            <a:off x="4800600" y="228600"/>
            <a:ext cx="1322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90560" y="22824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ПОМНИТЕ !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новик надо внимательно провер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менее 3 ра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тая, отметить логические неточности и нарушения порядка рассужд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ледить за речевым оформлением работы. Исправить речевые ошибки (повторы, слова в несвойственных значениях, неудачное употребление слов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ить  грамотность, пользуясь орфографическим словарём и справочником с прави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490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Автор: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учитель русского языка и литературы</a:t>
            </a: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Колпакова М.Ю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МБОУ г. Мурманска                             Мурманский международный лицей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2010 год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ша</cp:lastModifiedBy>
  <dcterms:modified xsi:type="dcterms:W3CDTF">2012-02-24T17:08:5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