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18D-3F0E-456B-96C2-BD56C4D6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252-79DB-40F6-99AB-B108F254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362-74C6-498B-9846-1DF913A9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F15-4C6E-4AA9-B302-A4824991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41C2-C971-455E-BFFE-D9A84D3F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AB6B-33B5-4A92-9A6D-F9A1D415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A95F-8BC9-44AA-A92A-0E602CE1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C5EF-028E-4E7C-96C2-3BA87252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3294-DE36-4B27-B18D-0C3B767B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5740-95E2-439B-B5EB-AB54BA65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BF52-AB7E-45E0-9521-0E5BDBF7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CCF5-7B2C-4A75-B6DF-2FB6AE1A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D1B9-024C-48E0-9677-1D089BA8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1509-6A8A-44A9-A24F-9F3EB28D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194A-530D-4259-8FE9-90570279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44DD-40C3-472F-BDB2-A9889ABB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5904-68C8-4C51-9B44-682582CA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A5D-30FE-4150-8E7C-417024E4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E82-A18C-45B3-BA67-76E67D95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35DF-66D6-44C5-B91B-D04E98BD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426-CC49-4112-86EF-A4FBC20D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F9AF-5D0A-4AAA-8741-E971F376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811-8193-49C6-8CA2-3B97F13D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1F0D-D187-478C-93FA-2DE604C1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1A92-D3B4-4164-BD85-146703E538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89D3-56D7-4681-A790-5649B06EA8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характеристика геро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над черновиком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209680" y="838080"/>
            <a:ext cx="6248520" cy="27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чинение по рассказ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.С. Тургенева «Бежин луг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9" name="Picture 6" descr="беж5"/>
          <p:cNvPicPr/>
          <p:nvPr/>
        </p:nvPicPr>
        <p:blipFill>
          <a:blip r:embed="rId1"/>
          <a:stretch/>
        </p:blipFill>
        <p:spPr>
          <a:xfrm>
            <a:off x="304920" y="457200"/>
            <a:ext cx="169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коменд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товясь к сочинению, внимательно прочитайте произведение, отметьте в нём важное и интере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думайте тему сочинения, составьте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ерите рабочие материалы по плану (цитаты из текста, свои рассужд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основную часть. Будьте последовательны и логичны. Рассуждайте, а не пересказывайте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я стройте правильно. Чётко и ясно излагайт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майте вступление и заключение к сочинению. Если нужно, подберите эпигра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цитаты по тексту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овик внимательно прочитайте, исправьт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йтесь орфографическим словар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е пишите чётким, разборчивым, крас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ступление к сочинени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8840" y="21333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рои расск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С. Тургенева «Беж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г» - это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е, старшему из н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, а сам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ладшему, Ване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61760" y="2209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-это начало сочинения, в котором автор называет произведение, обосновывает тему и формулирует основной тезис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 занимает   1/6 – ¼ часть вс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беж12"/>
          <p:cNvPicPr/>
          <p:nvPr/>
        </p:nvPicPr>
        <p:blipFill>
          <a:blip r:embed="rId1"/>
          <a:stretch/>
        </p:blipFill>
        <p:spPr>
          <a:xfrm>
            <a:off x="2209680" y="5029200"/>
            <a:ext cx="2362320" cy="154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беж10"/>
          <p:cNvPicPr/>
          <p:nvPr/>
        </p:nvPicPr>
        <p:blipFill>
          <a:blip r:embed="rId2"/>
          <a:stretch/>
        </p:blipFill>
        <p:spPr>
          <a:xfrm>
            <a:off x="838080" y="228600"/>
            <a:ext cx="1535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сновная часть сочин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очинения раскрывается тема и доказывается основной тез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упповой характеристике героев нельзя писать о каждом мальчике отд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герои характеризуются по сходным признакам. 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ртр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деж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вед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ты характера и поступки, в которых они раскрыва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тношение автора к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 предложения в рассуждении связаны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едя - стройный мальчик с … волосами, …глазами и …улыбкой. А у Павлуши волосы…, рот…, лицо… Лицо же Илюши кажется …, волосы … Павлу и Илье по … лет. Десятилетний Костя …роста, лицо у него … У Вани же автор отмечает … головку, …личико, …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сказчик также обратил внимание на одежду детей. У Феди она новенькая, аккуратная, а Павлуша одет…. У Илюши были … лапти, …свитка  и … шапочка, Костя одет довольно … По одежде видно, что достаток в крестьянских семьях был раз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хотника больше всего привлекают рассказы мальчиков о всякой нечистой силе: …, …, …, … Былички-поверья открывают мир, который окружает ребят. С одной стороны, в крестьянской среде царит невежество, поэтому объяснить некоторые природные явления дети не могут. С другой стороны, былички очень поэтичны. Они говорят о том, что деревенские мальчики обладают ярким воображением, умеют интересно рассказывать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13"/>
          <p:cNvPicPr/>
          <p:nvPr/>
        </p:nvPicPr>
        <p:blipFill>
          <a:blip r:embed="rId1"/>
          <a:stretch/>
        </p:blipFill>
        <p:spPr>
          <a:xfrm>
            <a:off x="2514600" y="4343400"/>
            <a:ext cx="18493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бственные рассуждения 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 сочинен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жно отметить, что в каждом из мальчиков автор подмечает что-то хорош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влу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т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ю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ня глубоко поэтичен, любит природу. Он отв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от рассказов о страшном и приковал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имание к красоте звёздного неба. Да, вс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восхищает летняя ночь, все горяч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бят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беж15"/>
          <p:cNvPicPr/>
          <p:nvPr/>
        </p:nvPicPr>
        <p:blipFill>
          <a:blip r:embed="rId1"/>
          <a:stretch/>
        </p:blipFill>
        <p:spPr>
          <a:xfrm>
            <a:off x="5638680" y="2286000"/>
            <a:ext cx="2971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ая часть сочинения, в которой подводится итог сказан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ыводе можно  отметить точку зрения автора или высказать собственное отношение к теме, проблеме, геро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 составляет ¼- 1/6 часть всей работы и оформляется в одном абза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765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 можем с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вод, что в крестьян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тях из рассказа «Беж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уг» отразились лучш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рты русского нар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юбозна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мелость, поэтичность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ван Сергеевич Турген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ится к своим героя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беж7"/>
          <p:cNvPicPr/>
          <p:nvPr/>
        </p:nvPicPr>
        <p:blipFill>
          <a:blip r:embed="rId1"/>
          <a:stretch/>
        </p:blipFill>
        <p:spPr>
          <a:xfrm>
            <a:off x="4800600" y="228600"/>
            <a:ext cx="1322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ОМНИТЕ 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ик надо внимательно прове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3 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я, отметить логические неточности и нарушения порядка рас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едить за речевым оформлением работы. Исправить речевые ошибки (повторы, слова в несвойственных значениях, неудачное употребление сл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ить  грамотность, пользуясь орфографическим словарём и справочником с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9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Автор: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учитель русского языка и литературы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Колпакова М.Ю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МБОУ г. Мурманска                             Мурманский международный лицей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2010 г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2-02-24T17:08:5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