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BF67-C6E9-4BA9-9421-6E1D996A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0B51-167A-43C1-82AD-985BFE12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C73C-5A99-49A5-9AFF-EE5AA791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A191-390C-4CA2-A3AC-D3829217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DC04-BE1C-4949-AC02-D670538A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0B53-F618-4418-AA58-CB2D62E9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E7EE-C320-4C30-86C1-1457155E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552D-9E2A-4B20-B9BC-6B9B6788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971B-88BA-47E3-9B7B-6DC60F74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2559-4447-470B-BCFF-6964DDC5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A49A-C060-4EC5-B956-52761AF5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2DFF-6311-4AFB-9F15-3FA592DD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49C6-61E3-497B-B306-BA50857F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BB5F-D620-40BC-A6BD-8AA44B2E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9CDC-5A9E-4D2F-ABCB-939F0695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0E79-B982-4A6D-9C34-5346E030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2BC8-4084-4A4A-B3EB-A05EAE7F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EEB7-DF8D-4DAA-A0ED-1424FBB8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1304-6B7D-4B51-9E8F-5046033C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10A5-C1B8-4971-ADBB-FCFE6482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E6C9-90FD-498C-A866-6C28AF89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B6C6-0B76-43B2-9D55-B7B2C4F0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1458-0387-4738-8641-DCF7C6F4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B3F2-FD15-40C5-B7F6-1A9FF5BE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7927-B5F3-4AD2-B899-FEBCE6CCF8B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D65E-0C31-49ED-AFC0-6F4C7D9592A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овая характеристика геро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над черновиком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2209680" y="838080"/>
            <a:ext cx="6248520" cy="271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чинение по рассказу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.С. Тургенева «Бежин луг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9" name="Picture 6" descr="беж5"/>
          <p:cNvPicPr/>
          <p:nvPr/>
        </p:nvPicPr>
        <p:blipFill>
          <a:blip r:embed="rId1"/>
          <a:stretch/>
        </p:blipFill>
        <p:spPr>
          <a:xfrm>
            <a:off x="304920" y="457200"/>
            <a:ext cx="1698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Рекоменда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товясь к сочинению, внимательно прочитайте произведение, отметьте в нём важное и интерес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думайте тему сочинения, составьте пл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ерите рабочие материалы по плану (цитаты из текста, свои рассужден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основную часть. Будьте последовательны и логичны. Рассуждайте, а не пересказывайте тек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ия стройте правильно. Чётко и ясно излагайте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умайте вступление и заключение к сочинению. Если нужно, подберите эпигра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цитаты по тексту произ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новик внимательно прочитайте, исправьте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ьзуйтесь орфографическим словар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инение пишите чётким, разборчивым, красивым почер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ступление к сочинению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8840" y="213336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ерои расск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.С. Тургенева «Беж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уг» - это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еде, старшему из ни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т, а сам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ладшему, Ване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61760" y="2209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-это начало сочинения, в котором автор называет произведение, обосновывает тему и формулирует основной тезис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 занимает   1/6 – ¼ часть все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беж12"/>
          <p:cNvPicPr/>
          <p:nvPr/>
        </p:nvPicPr>
        <p:blipFill>
          <a:blip r:embed="rId1"/>
          <a:stretch/>
        </p:blipFill>
        <p:spPr>
          <a:xfrm>
            <a:off x="2209680" y="5029200"/>
            <a:ext cx="2362320" cy="1549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беж10"/>
          <p:cNvPicPr/>
          <p:nvPr/>
        </p:nvPicPr>
        <p:blipFill>
          <a:blip r:embed="rId2"/>
          <a:stretch/>
        </p:blipFill>
        <p:spPr>
          <a:xfrm>
            <a:off x="838080" y="228600"/>
            <a:ext cx="1535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Основная часть сочин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очинения раскрывается тема и доказывается основной тез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упповой характеристике героев нельзя писать о каждом мальчике отд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герои характеризуются по сходным признакам. Наприме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ртр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деж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вед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черты характера и поступки, в которых они раскрываю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тношение автора к геро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20574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се предложения в рассуждении связаны между соб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едя - стройный мальчик с … волосами, …глазами и …улыбкой. А у Павлуши волосы…, рот…, лицо… Лицо же Илюши кажется …, волосы … Павлу и Илье по … лет. Десятилетний Костя …роста, лицо у него … У Вани же автор отмечает … головку, …личико, …гл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сказчик также обратил внимание на одежду детей. У Феди она новенькая, аккуратная, а Павлуша одет…. У Илюши были … лапти, …свитка  и … шапочка, Костя одет довольно … По одежде видно, что достаток в крестьянских семьях был раз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хотника больше всего привлекают рассказы мальчиков о всякой нечистой силе: …, …, …, … Былички-поверья открывают мир, который окружает ребят. С одной стороны, в крестьянской среде царит невежество, поэтому объяснить некоторые природные явления дети не могут. С другой стороны, былички очень поэтичны. Они говорят о том, что деревенские мальчики обладают ярким воображением, умеют интересно рассказывать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13"/>
          <p:cNvPicPr/>
          <p:nvPr/>
        </p:nvPicPr>
        <p:blipFill>
          <a:blip r:embed="rId1"/>
          <a:stretch/>
        </p:blipFill>
        <p:spPr>
          <a:xfrm>
            <a:off x="2514600" y="4343400"/>
            <a:ext cx="18493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Собственные рассуждения </a:t>
            </a: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 сочинен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жно отметить, что в каждом из мальчиков автор подмечает что-то хорош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ед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влуш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ст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юш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ня глубоко поэтичен, любит природу. Он отвлё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льчиков от рассказов о страшном и приковал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нимание к красоте звёздного неба. Да, все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льчиков восхищает летняя ночь, все горяч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юбят при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беж15"/>
          <p:cNvPicPr/>
          <p:nvPr/>
        </p:nvPicPr>
        <p:blipFill>
          <a:blip r:embed="rId1"/>
          <a:stretch/>
        </p:blipFill>
        <p:spPr>
          <a:xfrm>
            <a:off x="5638680" y="2286000"/>
            <a:ext cx="29718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ая часть сочинения, в которой подводится итог сказанн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ыводе можно  отметить точку зрения автора или высказать собственное отношение к теме, проблеме, геро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 составляет ¼- 1/6 часть всей работы и оформляется в одном абза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76560" y="24382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ы можем сдел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вод, что в крестьян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тях из рассказа «Беж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уг» отразились лучш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рты русского наро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юбознательн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мелость, поэтичность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ван Сергеевич Турген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ится к своим героям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беж7"/>
          <p:cNvPicPr/>
          <p:nvPr/>
        </p:nvPicPr>
        <p:blipFill>
          <a:blip r:embed="rId1"/>
          <a:stretch/>
        </p:blipFill>
        <p:spPr>
          <a:xfrm>
            <a:off x="4800600" y="228600"/>
            <a:ext cx="1322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90560" y="2282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ОМНИТЕ 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овик надо внимательно прове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енее 3 ра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я, отметить логические неточности и нарушения порядка рассу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ледить за речевым оформлением работы. Исправить речевые ошибки (повторы, слова в несвойственных значениях, неудачное употребление слов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ить  грамотность, пользуясь орфографическим словарём и справочником с прави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490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Автор: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учитель русского языка и литературы</a:t>
            </a: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Колпакова М.Ю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МБОУ г. Мурманска                             Мурманский международный лицей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2010 год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2-02-24T17:08:5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