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869-9B6C-41A9-ADE6-9BCF557F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AC1A-9F96-48F4-A8FF-E37870C2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9E5-AD60-459F-AEF2-E3434157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6D76-64C8-465C-8FEA-80FFFF9A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C0FB-85F0-4D58-B749-FF8708A7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03E5-C3EB-4B1B-B0AB-35A12D04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AB30-A81B-4F64-843E-81CBB54F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E281-2CE4-4A9E-A088-E7A2B3C5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207C-DE0C-4E18-8AB5-65D0CFD8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A863-D5D1-4852-8285-37CC9A52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9CF1-CE9D-4228-922A-1B48DCD7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C33-0389-4062-B948-9D0762F5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0F18-E7A1-4854-A285-A44B64CD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2202-EBEB-49B8-9DBF-76F19027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E383-F06D-4106-BB7A-81436EB9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830C-DF66-460B-A816-7E1DCC88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D87F-6B72-41BB-9C22-ECC59F91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A12-597B-4D42-97D9-A2BFCE65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661-5924-4C59-9851-9EE4B72A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27F1-8E6C-46C1-A2C9-22DC3C8D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57D-7DCA-4A25-845F-1562C88F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BC75-9FD2-4047-B52E-BDE24630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DE7C-9806-4C09-99BE-F77A9CDA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BF09-4EEE-493A-8FD6-278F0ACA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0196-F7C8-4A49-8A9B-BB06F7FFA4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AFEF-AA29-46FA-B731-08303A569A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ая характеристика геро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над черновиком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209680" y="838080"/>
            <a:ext cx="6248520" cy="27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чинение по рассказ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.С. Тургенева «Бежин луг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9" name="Picture 6" descr="беж5"/>
          <p:cNvPicPr/>
          <p:nvPr/>
        </p:nvPicPr>
        <p:blipFill>
          <a:blip r:embed="rId1"/>
          <a:stretch/>
        </p:blipFill>
        <p:spPr>
          <a:xfrm>
            <a:off x="304920" y="457200"/>
            <a:ext cx="169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екоменда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товясь к сочинению, внимательно прочитайте произведение, отметьте в нём важное и интерес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думайте тему сочинения, составьте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ерите рабочие материалы по плану (цитаты из текста, свои рассужде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основную часть. Будьте последовательны и логичны. Рассуждайте, а не пересказывайте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я стройте правильно. Чётко и ясно излагайте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майте вступление и заключение к сочинению. Если нужно, подберите эпигра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цитаты по тексту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овик внимательно прочитайте, исправьт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уйтесь орфографическим словар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е пишите чётким, разборчивым, крас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ступление к сочинению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8840" y="21333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рои расск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.С. Тургенева «Беж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г» - это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е, старшему из н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, а сам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ладшему, Ване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61760" y="2209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-это начало сочинения, в котором автор называет произведение, обосновывает тему и формулирует основной тезис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 занимает   1/6 – ¼ часть вс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беж12"/>
          <p:cNvPicPr/>
          <p:nvPr/>
        </p:nvPicPr>
        <p:blipFill>
          <a:blip r:embed="rId1"/>
          <a:stretch/>
        </p:blipFill>
        <p:spPr>
          <a:xfrm>
            <a:off x="2209680" y="5029200"/>
            <a:ext cx="2362320" cy="154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беж10"/>
          <p:cNvPicPr/>
          <p:nvPr/>
        </p:nvPicPr>
        <p:blipFill>
          <a:blip r:embed="rId2"/>
          <a:stretch/>
        </p:blipFill>
        <p:spPr>
          <a:xfrm>
            <a:off x="838080" y="228600"/>
            <a:ext cx="1535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Основная часть сочин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очинения раскрывается тема и доказывается основной тез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упповой характеристике героев нельзя писать о каждом мальчике отд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герои характеризуются по сходным признакам. Наприме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ртр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деж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вед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ты характера и поступки, в которых они раскрываю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тношение автора к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20574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 предложения в рассуждении связаны между соб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едя - стройный мальчик с … волосами, …глазами и …улыбкой. А у Павлуши волосы…, рот…, лицо… Лицо же Илюши кажется …, волосы … Павлу и Илье по … лет. Десятилетний Костя …роста, лицо у него … У Вани же автор отмечает … головку, …личико, …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сказчик также обратил внимание на одежду детей. У Феди она новенькая, аккуратная, а Павлуша одет…. У Илюши были … лапти, …свитка  и … шапочка, Костя одет довольно … По одежде видно, что достаток в крестьянских семьях был раз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хотника больше всего привлекают рассказы мальчиков о всякой нечистой силе: …, …, …, … Былички-поверья открывают мир, который окружает ребят. С одной стороны, в крестьянской среде царит невежество, поэтому объяснить некоторые природные явления дети не могут. С другой стороны, былички очень поэтичны. Они говорят о том, что деревенские мальчики обладают ярким воображением, умеют интересно рассказывать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13"/>
          <p:cNvPicPr/>
          <p:nvPr/>
        </p:nvPicPr>
        <p:blipFill>
          <a:blip r:embed="rId1"/>
          <a:stretch/>
        </p:blipFill>
        <p:spPr>
          <a:xfrm>
            <a:off x="2514600" y="4343400"/>
            <a:ext cx="18493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бственные рассуждения 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 сочинен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жно отметить, что в каждом из мальчиков автор подмечает что-то хорош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влу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т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ю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ня глубоко поэтичен, любит природу. Он отв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от рассказов о страшном и приковал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нимание к красоте звёздного неба. Да, все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восхищает летняя ночь, все горяч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юбят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беж15"/>
          <p:cNvPicPr/>
          <p:nvPr/>
        </p:nvPicPr>
        <p:blipFill>
          <a:blip r:embed="rId1"/>
          <a:stretch/>
        </p:blipFill>
        <p:spPr>
          <a:xfrm>
            <a:off x="5638680" y="2286000"/>
            <a:ext cx="2971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ая часть сочинения, в которой подводится итог сказан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ыводе можно  отметить точку зрения автора или высказать собственное отношение к теме, проблеме, геро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 составляет ¼- 1/6 часть всей работы и оформляется в одном абза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7656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ы можем сдел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вод, что в крестьян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тях из рассказа «Беж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уг» отразились лучш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рты русского наро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юбознатель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мелость, поэтичность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ван Сергеевич Турген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ится к своим героя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беж7"/>
          <p:cNvPicPr/>
          <p:nvPr/>
        </p:nvPicPr>
        <p:blipFill>
          <a:blip r:embed="rId1"/>
          <a:stretch/>
        </p:blipFill>
        <p:spPr>
          <a:xfrm>
            <a:off x="4800600" y="228600"/>
            <a:ext cx="1322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ОМНИТЕ 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вик надо внимательно прове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3 р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я, отметить логические неточности и нарушения порядка рассу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ледить за речевым оформлением работы. Исправить речевые ошибки (повторы, слова в несвойственных значениях, неудачное употребление сл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ить  грамотность, пользуясь орфографическим словарём и справочником с прав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9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Автор: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учитель русского языка и литературы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Колпакова М.Ю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МБОУ г. Мурманска                             Мурманский международный лицей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2010 г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2-02-24T17:08:5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