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E044-5212-4919-A8C8-A80185F2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C97C-95E9-49A2-B7C9-895B3BB0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F7DF-1C6E-41FC-B8E8-5C5D44B2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11DF-2323-448D-AE41-93D294DB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DFE7-DC10-4E20-B981-882575FD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5740-A225-47D3-A01A-4A423A18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D74D-666C-49D0-B43A-46A35AA8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B07B-FE8D-4204-BE3A-C97EAB61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9AA3-02CF-4EA5-99FF-82E6F9B9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859C-A7F7-4AA7-94BC-EA469FAB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1E03-2C30-4C54-8B3D-BCBAA07B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CAEE-9344-42D3-8506-77DE48B1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C856-5B18-4613-8275-97C71EAE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373A-F662-4222-9644-6B4E3516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4AC9-E9B1-4625-A7E7-1E75F114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182D-3F47-4739-B0A0-8F32CE85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7FF1-3CAC-4630-A230-DBA2D94D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1492-CB37-4A5B-8B68-72047D58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42A9-42AC-49D9-886A-5FF4EA72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B8C7-C417-4952-8F85-250E6FD6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567C-51F8-42B7-B18D-6AE4F566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74D1-21F2-4E26-A1EB-E3B1BFCC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572E-D8C0-445D-AD85-2096DA8A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32A-4356-4BEE-8BAB-235CFE95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6F72-AC5A-4DB8-B195-2D5B1212D5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3100-4266-480F-9240-E1D1250784E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овая характеристика геро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над черновиком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209680" y="838080"/>
            <a:ext cx="6248520" cy="271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чинение по рассказ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.С. Тургенева «Бежин луг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9" name="Picture 6" descr="беж5"/>
          <p:cNvPicPr/>
          <p:nvPr/>
        </p:nvPicPr>
        <p:blipFill>
          <a:blip r:embed="rId1"/>
          <a:stretch/>
        </p:blipFill>
        <p:spPr>
          <a:xfrm>
            <a:off x="304920" y="457200"/>
            <a:ext cx="169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Рекоменда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товясь к сочинению, внимательно прочитайте произведение, отметьте в нём важное и интерес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думайте тему сочинения, составьте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ерите рабочие материалы по плану (цитаты из текста, свои рассужден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основную часть. Будьте последовательны и логичны. Рассуждайте, а не пересказывайте тек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я стройте правильно. Чётко и ясно излагайте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майте вступление и заключение к сочинению. Если нужно, подберите эпигра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цитаты по тексту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новик внимательно прочитайте, исправьт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уйтесь орфографическим словар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ение пишите чётким, разборчивым, красивым почер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ступление к сочинению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8840" y="213336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ерои расск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.С. Тургенева «Беж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уг» - это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е, старшему из ни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, а сам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ладшему, Ване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61760" y="2209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-это начало сочинения, в котором автор называет произведение, обосновывает тему и формулирует основной тезис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 занимает   1/6 – ¼ часть все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беж12"/>
          <p:cNvPicPr/>
          <p:nvPr/>
        </p:nvPicPr>
        <p:blipFill>
          <a:blip r:embed="rId1"/>
          <a:stretch/>
        </p:blipFill>
        <p:spPr>
          <a:xfrm>
            <a:off x="2209680" y="5029200"/>
            <a:ext cx="2362320" cy="1549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беж10"/>
          <p:cNvPicPr/>
          <p:nvPr/>
        </p:nvPicPr>
        <p:blipFill>
          <a:blip r:embed="rId2"/>
          <a:stretch/>
        </p:blipFill>
        <p:spPr>
          <a:xfrm>
            <a:off x="838080" y="228600"/>
            <a:ext cx="1535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Основная часть сочин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очинения раскрывается тема и доказывается основной тез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упповой характеристике героев нельзя писать о каждом мальчике отд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герои характеризуются по сходным признакам. Наприме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ртр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деж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вед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ерты характера и поступки, в которых они раскрываю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тношение автора к геро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20574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е предложения в рассуждении связаны между соб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едя - стройный мальчик с … волосами, …глазами и …улыбкой. А у Павлуши волосы…, рот…, лицо… Лицо же Илюши кажется …, волосы … Павлу и Илье по … лет. Десятилетний Костя …роста, лицо у него … У Вани же автор отмечает … головку, …личико, …гл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сказчик также обратил внимание на одежду детей. У Феди она новенькая, аккуратная, а Павлуша одет…. У Илюши были … лапти, …свитка  и … шапочка, Костя одет довольно … По одежде видно, что достаток в крестьянских семьях был раз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хотника больше всего привлекают рассказы мальчиков о всякой нечистой силе: …, …, …, … Былички-поверья открывают мир, который окружает ребят. С одной стороны, в крестьянской среде царит невежество, поэтому объяснить некоторые природные явления дети не могут. С другой стороны, былички очень поэтичны. Они говорят о том, что деревенские мальчики обладают ярким воображением, умеют интересно рассказывать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13"/>
          <p:cNvPicPr/>
          <p:nvPr/>
        </p:nvPicPr>
        <p:blipFill>
          <a:blip r:embed="rId1"/>
          <a:stretch/>
        </p:blipFill>
        <p:spPr>
          <a:xfrm>
            <a:off x="2514600" y="4343400"/>
            <a:ext cx="18493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обственные рассуждения 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 сочинен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жно отметить, что в каждом из мальчиков автор подмечает что-то хорош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влу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ст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ю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ня глубоко поэтичен, любит природу. Он отвл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от рассказов о страшном и приковал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нимание к красоте звёздного неба. Да, все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восхищает летняя ночь, все горяч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юбят при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беж15"/>
          <p:cNvPicPr/>
          <p:nvPr/>
        </p:nvPicPr>
        <p:blipFill>
          <a:blip r:embed="rId1"/>
          <a:stretch/>
        </p:blipFill>
        <p:spPr>
          <a:xfrm>
            <a:off x="5638680" y="2286000"/>
            <a:ext cx="29718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ая часть сочинения, в которой подводится итог сказан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ыводе можно  отметить точку зрения автора или высказать собственное отношение к теме, проблеме, геро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 составляет ¼- 1/6 часть всей работы и оформляется в одном абза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76560" y="24382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ы можем сдел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вод, что в крестьян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тях из рассказа «Беж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уг» отразились лучш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рты русского наро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юбознатель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мелость, поэтичность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ван Сергеевич Турген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ится к своим героям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беж7"/>
          <p:cNvPicPr/>
          <p:nvPr/>
        </p:nvPicPr>
        <p:blipFill>
          <a:blip r:embed="rId1"/>
          <a:stretch/>
        </p:blipFill>
        <p:spPr>
          <a:xfrm>
            <a:off x="4800600" y="228600"/>
            <a:ext cx="1322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0560" y="2282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ОМНИТЕ 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овик надо внимательно прове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енее 3 ра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я, отметить логические неточности и нарушения порядка рассу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ледить за речевым оформлением работы. Исправить речевые ошибки (повторы, слова в несвойственных значениях, неудачное употребление слов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ить  грамотность, пользуясь орфографическим словарём и справочником с прав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90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Автор: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учитель русского языка и литературы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Колпакова М.Ю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МБОУ г. Мурманска                             Мурманский международный лицей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2010 год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2-02-24T17:08:5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