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C97-2ED7-447C-9C18-DC28EBED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DA7-1B40-4D42-8BA9-AF50233B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0058-8407-4B04-A7F1-E33C56CE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B4B-48C9-4A19-9C79-66B66F22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3FE-E647-44D6-A652-783C179C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1D9-B8B2-4E8E-9293-EEC784A3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CA9-70AA-40C6-9F7F-8C2388A5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DF9-64A2-48C7-A099-A372BF30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AD0-34F4-4802-A876-C159A708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6B7-9EED-4FDB-A043-BDB6494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D14-6057-4B1C-AFD6-04CB3C1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412-3D21-4BFB-9D22-D895B33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6B60-68F2-4B21-BAFF-8195EFD0B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Церковный Собор 1654 года (Патриарх Никон представляет новые богослужебные тексты)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Заголовок 1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В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ласть и церковь.</a:t>
            </a: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Arial"/>
              </a:rPr>
              <a:t>Церковный раскол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резентация учител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ГБОУ СОШ № 512 Невского района г.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Субботиной Натальи Игоре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360" y="6237000"/>
            <a:ext cx="46260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9" name=""/>
          <p:cNvSpPr txBox="1"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6"/>
          <p:cNvCxnSpPr/>
          <p:nvPr/>
        </p:nvCxnSpPr>
        <p:spPr>
          <a:xfrm>
            <a:off x="7164000" y="2565360"/>
            <a:ext cx="108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2" name="Прямоугольник 8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7" name="Прямоугольник 4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996480" y="630612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&amp;Icy;&amp;zcy;&amp;ocy;&amp;bcy;&amp;rcy;&amp;acy;&amp;zhcy;&amp;iecy;&amp;ncy;&amp;icy;&amp;iecy;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102" name="Прямоугольник 2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685800"/>
            <a:ext cx="7467840" cy="3124080"/>
          </a:xfrm>
          <a:prstGeom prst="downArrowCallout">
            <a:avLst>
              <a:gd name="adj1" fmla="val 59766"/>
              <a:gd name="adj2" fmla="val 59760"/>
              <a:gd name="adj3" fmla="val 16667"/>
              <a:gd name="adj4" fmla="val 6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28600" y="3657600"/>
            <a:ext cx="8686800" cy="2819520"/>
          </a:xfrm>
          <a:prstGeom prst="horizontalScroll">
            <a:avLst>
              <a:gd name="adj" fmla="val 12500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§ 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7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, р/т № 1-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стр.</a:t>
            </a:r>
            <a:r>
              <a:rPr b="1" lang="en-US" sz="4800" spc="-1" strike="noStrike">
                <a:solidFill>
                  <a:srgbClr val="000099"/>
                </a:solidFill>
                <a:latin typeface="Calibri"/>
              </a:rPr>
              <a:t> 22-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2280" y="270000"/>
            <a:ext cx="8763120" cy="8366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Источники и интернет-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152280" y="1473120"/>
            <a:ext cx="8763120" cy="404352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стория России. Конец XVI-XVIII век.    7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анилов А.А.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ая тетрадь. Конец XVI-XVIII век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 класс. – М.: Просвещение,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ru.wiki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http://www.leonidzl.com/forum/viewtopic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Видеофильм “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343 Раскол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” - http://files.tvspas.ru/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05840"/>
            <a:ext cx="8856720" cy="7066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00360" y="2781000"/>
            <a:ext cx="4555800" cy="3911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                (п. Игнатий короновал Лжедмитрия I на царств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 стрелкой 5"/>
          <p:cNvCxnSpPr/>
          <p:nvPr/>
        </p:nvCxnSpPr>
        <p:spPr>
          <a:xfrm>
            <a:off x="6617880" y="2349360"/>
            <a:ext cx="1080" cy="49608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48" name="Прямая со стрелкой 6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49" name="Picture 10" descr="http://assets1.lookatme.ru/assets/article_image-image/dd/b0/2446749/article_image-image-article.ba044c69-f763-4a9f-8b86-eeef05149deb.jpg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0" name="Прямоугольник 10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3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3" name="Прямоугольник 5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5" name="Прямоугольник 4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p2.patriarchia.ru/2011/03/04/1233367412/1.jpg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58" name="Прямоугольник 4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le:Novoierusalimsky monastyr 1.jpg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99840"/>
            <a:ext cx="8856720" cy="2260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7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Прямая со стрелкой 9"/>
          <p:cNvCxnSpPr/>
          <p:nvPr/>
        </p:nvCxnSpPr>
        <p:spPr>
          <a:xfrm>
            <a:off x="5157720" y="4723920"/>
            <a:ext cx="720000" cy="2894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7" name="Прямоугольник 12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верх 13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4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4005000"/>
            <a:ext cx="8785440" cy="2692440"/>
          </a:xfrm>
          <a:prstGeom prst="rect">
            <a:avLst/>
          </a:prstGeom>
          <a:noFill/>
          <a:ln w="7632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ичины церковной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к готовили рефор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М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ероприятия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езультаты рефор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удьба патриарха Ник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343 Раскол.avi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chron.eduhmao.ru/img_7_12_0_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5763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8000" y="836280"/>
            <a:ext cx="8928000" cy="34131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0" name="Прямоугольник 3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Прямая со стрелкой 6"/>
          <p:cNvCxnSpPr>
            <a:stCxn id="78" idx="2"/>
          </p:cNvCxnSpPr>
          <p:nvPr/>
        </p:nvCxnSpPr>
        <p:spPr>
          <a:xfrm>
            <a:off x="4571640" y="4249800"/>
            <a:ext cx="1080" cy="475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http://www.peremeny.ru/books/osminog/wp-content/uploads/2009/01/mitrkir2.jpg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w="76320">
            <a:solidFill>
              <a:srgbClr val="c00000"/>
            </a:solidFill>
            <a:miter/>
          </a:ln>
        </p:spPr>
      </p:pic>
      <p:sp>
        <p:nvSpPr>
          <p:cNvPr id="86" name="Прямоугольник 1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10T12:46:15Z</dcterms:modified>
  <cp:revision>25</cp:revision>
  <dc:subject/>
  <dc:title>Презентация PowerPoint</dc:title>
</cp:coreProperties>
</file>