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6C30-D95B-4A81-940A-60FBC2E8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FDE9-9D68-49A6-AD46-6125E739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C250-AEBE-43B5-8925-AD6D2F35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AEF-D0BF-4E19-A4AF-E9C10436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64B5-16FA-43FA-9131-8F89CCE9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AADC-B744-46D6-AD1A-4C27DDF6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EF6B-0D1D-458C-8CB5-E9133153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200D-9CAA-4BA6-AED7-761EA398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FC1B-D908-4F80-83AE-F5D98D64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B3EC-0ACE-4614-8841-45764D7D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BBB-78C2-4666-B30A-5380B294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29A-D8A3-41EB-B2F1-2A3F950A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2BA7-2435-4AC3-A8CB-2D59C508D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Церковный Собор 1654 года (Патриарх Никон представляет новые богослужебные тексты)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Заголовок 1"/>
          <p:cNvSpPr/>
          <p:nvPr/>
        </p:nvSpPr>
        <p:spPr>
          <a:xfrm>
            <a:off x="826920" y="1844640"/>
            <a:ext cx="7772400" cy="2592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  <a:ea typeface="Arial"/>
              </a:rPr>
              <a:t>В</a:t>
            </a: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ласть и церковь.</a:t>
            </a:r>
            <a:br>
              <a:rPr sz="6000"/>
            </a:b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Церковный раско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108000" y="5300640"/>
            <a:ext cx="8928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резентация учител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ГБОУ СОШ № 512 Невского района г.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С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Субботиной Натальи Игоре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360" y="6237000"/>
            <a:ext cx="46260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Суд над патриархом Никоном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(С. Д. Милорадович, 1885 го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22400" y="2817720"/>
            <a:ext cx="4500360" cy="32623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9" name=""/>
          <p:cNvSpPr txBox="1"/>
          <p:nvPr/>
        </p:nvSpPr>
        <p:spPr>
          <a:xfrm>
            <a:off x="122400" y="549360"/>
            <a:ext cx="8913600" cy="2016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Осудил Никона, лишил его сана патриарха и отправил на вечное заточение в монастыр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оддержал церковную рефор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оклял всех ее противников 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старообрядцев-раскольнико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и протопопа Аввакум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4932360" y="3068640"/>
            <a:ext cx="4103640" cy="36734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обор 1666-1667 гг. усугубил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аскол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в Русской православной церк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ыбор в качестве образца для правки греческих источников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елал Москву мировым центром правосла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6"/>
          <p:cNvCxnSpPr/>
          <p:nvPr/>
        </p:nvCxnSpPr>
        <p:spPr>
          <a:xfrm>
            <a:off x="7164000" y="2565360"/>
            <a:ext cx="108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2" name="Прямоугольник 8"/>
          <p:cNvSpPr/>
          <p:nvPr/>
        </p:nvSpPr>
        <p:spPr>
          <a:xfrm>
            <a:off x="179280" y="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66-1667 гг. – церковный соб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400" y="44280"/>
            <a:ext cx="8928000" cy="1152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ротопоп Аввакум (1620-1682) – руководитель старообрядцев, выступил против реформы Ник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86840" cy="53276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276720" y="981000"/>
            <a:ext cx="5651280" cy="5616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Гла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старообрядце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стретил реформы отрицательно, считая первоосновой веры русские источ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Б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ыл сослан в 1653 г. в Сибирь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1663 г. после кратковременного возвращение в Москву был отправлен в Пустозерск, где провел 15 лет  в земляной тюрь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В 1682 г. был сожжен вместе со своими соратниками по царскому приказу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2928960" cy="48974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97" name="Прямоугольник 4"/>
          <p:cNvSpPr/>
          <p:nvPr/>
        </p:nvSpPr>
        <p:spPr>
          <a:xfrm>
            <a:off x="684360" y="115920"/>
            <a:ext cx="7805520" cy="7034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Протопоп Авваку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871120" cy="56880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99" name="Rectangle 3"/>
          <p:cNvSpPr/>
          <p:nvPr/>
        </p:nvSpPr>
        <p:spPr>
          <a:xfrm>
            <a:off x="996480" y="6306120"/>
            <a:ext cx="66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ригорий Мясоедов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"Сожжение протопопа Аввакума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19160" y="101520"/>
            <a:ext cx="8916840" cy="2654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аскольник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(старообрядцы) о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каз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ывались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одчиняться государству, которое поддерживало Никон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казывались платить налоги и выполнять государственные повинност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казывались выполнять повинности в пользу официальной церкв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1127160" y="2963880"/>
            <a:ext cx="6804000" cy="34034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102" name="Прямоугольник 2"/>
          <p:cNvSpPr/>
          <p:nvPr/>
        </p:nvSpPr>
        <p:spPr>
          <a:xfrm>
            <a:off x="460440" y="63579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Суриков В.И. Боярыня Мороз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9280" y="1341360"/>
            <a:ext cx="8856720" cy="5183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Церковь, укрепившая свои позиции после Смуты, попыталась занять господствующее положение в политической системе стр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Однако в условиях усиления самодержавия это привело к конфликту церковной и светской в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оражение церкви в этом столкновении подготовило почву для превращения ее в придаток государственной в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685800"/>
            <a:ext cx="7467840" cy="3124080"/>
          </a:xfrm>
          <a:prstGeom prst="downArrowCallout">
            <a:avLst>
              <a:gd name="adj1" fmla="val 59766"/>
              <a:gd name="adj2" fmla="val 59760"/>
              <a:gd name="adj3" fmla="val 16667"/>
              <a:gd name="adj4" fmla="val 6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Garamond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28600" y="3657600"/>
            <a:ext cx="8686800" cy="2819520"/>
          </a:xfrm>
          <a:prstGeom prst="horizontalScroll">
            <a:avLst>
              <a:gd name="adj" fmla="val 12500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§ 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7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, р/т № 1-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4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 стр.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 22-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152280" y="270000"/>
            <a:ext cx="8763120" cy="8366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Источники и интернет-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152280" y="1473120"/>
            <a:ext cx="8763120" cy="404352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Данилов А.А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стория России. Конец XVI-XVIII век.    7 класс. – М.: Просвещение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Данилов А.А.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ая тетрадь. Конец XVI-XVIII век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7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класс. – М.: Просвещение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ttp://ru.wiki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ttp://www.leonidzl.com/forum/viewtopic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Видеофильм “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343 Раскол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” - http://files.tvspas.ru/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05840"/>
            <a:ext cx="8856720" cy="7066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Смутное время в Ро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00360" y="2781000"/>
            <a:ext cx="4555800" cy="39114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пал авторитет патриаршества:                (п. Игнатий короновал Лжедмитрия I на царство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Церкви и монастыри разграблены и сожжены поля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Многие священнослужители уби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4500720" y="1268280"/>
            <a:ext cx="4555800" cy="10688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Д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уховный кризис в общест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Прямая со стрелкой 5"/>
          <p:cNvCxnSpPr/>
          <p:nvPr/>
        </p:nvCxnSpPr>
        <p:spPr>
          <a:xfrm>
            <a:off x="6617880" y="2349360"/>
            <a:ext cx="1080" cy="49608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8" name="Прямая со стрелкой 6"/>
          <p:cNvCxnSpPr/>
          <p:nvPr/>
        </p:nvCxnSpPr>
        <p:spPr>
          <a:xfrm>
            <a:off x="6627600" y="765000"/>
            <a:ext cx="1476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49" name="Picture 10" descr="http://assets1.lookatme.ru/assets/article_image-image/dd/b0/2446749/article_image-image-article.ba044c69-f763-4a9f-8b86-eeef05149deb.jpg"/>
          <p:cNvPicPr/>
          <p:nvPr/>
        </p:nvPicPr>
        <p:blipFill>
          <a:blip r:embed="rId1"/>
          <a:stretch/>
        </p:blipFill>
        <p:spPr>
          <a:xfrm>
            <a:off x="179280" y="1268280"/>
            <a:ext cx="4160880" cy="48103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0" name="Прямоугольник 10"/>
          <p:cNvSpPr/>
          <p:nvPr/>
        </p:nvSpPr>
        <p:spPr>
          <a:xfrm>
            <a:off x="81000" y="6157800"/>
            <a:ext cx="39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енчание на цар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арины Мни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4572000" y="260280"/>
            <a:ext cx="4467240" cy="6408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1619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Возвращение митрополита Филарета из польского пл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Избрание Филарета патриархом на церковном собо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крепил авторитет и власть царя Михаила Федорови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Увеличил роль и значение церкви в жизни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2120" y="404640"/>
            <a:ext cx="4211640" cy="56167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3" name="Прямоугольник 5"/>
          <p:cNvSpPr/>
          <p:nvPr/>
        </p:nvSpPr>
        <p:spPr>
          <a:xfrm>
            <a:off x="222120" y="620712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атриарх Филар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0840" y="189000"/>
            <a:ext cx="2549520" cy="34052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5" name="Прямоугольник 4"/>
          <p:cNvSpPr/>
          <p:nvPr/>
        </p:nvSpPr>
        <p:spPr>
          <a:xfrm>
            <a:off x="150840" y="3022560"/>
            <a:ext cx="25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атриарх Никон (1652-16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2916360" y="189000"/>
            <a:ext cx="6048360" cy="1368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1652 г. – избрание Никона новым патрирхом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p2.patriarchia.ru/2011/03/04/1233367412/1.jpg"/>
          <p:cNvPicPr/>
          <p:nvPr/>
        </p:nvPicPr>
        <p:blipFill>
          <a:blip r:embed="rId2"/>
          <a:stretch/>
        </p:blipFill>
        <p:spPr>
          <a:xfrm>
            <a:off x="4643280" y="3824280"/>
            <a:ext cx="4330800" cy="288936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8" name="Прямоугольник 4"/>
          <p:cNvSpPr/>
          <p:nvPr/>
        </p:nvSpPr>
        <p:spPr>
          <a:xfrm>
            <a:off x="2890800" y="2205000"/>
            <a:ext cx="6066000" cy="1368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1656 г. – основание Новоиерусалиского монастыря под Моск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File:Novoierusalimsky monastyr 1.jpg"/>
          <p:cNvPicPr/>
          <p:nvPr/>
        </p:nvPicPr>
        <p:blipFill>
          <a:blip r:embed="rId3"/>
          <a:stretch/>
        </p:blipFill>
        <p:spPr>
          <a:xfrm>
            <a:off x="162000" y="3860640"/>
            <a:ext cx="3989160" cy="28530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Главный вопрос церкви в XVII веке – обновление церковных книг и обряд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9280" y="1599840"/>
            <a:ext cx="8856720" cy="22604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русских церковных книгах накопилось много ошиб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В церковной службе был обычай многоголос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Крестились двумя пальц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836640" y="4149720"/>
            <a:ext cx="7632720" cy="57456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Как исправлять? Каким образцам след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260280" y="5013360"/>
            <a:ext cx="4176720" cy="6476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Древнерусским образ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4724280" y="5013360"/>
            <a:ext cx="4105440" cy="6476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Греческим образ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7"/>
          <p:cNvCxnSpPr/>
          <p:nvPr/>
        </p:nvCxnSpPr>
        <p:spPr>
          <a:xfrm flipH="1">
            <a:off x="3284640" y="4723920"/>
            <a:ext cx="576360" cy="2894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6" name="Прямая со стрелкой 9"/>
          <p:cNvCxnSpPr/>
          <p:nvPr/>
        </p:nvCxnSpPr>
        <p:spPr>
          <a:xfrm>
            <a:off x="5157720" y="4723920"/>
            <a:ext cx="720000" cy="2894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7" name="Прямоугольник 12"/>
          <p:cNvSpPr/>
          <p:nvPr/>
        </p:nvSpPr>
        <p:spPr>
          <a:xfrm>
            <a:off x="250920" y="6237360"/>
            <a:ext cx="8569080" cy="504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Ц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арь Алексей Михайлович и патриарх Ни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верх 13"/>
          <p:cNvSpPr/>
          <p:nvPr/>
        </p:nvSpPr>
        <p:spPr>
          <a:xfrm>
            <a:off x="6647040" y="5661000"/>
            <a:ext cx="260280" cy="576360"/>
          </a:xfrm>
          <a:prstGeom prst="upArrow">
            <a:avLst>
              <a:gd name="adj1" fmla="val 50000"/>
              <a:gd name="adj2" fmla="val 50018"/>
            </a:avLst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4067280" y="5805360"/>
            <a:ext cx="865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9280" y="4005000"/>
            <a:ext cx="8785440" cy="26924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осмотрите видеофильм и ответьте на 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ичины церковной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к готовили рефор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М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ероприятия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езультаты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удьба патриарха Ник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патриарха Нико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343 Раскол.avi" descr=""/>
          <p:cNvPicPr/>
          <p:nvPr/>
        </p:nvPicPr>
        <p:blipFill>
          <a:blip r:embed="rId1"/>
          <a:stretch/>
        </p:blipFill>
        <p:spPr>
          <a:xfrm>
            <a:off x="2340000" y="1366920"/>
            <a:ext cx="416556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4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http://chron.eduhmao.ru/img_7_12_0_4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3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Церковный Собор 1654 год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Патриарх Никон представляет новые богослужебные тексты) А. Д. Кившенко, 1880 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патриарха Нико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8000" y="836280"/>
            <a:ext cx="8928000" cy="34131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ещение тремя пальц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оясные поклоны вместо зем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справление по греческим образцам икон и церковных книг (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тары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уничтож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ить)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Е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диногласие во время церковной служб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«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ллилуйя» во время богослужения произносить трижд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не дважд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Крестные ходы против солнца, а не навстреч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79280" y="4444920"/>
            <a:ext cx="1725840" cy="23036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0" name="Прямоугольник 3"/>
          <p:cNvSpPr/>
          <p:nvPr/>
        </p:nvSpPr>
        <p:spPr>
          <a:xfrm>
            <a:off x="2124000" y="4724280"/>
            <a:ext cx="6912000" cy="19749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4 го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– церковный собор одобрил реформу, но предложил провести действующие обряды в соответствии не только с греческой, но и с русской тради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Прямая со стрелкой 6"/>
          <p:cNvCxnSpPr>
            <a:stCxn id="78" idx="2"/>
          </p:cNvCxnSpPr>
          <p:nvPr/>
        </p:nvCxnSpPr>
        <p:spPr>
          <a:xfrm>
            <a:off x="4571640" y="4249800"/>
            <a:ext cx="1080" cy="475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4716360" y="115920"/>
            <a:ext cx="4295880" cy="65530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Народное недово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азмолвка царя и патриарх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Никон предложил Алексею Михайловичу разделить с ним власть по примеру царя Михаила Федоровича и патриарха Филарета –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“как месяц имеет свет от солнца”, так и царь получает власть от патриарха, представляющего Бога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Царь не согласился с таким предло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108000" y="115920"/>
            <a:ext cx="4427640" cy="11764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патриарха Ник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98280" y="5589720"/>
            <a:ext cx="4437360" cy="1079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1658 го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– Никон удалился в Воскресенский Новоиерусалимский монасты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http://www.peremeny.ru/books/osminog/wp-content/uploads/2009/01/mitrkir2.jpg"/>
          <p:cNvPicPr/>
          <p:nvPr/>
        </p:nvPicPr>
        <p:blipFill>
          <a:blip r:embed="rId1"/>
          <a:stretch/>
        </p:blipFill>
        <p:spPr>
          <a:xfrm>
            <a:off x="324000" y="1479600"/>
            <a:ext cx="3960720" cy="34322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6" name="Прямоугольник 1"/>
          <p:cNvSpPr/>
          <p:nvPr/>
        </p:nvSpPr>
        <p:spPr>
          <a:xfrm>
            <a:off x="52560" y="4911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"Царь Алексей Михайлович и Патриарх Никон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3-10T12:46:15Z</dcterms:modified>
  <cp:revision>25</cp:revision>
  <dc:subject/>
  <dc:title>Презентация PowerPoint</dc:title>
</cp:coreProperties>
</file>